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203-AC89-421F-86EC-EC65463B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87E3-F48A-47EF-A405-83356E7A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F700-D919-4EA9-ACB5-9FF8B49C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1BF-4248-4AB5-80D1-38CA5857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E83-6AA7-420B-BFE0-33171756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608-80F0-47E2-B013-71EF08FA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08D-D9BB-4DD0-9229-838E63F8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C54-E192-496D-847E-CF114011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F6C-11A5-4BC3-ABD3-1AA59B13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308-24F7-4D89-8CE3-4CD2BA03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50BD-5E3F-42A8-AAA8-59B96193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222-7E65-4EE2-AA52-02392DD7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196-82D8-492E-A629-683781B51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447920"/>
            <a:ext cx="6172200" cy="435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tiquet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aut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 &lt; H &l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as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 &lt; B &l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 &lt; S &l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rête de lign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 &lt; C &lt;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i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enc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anc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f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43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8006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1974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59456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8006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1974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59456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104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00600" y="236196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97400" y="236196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594560" y="236196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800600" y="365724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197400" y="365724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94560" y="365724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165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3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8006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1974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59456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006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,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974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,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59456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,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152280" y="304920"/>
            <a:ext cx="8838720" cy="5412600"/>
            <a:chOff x="152280" y="304920"/>
            <a:chExt cx="8838720" cy="5412600"/>
          </a:xfrm>
        </p:grpSpPr>
        <p:grpSp>
          <p:nvGrpSpPr>
            <p:cNvPr id="226" name=""/>
            <p:cNvGrpSpPr/>
            <p:nvPr/>
          </p:nvGrpSpPr>
          <p:grpSpPr>
            <a:xfrm>
              <a:off x="152280" y="990720"/>
              <a:ext cx="4342680" cy="3885840"/>
              <a:chOff x="152280" y="990720"/>
              <a:chExt cx="4342680" cy="388584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152280" y="990720"/>
                <a:ext cx="1447200" cy="1295280"/>
                <a:chOff x="152280" y="990720"/>
                <a:chExt cx="1447200" cy="12952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15228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15228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599840" y="990720"/>
                <a:ext cx="1447200" cy="1295280"/>
                <a:chOff x="1599840" y="990720"/>
                <a:chExt cx="1447200" cy="12952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59984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59984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047760" y="990720"/>
                <a:ext cx="1447200" cy="1295280"/>
                <a:chOff x="3047760" y="990720"/>
                <a:chExt cx="1447200" cy="12952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047760" y="99072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047760" y="106668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C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52280" y="2286000"/>
                <a:ext cx="1447200" cy="1295280"/>
                <a:chOff x="152280" y="2286000"/>
                <a:chExt cx="1447200" cy="12952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5228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228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599840" y="2286000"/>
                <a:ext cx="1447200" cy="1295280"/>
                <a:chOff x="1599840" y="2286000"/>
                <a:chExt cx="1447200" cy="129528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59984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59984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047760" y="2286000"/>
                <a:ext cx="1447200" cy="1295280"/>
                <a:chOff x="3047760" y="2286000"/>
                <a:chExt cx="1447200" cy="1295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047760" y="228600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047760" y="236196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152280" y="3581280"/>
                <a:ext cx="1447200" cy="1295280"/>
                <a:chOff x="152280" y="3581280"/>
                <a:chExt cx="1447200" cy="129528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15228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5228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599840" y="3581280"/>
                <a:ext cx="1447200" cy="1295280"/>
                <a:chOff x="1599840" y="3581280"/>
                <a:chExt cx="1447200" cy="129528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59984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9984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047760" y="3581280"/>
                <a:ext cx="1447200" cy="1295280"/>
                <a:chOff x="3047760" y="3581280"/>
                <a:chExt cx="1447200" cy="1295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47760" y="3581280"/>
                  <a:ext cx="144720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047760" y="3657240"/>
                  <a:ext cx="130608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S,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4" name=""/>
            <p:cNvGrpSpPr/>
            <p:nvPr/>
          </p:nvGrpSpPr>
          <p:grpSpPr>
            <a:xfrm>
              <a:off x="4800600" y="990720"/>
              <a:ext cx="4190400" cy="3885840"/>
              <a:chOff x="4800600" y="990720"/>
              <a:chExt cx="4190400" cy="3885840"/>
            </a:xfrm>
          </p:grpSpPr>
          <p:grpSp>
            <p:nvGrpSpPr>
              <p:cNvPr id="255" name=""/>
              <p:cNvGrpSpPr/>
              <p:nvPr/>
            </p:nvGrpSpPr>
            <p:grpSpPr>
              <a:xfrm>
                <a:off x="4800600" y="990720"/>
                <a:ext cx="1396440" cy="1295280"/>
                <a:chOff x="4800600" y="990720"/>
                <a:chExt cx="1396440" cy="1295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8006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8006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197400" y="990720"/>
                <a:ext cx="1396440" cy="1295280"/>
                <a:chOff x="6197400" y="990720"/>
                <a:chExt cx="1396440" cy="1295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19740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19740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7594560" y="990720"/>
                <a:ext cx="1396440" cy="1295280"/>
                <a:chOff x="7594560" y="990720"/>
                <a:chExt cx="1396440" cy="1295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7594560" y="99072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594560" y="1066680"/>
                  <a:ext cx="1258560" cy="101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4800600" y="2286000"/>
                <a:ext cx="1396440" cy="1295280"/>
                <a:chOff x="4800600" y="2286000"/>
                <a:chExt cx="1396440" cy="1295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8006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006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197400" y="2286000"/>
                <a:ext cx="1396440" cy="1295280"/>
                <a:chOff x="6197400" y="2286000"/>
                <a:chExt cx="1396440" cy="1295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19740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9740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594560" y="2286000"/>
                <a:ext cx="1396440" cy="1295280"/>
                <a:chOff x="7594560" y="2286000"/>
                <a:chExt cx="1396440" cy="1295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594560" y="228600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594560" y="236196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800600" y="3581280"/>
                <a:ext cx="1396440" cy="1295280"/>
                <a:chOff x="4800600" y="3581280"/>
                <a:chExt cx="1396440" cy="1295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8006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8006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197400" y="3581280"/>
                <a:ext cx="1396440" cy="1295280"/>
                <a:chOff x="6197400" y="3581280"/>
                <a:chExt cx="1396440" cy="1295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19740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19740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594560" y="3581280"/>
                <a:ext cx="1396440" cy="1295280"/>
                <a:chOff x="7594560" y="3581280"/>
                <a:chExt cx="1396440" cy="12952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594560" y="3581280"/>
                  <a:ext cx="1396440" cy="129528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594560" y="3657240"/>
                  <a:ext cx="1258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imes New Roman"/>
                    </a:rPr>
                    <a:t>H,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2" name=""/>
            <p:cNvSpPr/>
            <p:nvPr/>
          </p:nvSpPr>
          <p:spPr>
            <a:xfrm>
              <a:off x="4648320" y="304920"/>
              <a:ext cx="0" cy="495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28800" y="38088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24480" y="380880"/>
              <a:ext cx="106704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14800" y="5257800"/>
              <a:ext cx="1066680" cy="459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3733920" y="2590560"/>
            <a:ext cx="75960" cy="76320"/>
            <a:chOff x="3733920" y="2590560"/>
            <a:chExt cx="75960" cy="76320"/>
          </a:xfrm>
        </p:grpSpPr>
        <p:sp>
          <p:nvSpPr>
            <p:cNvPr id="287" name=""/>
            <p:cNvSpPr/>
            <p:nvPr/>
          </p:nvSpPr>
          <p:spPr>
            <a:xfrm>
              <a:off x="3733920" y="2590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733920" y="25905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895480" y="2361960"/>
            <a:ext cx="76320" cy="76320"/>
            <a:chOff x="2895480" y="2361960"/>
            <a:chExt cx="76320" cy="76320"/>
          </a:xfrm>
        </p:grpSpPr>
        <p:sp>
          <p:nvSpPr>
            <p:cNvPr id="290" name=""/>
            <p:cNvSpPr/>
            <p:nvPr/>
          </p:nvSpPr>
          <p:spPr>
            <a:xfrm>
              <a:off x="289548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89548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590920" y="2819160"/>
            <a:ext cx="75960" cy="76320"/>
            <a:chOff x="2590920" y="2819160"/>
            <a:chExt cx="75960" cy="76320"/>
          </a:xfrm>
        </p:grpSpPr>
        <p:sp>
          <p:nvSpPr>
            <p:cNvPr id="293" name=""/>
            <p:cNvSpPr/>
            <p:nvPr/>
          </p:nvSpPr>
          <p:spPr>
            <a:xfrm>
              <a:off x="259092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59092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429000" y="2209680"/>
            <a:ext cx="76320" cy="76320"/>
            <a:chOff x="3429000" y="2209680"/>
            <a:chExt cx="76320" cy="76320"/>
          </a:xfrm>
        </p:grpSpPr>
        <p:sp>
          <p:nvSpPr>
            <p:cNvPr id="296" name=""/>
            <p:cNvSpPr/>
            <p:nvPr/>
          </p:nvSpPr>
          <p:spPr>
            <a:xfrm>
              <a:off x="3429000" y="22096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429000" y="22096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114800" y="3124080"/>
            <a:ext cx="76320" cy="76320"/>
            <a:chOff x="4114800" y="3124080"/>
            <a:chExt cx="76320" cy="76320"/>
          </a:xfrm>
        </p:grpSpPr>
        <p:sp>
          <p:nvSpPr>
            <p:cNvPr id="299" name=""/>
            <p:cNvSpPr/>
            <p:nvPr/>
          </p:nvSpPr>
          <p:spPr>
            <a:xfrm>
              <a:off x="4114800" y="31240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114800" y="3124080"/>
              <a:ext cx="763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276720" y="3276360"/>
            <a:ext cx="75960" cy="76320"/>
            <a:chOff x="3276720" y="3276360"/>
            <a:chExt cx="75960" cy="76320"/>
          </a:xfrm>
        </p:grpSpPr>
        <p:sp>
          <p:nvSpPr>
            <p:cNvPr id="302" name=""/>
            <p:cNvSpPr/>
            <p:nvPr/>
          </p:nvSpPr>
          <p:spPr>
            <a:xfrm>
              <a:off x="3276720" y="3276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276720" y="32763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733920" y="2133360"/>
            <a:ext cx="75960" cy="76320"/>
            <a:chOff x="3733920" y="2133360"/>
            <a:chExt cx="75960" cy="76320"/>
          </a:xfrm>
        </p:grpSpPr>
        <p:sp>
          <p:nvSpPr>
            <p:cNvPr id="305" name=""/>
            <p:cNvSpPr/>
            <p:nvPr/>
          </p:nvSpPr>
          <p:spPr>
            <a:xfrm>
              <a:off x="3733920" y="2133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733920" y="21333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91120" y="2209680"/>
            <a:ext cx="75960" cy="76320"/>
            <a:chOff x="4191120" y="2209680"/>
            <a:chExt cx="75960" cy="76320"/>
          </a:xfrm>
        </p:grpSpPr>
        <p:sp>
          <p:nvSpPr>
            <p:cNvPr id="308" name=""/>
            <p:cNvSpPr/>
            <p:nvPr/>
          </p:nvSpPr>
          <p:spPr>
            <a:xfrm>
              <a:off x="4191120" y="2209680"/>
              <a:ext cx="75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191120" y="2209680"/>
              <a:ext cx="759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514600" y="2742840"/>
            <a:ext cx="1676520" cy="1219320"/>
            <a:chOff x="2514600" y="2742840"/>
            <a:chExt cx="1676520" cy="1219320"/>
          </a:xfrm>
        </p:grpSpPr>
        <p:grpSp>
          <p:nvGrpSpPr>
            <p:cNvPr id="311" name=""/>
            <p:cNvGrpSpPr/>
            <p:nvPr/>
          </p:nvGrpSpPr>
          <p:grpSpPr>
            <a:xfrm>
              <a:off x="3505320" y="3276360"/>
              <a:ext cx="75960" cy="76320"/>
              <a:chOff x="3505320" y="3276360"/>
              <a:chExt cx="75960" cy="7632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3505320" y="327636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5320" y="327636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19520" y="3657240"/>
              <a:ext cx="75960" cy="76320"/>
              <a:chOff x="2819520" y="3657240"/>
              <a:chExt cx="75960" cy="7632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2819520" y="365724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657240"/>
                <a:ext cx="7596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600" y="3200040"/>
              <a:ext cx="76320" cy="76320"/>
              <a:chOff x="2514600" y="3200040"/>
              <a:chExt cx="76320" cy="76320"/>
            </a:xfrm>
          </p:grpSpPr>
          <p:sp>
            <p:nvSpPr>
              <p:cNvPr id="318" name=""/>
              <p:cNvSpPr/>
              <p:nvPr/>
            </p:nvSpPr>
            <p:spPr>
              <a:xfrm flipV="1">
                <a:off x="2514600" y="32000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14600" y="32000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3352680" y="3809880"/>
              <a:ext cx="76320" cy="76320"/>
              <a:chOff x="3352680" y="3809880"/>
              <a:chExt cx="76320" cy="7632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3352680" y="380988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352680" y="381024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038480" y="2895480"/>
              <a:ext cx="76320" cy="76320"/>
              <a:chOff x="4038480" y="2895480"/>
              <a:chExt cx="76320" cy="76320"/>
            </a:xfrm>
          </p:grpSpPr>
          <p:sp>
            <p:nvSpPr>
              <p:cNvPr id="324" name=""/>
              <p:cNvSpPr/>
              <p:nvPr/>
            </p:nvSpPr>
            <p:spPr>
              <a:xfrm flipV="1">
                <a:off x="4038480" y="289548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38480" y="289584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3200400" y="2742840"/>
              <a:ext cx="76320" cy="76320"/>
              <a:chOff x="3200400" y="2742840"/>
              <a:chExt cx="76320" cy="76320"/>
            </a:xfrm>
          </p:grpSpPr>
          <p:sp>
            <p:nvSpPr>
              <p:cNvPr id="327" name=""/>
              <p:cNvSpPr/>
              <p:nvPr/>
            </p:nvSpPr>
            <p:spPr>
              <a:xfrm flipV="1">
                <a:off x="3200400" y="2742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200400" y="2742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657600" y="3885840"/>
              <a:ext cx="76320" cy="76320"/>
              <a:chOff x="3657600" y="3885840"/>
              <a:chExt cx="76320" cy="76320"/>
            </a:xfrm>
          </p:grpSpPr>
          <p:sp>
            <p:nvSpPr>
              <p:cNvPr id="330" name=""/>
              <p:cNvSpPr/>
              <p:nvPr/>
            </p:nvSpPr>
            <p:spPr>
              <a:xfrm flipV="1">
                <a:off x="3657600" y="3885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57600" y="3885840"/>
                <a:ext cx="7632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114800" y="3809880"/>
              <a:ext cx="76320" cy="76320"/>
              <a:chOff x="4114800" y="3809880"/>
              <a:chExt cx="76320" cy="76320"/>
            </a:xfrm>
          </p:grpSpPr>
          <p:sp>
            <p:nvSpPr>
              <p:cNvPr id="333" name=""/>
              <p:cNvSpPr/>
              <p:nvPr/>
            </p:nvSpPr>
            <p:spPr>
              <a:xfrm flipV="1">
                <a:off x="4114800" y="380988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14800" y="3810240"/>
                <a:ext cx="7632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" name=""/>
          <p:cNvGrpSpPr/>
          <p:nvPr/>
        </p:nvGrpSpPr>
        <p:grpSpPr>
          <a:xfrm>
            <a:off x="3962880" y="1752120"/>
            <a:ext cx="1980360" cy="1219320"/>
            <a:chOff x="3962880" y="1752120"/>
            <a:chExt cx="1980360" cy="1219320"/>
          </a:xfrm>
        </p:grpSpPr>
        <p:grpSp>
          <p:nvGrpSpPr>
            <p:cNvPr id="336" name=""/>
            <p:cNvGrpSpPr/>
            <p:nvPr/>
          </p:nvGrpSpPr>
          <p:grpSpPr>
            <a:xfrm>
              <a:off x="4683240" y="2361960"/>
              <a:ext cx="89640" cy="76320"/>
              <a:chOff x="4683240" y="2361960"/>
              <a:chExt cx="89640" cy="76320"/>
            </a:xfrm>
          </p:grpSpPr>
          <p:sp>
            <p:nvSpPr>
              <p:cNvPr id="337" name=""/>
              <p:cNvSpPr/>
              <p:nvPr/>
            </p:nvSpPr>
            <p:spPr>
              <a:xfrm flipH="1">
                <a:off x="4683240" y="236196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flipV="1">
                <a:off x="4683240" y="236196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5493600" y="1980720"/>
              <a:ext cx="89640" cy="76320"/>
              <a:chOff x="5493600" y="1980720"/>
              <a:chExt cx="89640" cy="763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5493600" y="19810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5493600" y="19807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853600" y="2437920"/>
              <a:ext cx="89640" cy="76320"/>
              <a:chOff x="5853600" y="2437920"/>
              <a:chExt cx="89640" cy="76320"/>
            </a:xfrm>
          </p:grpSpPr>
          <p:sp>
            <p:nvSpPr>
              <p:cNvPr id="343" name=""/>
              <p:cNvSpPr/>
              <p:nvPr/>
            </p:nvSpPr>
            <p:spPr>
              <a:xfrm flipH="1">
                <a:off x="5853600" y="24382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5853600" y="24379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4863240" y="1828440"/>
              <a:ext cx="89280" cy="76320"/>
              <a:chOff x="4863240" y="1828440"/>
              <a:chExt cx="89280" cy="763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4863240" y="18284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4863240" y="18284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4053240" y="2742840"/>
              <a:ext cx="89280" cy="76320"/>
              <a:chOff x="4053240" y="2742840"/>
              <a:chExt cx="89280" cy="7632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4053240" y="27428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4053240" y="2742840"/>
                <a:ext cx="8928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043600" y="2895120"/>
              <a:ext cx="89640" cy="76320"/>
              <a:chOff x="5043600" y="2895120"/>
              <a:chExt cx="89640" cy="7632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5043600" y="28954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flipV="1">
                <a:off x="5043600" y="28951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4503240" y="1752120"/>
              <a:ext cx="89640" cy="76320"/>
              <a:chOff x="4503240" y="1752120"/>
              <a:chExt cx="89640" cy="76320"/>
            </a:xfrm>
          </p:grpSpPr>
          <p:sp>
            <p:nvSpPr>
              <p:cNvPr id="355" name=""/>
              <p:cNvSpPr/>
              <p:nvPr/>
            </p:nvSpPr>
            <p:spPr>
              <a:xfrm flipH="1">
                <a:off x="4503240" y="175248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4503240" y="1752120"/>
                <a:ext cx="89640" cy="75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62880" y="1828440"/>
              <a:ext cx="89640" cy="76320"/>
              <a:chOff x="3962880" y="1828440"/>
              <a:chExt cx="89640" cy="7632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3962880" y="182844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3962880" y="1828440"/>
                <a:ext cx="89640" cy="76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0" name=""/>
          <p:cNvSpPr/>
          <p:nvPr/>
        </p:nvSpPr>
        <p:spPr>
          <a:xfrm flipV="1">
            <a:off x="2057400" y="1523520"/>
            <a:ext cx="3809880" cy="259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200040" y="2742840"/>
            <a:ext cx="27612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3429000" y="2209680"/>
            <a:ext cx="40968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57600" y="30481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17:48:47Z</dcterms:created>
  <dc:creator>dupre</dc:creator>
  <dc:description/>
  <dc:language>en-US</dc:language>
  <cp:lastModifiedBy>dupre</cp:lastModifiedBy>
  <dcterms:modified xsi:type="dcterms:W3CDTF">2002-03-19T13:26:53Z</dcterms:modified>
  <cp:revision>4</cp:revision>
  <dc:subject/>
  <dc:title>PowerPoint Presentation</dc:title>
</cp:coreProperties>
</file>