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4D2-D19D-4743-A9CC-CE493087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C61-FA25-4C44-B695-AF5F6CF7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3A2-563B-486D-BC84-1769B5FF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1C8-1D31-4D8A-A6E5-87533832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EBE-E435-41C7-BE66-9969FA00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44E-1A6F-4DC5-8E16-3C276C60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6A2-8E8B-4C93-8FC9-1F59B6DF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830-26A6-4F6E-B1B1-4A559826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8719-1C2B-4FCA-800A-6A540504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D0C-BC07-4139-BD47-98B01F0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8A1-2CC6-4D69-B11E-1FE90EEC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7D1-CD64-4B7E-A993-0E00080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5984-5FDF-4B10-B8DC-A3CE6E833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71800" y="2209680"/>
            <a:ext cx="2590920" cy="1983600"/>
            <a:chOff x="2971800" y="2209680"/>
            <a:chExt cx="2590920" cy="1983600"/>
          </a:xfrm>
        </p:grpSpPr>
        <p:grpSp>
          <p:nvGrpSpPr>
            <p:cNvPr id="42" name=""/>
            <p:cNvGrpSpPr/>
            <p:nvPr/>
          </p:nvGrpSpPr>
          <p:grpSpPr>
            <a:xfrm>
              <a:off x="2971800" y="2209680"/>
              <a:ext cx="2590920" cy="1905120"/>
              <a:chOff x="2971800" y="2209680"/>
              <a:chExt cx="2590920" cy="1905120"/>
            </a:xfrm>
          </p:grpSpPr>
          <p:sp>
            <p:nvSpPr>
              <p:cNvPr id="43" name=""/>
              <p:cNvSpPr/>
              <p:nvPr/>
            </p:nvSpPr>
            <p:spPr>
              <a:xfrm>
                <a:off x="4648320" y="2819520"/>
                <a:ext cx="914400" cy="8380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105520" y="2819520"/>
                <a:ext cx="0" cy="83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724280" y="312408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181480" y="31240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flipV="1">
                <a:off x="3429000" y="2438280"/>
                <a:ext cx="1295280" cy="53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>
                <a:off x="3428640" y="3200400"/>
                <a:ext cx="121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3429000" y="3505320"/>
                <a:ext cx="129528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3428640" y="3352680"/>
                <a:ext cx="12193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>
                <a:off x="3428640" y="2895480"/>
                <a:ext cx="121932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2971800" y="3657600"/>
                <a:ext cx="457200" cy="457200"/>
                <a:chOff x="2971800" y="3657600"/>
                <a:chExt cx="457200" cy="45720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971800" y="365760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047760" y="373392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9718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48120" y="30481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2971800" y="2209680"/>
                <a:ext cx="457200" cy="457200"/>
                <a:chOff x="2971800" y="2209680"/>
                <a:chExt cx="457200" cy="45720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971800" y="2209680"/>
                  <a:ext cx="45720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047760" y="2286000"/>
                  <a:ext cx="3812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0" name=""/>
            <p:cNvSpPr/>
            <p:nvPr/>
          </p:nvSpPr>
          <p:spPr>
            <a:xfrm>
              <a:off x="3810240" y="365760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10240" y="3124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10240" y="23623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3240" y="3505320"/>
              <a:ext cx="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886200"/>
              <a:ext cx="3812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grpSp>
          <p:nvGrpSpPr>
            <p:cNvPr id="66" name=""/>
            <p:cNvGrpSpPr/>
            <p:nvPr/>
          </p:nvGrpSpPr>
          <p:grpSpPr>
            <a:xfrm>
              <a:off x="2514600" y="1600200"/>
              <a:ext cx="3581280" cy="2514600"/>
              <a:chOff x="2514600" y="1600200"/>
              <a:chExt cx="3581280" cy="2514600"/>
            </a:xfrm>
          </p:grpSpPr>
          <p:sp>
            <p:nvSpPr>
              <p:cNvPr id="67" name=""/>
              <p:cNvSpPr/>
              <p:nvPr/>
            </p:nvSpPr>
            <p:spPr>
              <a:xfrm>
                <a:off x="403848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03848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03848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514600" y="1600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514600" y="2590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14600" y="3581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62720" y="16002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62720" y="2590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2720" y="35812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3047760" y="1828440"/>
                <a:ext cx="990720" cy="2057760"/>
                <a:chOff x="3047760" y="1828440"/>
                <a:chExt cx="990720" cy="2057760"/>
              </a:xfrm>
            </p:grpSpPr>
            <p:sp>
              <p:nvSpPr>
                <p:cNvPr id="77" name=""/>
                <p:cNvSpPr/>
                <p:nvPr/>
              </p:nvSpPr>
              <p:spPr>
                <a:xfrm flipH="1">
                  <a:off x="3047760" y="190476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048120" y="18288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048120" y="182880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048120" y="388620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3048120" y="281916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3048120" y="289548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048120" y="281916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048120" y="190476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flipV="1">
                  <a:off x="3048120" y="182844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572000" y="1828440"/>
                <a:ext cx="990720" cy="2057760"/>
                <a:chOff x="4572000" y="1828440"/>
                <a:chExt cx="990720" cy="205776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4572000" y="190476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572000" y="18288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72000" y="182880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72000" y="388620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72000" y="281916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4572000" y="289548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572000" y="281916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2000" y="190476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V="1">
                  <a:off x="4572000" y="182844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4800" y="36576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384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14600" y="1600200"/>
            <a:ext cx="3809880" cy="2514600"/>
            <a:chOff x="2514600" y="1600200"/>
            <a:chExt cx="3809880" cy="2514600"/>
          </a:xfrm>
        </p:grpSpPr>
        <p:sp>
          <p:nvSpPr>
            <p:cNvPr id="106" name=""/>
            <p:cNvSpPr/>
            <p:nvPr/>
          </p:nvSpPr>
          <p:spPr>
            <a:xfrm>
              <a:off x="4038480" y="21337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038480" y="2895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259092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3581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62720" y="160020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720" y="25909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3581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047760" y="2362320"/>
              <a:ext cx="99036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8120" y="1828800"/>
              <a:ext cx="99036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1828800"/>
              <a:ext cx="99036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048120" y="3200040"/>
              <a:ext cx="9903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572000" y="1905120"/>
              <a:ext cx="99072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572000" y="1828800"/>
              <a:ext cx="99072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2362320"/>
              <a:ext cx="99072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200400"/>
              <a:ext cx="99072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0920" y="17524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0920" y="2743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37339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2971800"/>
              <a:ext cx="609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2096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16765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8680" y="26668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38680" y="36576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819520"/>
              <a:ext cx="9903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048120" y="2362320"/>
              <a:ext cx="99036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572000" y="2819520"/>
              <a:ext cx="99072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4572000" y="2362320"/>
              <a:ext cx="9907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2438280" y="533520"/>
            <a:ext cx="3810240" cy="2514600"/>
            <a:chOff x="2438280" y="533520"/>
            <a:chExt cx="3810240" cy="2514600"/>
          </a:xfrm>
        </p:grpSpPr>
        <p:grpSp>
          <p:nvGrpSpPr>
            <p:cNvPr id="135" name=""/>
            <p:cNvGrpSpPr/>
            <p:nvPr/>
          </p:nvGrpSpPr>
          <p:grpSpPr>
            <a:xfrm>
              <a:off x="2438280" y="533520"/>
              <a:ext cx="3581280" cy="2514600"/>
              <a:chOff x="2438280" y="533520"/>
              <a:chExt cx="3581280" cy="2514600"/>
            </a:xfrm>
          </p:grpSpPr>
          <p:sp>
            <p:nvSpPr>
              <p:cNvPr id="136" name=""/>
              <p:cNvSpPr/>
              <p:nvPr/>
            </p:nvSpPr>
            <p:spPr>
              <a:xfrm>
                <a:off x="396216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6216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16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53352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38280" y="152424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438280" y="2514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6400" y="53352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1524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86400" y="2514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2971440" y="761760"/>
                <a:ext cx="990720" cy="2057760"/>
                <a:chOff x="2971440" y="761760"/>
                <a:chExt cx="990720" cy="205776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2971440" y="838080"/>
                  <a:ext cx="99036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971800" y="7621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971800" y="762120"/>
                  <a:ext cx="99036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971800" y="281952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971800" y="1752480"/>
                  <a:ext cx="99036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2971800" y="1828800"/>
                  <a:ext cx="99036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971800" y="1752480"/>
                  <a:ext cx="99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971800" y="838080"/>
                  <a:ext cx="99036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971800" y="761760"/>
                  <a:ext cx="99036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495680" y="761760"/>
                <a:ext cx="990720" cy="2057760"/>
                <a:chOff x="4495680" y="761760"/>
                <a:chExt cx="990720" cy="2057760"/>
              </a:xfrm>
            </p:grpSpPr>
            <p:sp>
              <p:nvSpPr>
                <p:cNvPr id="156" name=""/>
                <p:cNvSpPr/>
                <p:nvPr/>
              </p:nvSpPr>
              <p:spPr>
                <a:xfrm flipH="1">
                  <a:off x="4495680" y="838080"/>
                  <a:ext cx="99072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95680" y="7621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495680" y="762120"/>
                  <a:ext cx="990720" cy="198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495680" y="281952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495680" y="1752480"/>
                  <a:ext cx="99072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4495680" y="1828800"/>
                  <a:ext cx="990720" cy="99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95680" y="1752480"/>
                  <a:ext cx="990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495680" y="838080"/>
                  <a:ext cx="990720" cy="9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4495680" y="761760"/>
                  <a:ext cx="990720" cy="99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2514600" y="6858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14600" y="167652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2666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38480" y="2590920"/>
              <a:ext cx="609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625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86400" y="60948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720" y="160020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62720" y="2590920"/>
              <a:ext cx="6858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,N</a:t>
              </a:r>
              <a:r>
                <a:rPr b="0" lang="en-US" sz="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4" name=""/>
          <p:cNvGraphicFramePr/>
          <p:nvPr/>
        </p:nvGraphicFramePr>
        <p:xfrm>
          <a:off x="6858000" y="1143000"/>
          <a:ext cx="1752480" cy="16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1143000"/>
                    <a:ext cx="175248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65760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304920"/>
            <a:ext cx="1143000" cy="29718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895480" y="3886200"/>
          <a:ext cx="2743200" cy="149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886200"/>
                    <a:ext cx="27432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191120" y="3276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19810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4290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sfert, couche cach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5065200" y="18640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fonction de tranfert, couche de 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38080" y="2666880"/>
            <a:ext cx="14479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4" idx="0"/>
            <a:endCxn id="186" idx="3"/>
          </p:cNvCxnSpPr>
          <p:nvPr/>
        </p:nvCxnSpPr>
        <p:spPr>
          <a:xfrm flipV="1">
            <a:off x="1561680" y="2114280"/>
            <a:ext cx="53748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37339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d&lt;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05720" y="2666880"/>
            <a:ext cx="144756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e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762120"/>
            <a:ext cx="2133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mière couche du réseau diabolo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rojection (ou compr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2362320" cy="1752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6" idx="5"/>
            <a:endCxn id="187" idx="0"/>
          </p:cNvCxnSpPr>
          <p:nvPr/>
        </p:nvCxnSpPr>
        <p:spPr>
          <a:xfrm>
            <a:off x="3768840" y="2114640"/>
            <a:ext cx="689760" cy="552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876920" y="838080"/>
            <a:ext cx="2133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conde couche du réseau diabolo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econstit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685800"/>
            <a:ext cx="2362320" cy="1371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92" idx="5"/>
            <a:endCxn id="188" idx="0"/>
          </p:cNvCxnSpPr>
          <p:nvPr/>
        </p:nvCxnSpPr>
        <p:spPr>
          <a:xfrm>
            <a:off x="6740640" y="1864800"/>
            <a:ext cx="68976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0"/>
            <a:endCxn id="192" idx="3"/>
          </p:cNvCxnSpPr>
          <p:nvPr/>
        </p:nvCxnSpPr>
        <p:spPr>
          <a:xfrm flipV="1">
            <a:off x="4457880" y="1864440"/>
            <a:ext cx="61344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429000" y="6172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990720" y="1143000"/>
            <a:ext cx="7391160" cy="5181480"/>
            <a:chOff x="990720" y="1143000"/>
            <a:chExt cx="7391160" cy="5181480"/>
          </a:xfrm>
        </p:grpSpPr>
        <p:grpSp>
          <p:nvGrpSpPr>
            <p:cNvPr id="197" name=""/>
            <p:cNvGrpSpPr/>
            <p:nvPr/>
          </p:nvGrpSpPr>
          <p:grpSpPr>
            <a:xfrm>
              <a:off x="1752480" y="1447920"/>
              <a:ext cx="5486400" cy="2450520"/>
              <a:chOff x="1752480" y="1447920"/>
              <a:chExt cx="5486400" cy="24505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57400" y="2514240"/>
                <a:ext cx="4495680" cy="1384200"/>
              </a:xfrm>
              <a:custGeom>
                <a:avLst/>
                <a:gdLst/>
                <a:ahLst/>
                <a:rect l="l" t="t" r="r" b="b"/>
                <a:pathLst>
                  <a:path w="1824" h="632">
                    <a:moveTo>
                      <a:pt x="0" y="632"/>
                    </a:moveTo>
                    <a:cubicBezTo>
                      <a:pt x="80" y="420"/>
                      <a:pt x="160" y="208"/>
                      <a:pt x="288" y="104"/>
                    </a:cubicBezTo>
                    <a:cubicBezTo>
                      <a:pt x="416" y="0"/>
                      <a:pt x="600" y="0"/>
                      <a:pt x="768" y="8"/>
                    </a:cubicBezTo>
                    <a:cubicBezTo>
                      <a:pt x="936" y="16"/>
                      <a:pt x="1184" y="72"/>
                      <a:pt x="1296" y="152"/>
                    </a:cubicBezTo>
                    <a:cubicBezTo>
                      <a:pt x="1408" y="232"/>
                      <a:pt x="1352" y="416"/>
                      <a:pt x="1440" y="488"/>
                    </a:cubicBezTo>
                    <a:cubicBezTo>
                      <a:pt x="1528" y="560"/>
                      <a:pt x="1676" y="572"/>
                      <a:pt x="1824" y="584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52480" y="3885840"/>
                <a:ext cx="548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53080" y="3809880"/>
                <a:ext cx="533520" cy="75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752480" y="1447920"/>
                <a:ext cx="0" cy="243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086600" y="41148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1143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7400" y="388620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10280" y="3886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61722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0" y="3429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3048120"/>
              <a:ext cx="28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95480" y="26668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4479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37124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79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44792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44756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752480" y="2514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382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30481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5105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4648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3429000"/>
            <a:ext cx="5105520" cy="45720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3048120"/>
            <a:ext cx="327672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2666880"/>
            <a:ext cx="2971800" cy="38124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2286000"/>
            <a:ext cx="2057400" cy="380880"/>
          </a:xfrm>
          <a:custGeom>
            <a:avLst/>
            <a:gdLst/>
            <a:ahLst/>
            <a:rect l="l" t="t" r="r" b="b"/>
            <a:pathLst>
              <a:path w="3216" h="288">
                <a:moveTo>
                  <a:pt x="0" y="288"/>
                </a:moveTo>
                <a:lnTo>
                  <a:pt x="144" y="0"/>
                </a:lnTo>
                <a:lnTo>
                  <a:pt x="3072" y="0"/>
                </a:lnTo>
                <a:lnTo>
                  <a:pt x="3216" y="288"/>
                </a:lnTo>
              </a:path>
            </a:pathLst>
          </a:custGeom>
          <a:solidFill>
            <a:srgbClr val="ccecff">
              <a:alpha val="50000"/>
            </a:srgbClr>
          </a:solidFill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571640" y="1447920"/>
            <a:ext cx="228960" cy="837720"/>
            <a:chOff x="4571640" y="1447920"/>
            <a:chExt cx="228960" cy="837720"/>
          </a:xfrm>
        </p:grpSpPr>
        <p:sp>
          <p:nvSpPr>
            <p:cNvPr id="231" name=""/>
            <p:cNvSpPr/>
            <p:nvPr/>
          </p:nvSpPr>
          <p:spPr>
            <a:xfrm flipV="1">
              <a:off x="4800600" y="1980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4571640" y="17521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57200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876920" y="1447920"/>
            <a:ext cx="228240" cy="1218600"/>
            <a:chOff x="4876920" y="1447920"/>
            <a:chExt cx="228240" cy="1218600"/>
          </a:xfrm>
        </p:grpSpPr>
        <p:sp>
          <p:nvSpPr>
            <p:cNvPr id="235" name=""/>
            <p:cNvSpPr/>
            <p:nvPr/>
          </p:nvSpPr>
          <p:spPr>
            <a:xfrm flipV="1">
              <a:off x="4876920" y="19807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76920" y="175212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105160" y="1447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57200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143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257800" y="3048120"/>
            <a:ext cx="2666880" cy="609480"/>
            <a:chOff x="5257800" y="3048120"/>
            <a:chExt cx="2666880" cy="609480"/>
          </a:xfrm>
        </p:grpSpPr>
        <p:sp>
          <p:nvSpPr>
            <p:cNvPr id="241" name=""/>
            <p:cNvSpPr/>
            <p:nvPr/>
          </p:nvSpPr>
          <p:spPr>
            <a:xfrm>
              <a:off x="5257800" y="3352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57800" y="342900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238880" y="30481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8880" y="34290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43800" y="3048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43800" y="3657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7724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7240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34290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53341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73240" y="83808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73240" y="1828800"/>
            <a:ext cx="4572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73240" y="2819520"/>
            <a:ext cx="4572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8380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8288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28195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82920" y="83808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82920" y="1828800"/>
            <a:ext cx="45900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82920" y="2819520"/>
            <a:ext cx="45900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22076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076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2076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076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076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22076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2076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2076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22076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530440" y="1143000"/>
            <a:ext cx="8524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30440" y="10666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30440" y="1066680"/>
            <a:ext cx="852480" cy="198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30440" y="312408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30440" y="2057400"/>
            <a:ext cx="852480" cy="1066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530440" y="2133360"/>
            <a:ext cx="852480" cy="990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30440" y="2057400"/>
            <a:ext cx="852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30440" y="1143000"/>
            <a:ext cx="852480" cy="914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530440" y="1066680"/>
            <a:ext cx="852480" cy="990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6920" y="99072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6920" y="1981080"/>
            <a:ext cx="32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2971800"/>
            <a:ext cx="328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1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138400" y="2895480"/>
            <a:ext cx="5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73240" y="190512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400" y="914400"/>
            <a:ext cx="588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82920" y="914400"/>
            <a:ext cx="59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48080" y="19051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48080" y="28954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1480" y="609480"/>
            <a:ext cx="78588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4114800"/>
          <a:ext cx="2562120" cy="129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14800"/>
                    <a:ext cx="25621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2514600" y="35053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0" y="990720"/>
          <a:ext cx="1781280" cy="1971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1781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1523880" y="3581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3155760" y="1873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ction de transf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5441760" y="2025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norm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0574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97760" y="762120"/>
            <a:ext cx="45864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97760" y="175248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97760" y="2743200"/>
            <a:ext cx="45864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7760" y="83808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2920" y="182880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2920" y="2819520"/>
            <a:ext cx="590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,N</a:t>
            </a:r>
            <a:r>
              <a:rPr b="0" lang="en-US" sz="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34320" y="609480"/>
            <a:ext cx="787320" cy="28958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4038480"/>
            <a:ext cx="16002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,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1976400" y="1905120"/>
          <a:ext cx="519120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1905120"/>
                    <a:ext cx="51912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62520" y="1447920"/>
            <a:ext cx="0" cy="23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124080" y="2133360"/>
            <a:ext cx="76320" cy="76320"/>
            <a:chOff x="3124080" y="2133360"/>
            <a:chExt cx="76320" cy="76320"/>
          </a:xfrm>
        </p:grpSpPr>
        <p:sp>
          <p:nvSpPr>
            <p:cNvPr id="314" name=""/>
            <p:cNvSpPr/>
            <p:nvPr/>
          </p:nvSpPr>
          <p:spPr>
            <a:xfrm>
              <a:off x="312408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2408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352680" y="1981080"/>
            <a:ext cx="76320" cy="76320"/>
            <a:chOff x="3352680" y="1981080"/>
            <a:chExt cx="76320" cy="76320"/>
          </a:xfrm>
        </p:grpSpPr>
        <p:sp>
          <p:nvSpPr>
            <p:cNvPr id="317" name=""/>
            <p:cNvSpPr/>
            <p:nvPr/>
          </p:nvSpPr>
          <p:spPr>
            <a:xfrm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352680" y="19810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29000" y="2286000"/>
            <a:ext cx="76320" cy="76320"/>
            <a:chOff x="3429000" y="2286000"/>
            <a:chExt cx="76320" cy="76320"/>
          </a:xfrm>
        </p:grpSpPr>
        <p:sp>
          <p:nvSpPr>
            <p:cNvPr id="320" name=""/>
            <p:cNvSpPr/>
            <p:nvPr/>
          </p:nvSpPr>
          <p:spPr>
            <a:xfrm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429000" y="228600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323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276720" y="2438280"/>
            <a:ext cx="75960" cy="76320"/>
            <a:chOff x="3276720" y="2438280"/>
            <a:chExt cx="75960" cy="76320"/>
          </a:xfrm>
        </p:grpSpPr>
        <p:sp>
          <p:nvSpPr>
            <p:cNvPr id="326" name=""/>
            <p:cNvSpPr/>
            <p:nvPr/>
          </p:nvSpPr>
          <p:spPr>
            <a:xfrm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276720" y="243828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657600" y="2590560"/>
            <a:ext cx="76320" cy="76320"/>
            <a:chOff x="3657600" y="2590560"/>
            <a:chExt cx="76320" cy="76320"/>
          </a:xfrm>
        </p:grpSpPr>
        <p:sp>
          <p:nvSpPr>
            <p:cNvPr id="329" name=""/>
            <p:cNvSpPr/>
            <p:nvPr/>
          </p:nvSpPr>
          <p:spPr>
            <a:xfrm>
              <a:off x="3657600" y="25909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657600" y="25905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76720" y="2743200"/>
            <a:ext cx="75960" cy="76320"/>
            <a:chOff x="3276720" y="2743200"/>
            <a:chExt cx="75960" cy="76320"/>
          </a:xfrm>
        </p:grpSpPr>
        <p:sp>
          <p:nvSpPr>
            <p:cNvPr id="332" name=""/>
            <p:cNvSpPr/>
            <p:nvPr/>
          </p:nvSpPr>
          <p:spPr>
            <a:xfrm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276720" y="2743200"/>
              <a:ext cx="7596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657600" y="2895480"/>
            <a:ext cx="76320" cy="76320"/>
            <a:chOff x="3657600" y="2895480"/>
            <a:chExt cx="76320" cy="76320"/>
          </a:xfrm>
        </p:grpSpPr>
        <p:sp>
          <p:nvSpPr>
            <p:cNvPr id="335" name=""/>
            <p:cNvSpPr/>
            <p:nvPr/>
          </p:nvSpPr>
          <p:spPr>
            <a:xfrm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3657600" y="2895480"/>
              <a:ext cx="7632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6200" y="2133360"/>
            <a:ext cx="76320" cy="76320"/>
            <a:chOff x="3886200" y="2133360"/>
            <a:chExt cx="76320" cy="76320"/>
          </a:xfrm>
        </p:grpSpPr>
        <p:sp>
          <p:nvSpPr>
            <p:cNvPr id="338" name=""/>
            <p:cNvSpPr/>
            <p:nvPr/>
          </p:nvSpPr>
          <p:spPr>
            <a:xfrm>
              <a:off x="3886200" y="213372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886200" y="2133360"/>
              <a:ext cx="7632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495680" y="20574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2286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00600" y="2133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25146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00600" y="24382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28195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23623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00600" y="27432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3276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28195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1460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1981080"/>
            <a:ext cx="304920" cy="10670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581280" y="1066680"/>
            <a:ext cx="22100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ints ambig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2" idx="7"/>
            <a:endCxn id="353" idx="2"/>
          </p:cNvCxnSpPr>
          <p:nvPr/>
        </p:nvCxnSpPr>
        <p:spPr>
          <a:xfrm flipV="1">
            <a:off x="4070160" y="1491840"/>
            <a:ext cx="616680" cy="635760"/>
          </a:xfrm>
          <a:prstGeom prst="straightConnector1">
            <a:avLst/>
          </a:prstGeom>
          <a:ln w="19080">
            <a:solidFill>
              <a:srgbClr val="00cc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7:03:27Z</dcterms:created>
  <dc:creator>Dupré Xavier</dc:creator>
  <dc:description/>
  <dc:language>en-US</dc:language>
  <cp:lastModifiedBy>dupre</cp:lastModifiedBy>
  <dcterms:modified xsi:type="dcterms:W3CDTF">2001-11-06T21:26:41Z</dcterms:modified>
  <cp:revision>11</cp:revision>
  <dc:subject/>
  <dc:title>Aucun titre de diapositive</dc:title>
</cp:coreProperties>
</file>