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7CF-F7F3-49BF-AE00-34588C55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CF7-1754-4E48-AF4E-5CFB5687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84E-DF63-4ECD-A245-DC323F8D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953-B949-4182-8FAA-6499448D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4E7-AB0D-4D02-8524-78218FB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F1A-0242-49E7-BBD2-8D656E63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F08F-2C70-4903-A3C3-0BA43C2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907-D902-4930-85CC-4214C7A8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122-B271-4771-B4CD-C8AD362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6B9-CDE3-4DCC-9FBF-975BDB6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5B6-D843-460A-B900-823BEA22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973-113B-4F69-8CF7-BF4EF97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AB3-2557-434B-B009-55A1DE956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8380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485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85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1447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1143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292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533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5335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838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23623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23623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447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752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752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1143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0574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20574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438280" y="990720"/>
            <a:ext cx="0" cy="838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37920" y="99072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1828800"/>
            <a:ext cx="1905120" cy="762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343040" y="2362320"/>
            <a:ext cx="1066680" cy="228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410080" y="1752480"/>
            <a:ext cx="106704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990720"/>
            <a:ext cx="9144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114800" y="685800"/>
            <a:ext cx="1447920" cy="9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685800"/>
            <a:ext cx="91440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518148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51814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4572000"/>
            <a:ext cx="304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45720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876920"/>
            <a:ext cx="30456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48769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648320"/>
            <a:ext cx="304776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720" y="3505320"/>
            <a:ext cx="3962160" cy="1143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3962520"/>
            <a:ext cx="3049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2670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352680"/>
            <a:ext cx="3049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81480" y="3505320"/>
            <a:ext cx="914400" cy="1828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181480" y="4724280"/>
            <a:ext cx="914400" cy="609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35053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886200"/>
            <a:ext cx="457200" cy="144792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4419720"/>
            <a:ext cx="457200" cy="30456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avier dupre</cp:lastModifiedBy>
  <dcterms:modified xsi:type="dcterms:W3CDTF">2003-01-23T15:05:39Z</dcterms:modified>
  <cp:revision>2</cp:revision>
  <dc:subject/>
  <dc:title>PowerPoint Presentation</dc:title>
</cp:coreProperties>
</file>