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61DE-C7F6-4D44-A55F-5FF14569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D3A-8BF6-4DBE-8461-7021FF9B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361-61D8-4833-AC42-728D1F14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8521-EF19-40C0-908B-26C43F9F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FE5-69E0-405B-BC07-3A61F57B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7542-B740-46E2-82D2-C48D1952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01A-C135-41AC-911A-D963A4B9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A5F-E34A-4FF4-9398-5BDAEC4B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7436-92F0-4B09-880F-68150BE3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78A4-AE22-483D-8A79-E9964A85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7FB-80D4-4CFB-B033-0EC51DC4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568-3F4E-4690-A9A0-02A0BB57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F4D4-4AE4-45E3-972D-ADED711302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895480" y="1600200"/>
          <a:ext cx="275292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600200"/>
                    <a:ext cx="275292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88620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2666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fr-FR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24382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i="1" lang="fr-FR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18288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fr-FR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365760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fr-FR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5800" y="609480"/>
          <a:ext cx="815328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815328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" name=""/>
          <p:cNvGrpSpPr/>
          <p:nvPr/>
        </p:nvGrpSpPr>
        <p:grpSpPr>
          <a:xfrm>
            <a:off x="1295280" y="266040"/>
            <a:ext cx="2110320" cy="3045600"/>
            <a:chOff x="1295280" y="266040"/>
            <a:chExt cx="2110320" cy="3045600"/>
          </a:xfrm>
        </p:grpSpPr>
        <p:sp>
          <p:nvSpPr>
            <p:cNvPr id="51" name=""/>
            <p:cNvSpPr/>
            <p:nvPr/>
          </p:nvSpPr>
          <p:spPr>
            <a:xfrm flipH="1" flipV="1">
              <a:off x="2184120" y="265680"/>
              <a:ext cx="122076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4207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420794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1981080" y="2743200"/>
              <a:ext cx="3812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5280" y="2439360"/>
              <a:ext cx="106668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60" y="2459"/>
                  </a:moveTo>
                  <a:arcTo wR="10800" hR="10800" stAng="-3033861" swAng="393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60" y="2459"/>
                  </a:moveTo>
                  <a:arcTo wR="10800" hR="10800" stAng="-3033861" swAng="3939713"/>
                </a:path>
              </a:pathLst>
            </a:custGeom>
            <a:noFill/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832000" y="2135160"/>
            <a:ext cx="2494080" cy="3123000"/>
            <a:chOff x="5832000" y="2135160"/>
            <a:chExt cx="2494080" cy="3123000"/>
          </a:xfrm>
        </p:grpSpPr>
        <p:sp>
          <p:nvSpPr>
            <p:cNvPr id="55" name=""/>
            <p:cNvSpPr/>
            <p:nvPr/>
          </p:nvSpPr>
          <p:spPr>
            <a:xfrm>
              <a:off x="5832000" y="2210760"/>
              <a:ext cx="1442160" cy="30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4207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420794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7065360" y="2405880"/>
              <a:ext cx="450000" cy="31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7065360" y="2134800"/>
              <a:ext cx="1260360" cy="8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660" y="2459"/>
                  </a:moveTo>
                  <a:arcTo wR="10800" hR="10800" stAng="-3033861" swAng="393971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660" y="2459"/>
                  </a:moveTo>
                  <a:arcTo wR="10800" hR="10800" stAng="-3033861" swAng="3939713"/>
                </a:path>
              </a:pathLst>
            </a:custGeom>
            <a:noFill/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574440" y="621720"/>
            <a:ext cx="1121040" cy="3190320"/>
            <a:chOff x="3574440" y="621720"/>
            <a:chExt cx="1121040" cy="3190320"/>
          </a:xfrm>
        </p:grpSpPr>
        <p:sp>
          <p:nvSpPr>
            <p:cNvPr id="59" name=""/>
            <p:cNvSpPr/>
            <p:nvPr/>
          </p:nvSpPr>
          <p:spPr>
            <a:xfrm flipH="1" flipV="1">
              <a:off x="3868920" y="621360"/>
              <a:ext cx="826200" cy="256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25" y="7801"/>
                  </a:moveTo>
                  <a:arcTo wR="10800" hR="10800" stAng="-9832729" swAng="8853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425" y="7801"/>
                  </a:moveTo>
                  <a:arcTo wR="10800" hR="10800" stAng="-9832729" swAng="8853523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74440" y="2568960"/>
              <a:ext cx="721800" cy="12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275" y="5617"/>
                  </a:moveTo>
                  <a:arcTo wR="10800" hR="10800" stAng="-1720785" swAng="2626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0275" y="5617"/>
                  </a:moveTo>
                  <a:arcTo wR="10800" hR="10800" stAng="-1720785" swAng="2626637"/>
                </a:path>
              </a:pathLst>
            </a:custGeom>
            <a:noFill/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 flipV="1">
            <a:off x="182880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4382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64832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26708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55308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9810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876560" y="987120"/>
            <a:ext cx="1971360" cy="3743640"/>
            <a:chOff x="4876560" y="987120"/>
            <a:chExt cx="1971360" cy="3743640"/>
          </a:xfrm>
        </p:grpSpPr>
        <p:sp>
          <p:nvSpPr>
            <p:cNvPr id="68" name=""/>
            <p:cNvSpPr/>
            <p:nvPr/>
          </p:nvSpPr>
          <p:spPr>
            <a:xfrm flipV="1">
              <a:off x="5112000" y="2157840"/>
              <a:ext cx="843840" cy="111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0392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039255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76560" y="987120"/>
              <a:ext cx="1066680" cy="374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757" y="6616"/>
                  </a:moveTo>
                  <a:arcTo wR="10800" hR="10800" stAng="-1367494" swAng="2273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20757" y="6616"/>
                  </a:moveTo>
                  <a:arcTo wR="10800" hR="10800" stAng="-1367494" swAng="2273346"/>
                </a:path>
              </a:pathLst>
            </a:custGeom>
            <a:noFill/>
            <a:ln w="158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5934240" y="2293920"/>
              <a:ext cx="913680" cy="72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528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528924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 flipV="1">
            <a:off x="632448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14:21:20Z</dcterms:created>
  <dc:creator>xavier dupre</dc:creator>
  <dc:description/>
  <dc:language>en-US</dc:language>
  <cp:lastModifiedBy>xavier dupre</cp:lastModifiedBy>
  <dcterms:modified xsi:type="dcterms:W3CDTF">2003-01-06T16:58:33Z</dcterms:modified>
  <cp:revision>3</cp:revision>
  <dc:subject/>
  <dc:title>PowerPoint Presentation</dc:title>
</cp:coreProperties>
</file>