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EE4-2A91-42B5-B7AA-E0242B55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346-406D-436B-86BD-E715C7B7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D26-76CE-485F-B48E-A71C18F4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9CC-4F1D-4C5C-BD4F-8A727C1B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05F-5FC3-4222-B95A-4EDF8559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982C-C3D7-4C6B-BE5A-6ADDCD48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198-382D-457A-8C1A-1DAB9673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104-834F-48DA-8C02-4D536310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E37-EBAF-4C10-95C1-8DF08033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072A-D786-4645-979B-0D6CB503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E3B-65DB-49C0-AD97-129A4243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354-95F6-4556-8F28-BF85DF42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CFC8-07A5-48F3-800C-3BF265C6C7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53080" y="609480"/>
            <a:ext cx="2362320" cy="2895840"/>
          </a:xfrm>
          <a:prstGeom prst="rect">
            <a:avLst/>
          </a:prstGeom>
          <a:solidFill>
            <a:srgbClr val="f4fff3">
              <a:alpha val="50000"/>
            </a:srgbClr>
          </a:solidFill>
          <a:ln w="64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609480"/>
            <a:ext cx="3429000" cy="2895840"/>
          </a:xfrm>
          <a:prstGeom prst="rect">
            <a:avLst/>
          </a:prstGeom>
          <a:solidFill>
            <a:srgbClr val="f6f3ff">
              <a:alpha val="50000"/>
            </a:srgbClr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09480"/>
            <a:ext cx="2438640" cy="2895840"/>
          </a:xfrm>
          <a:prstGeom prst="rect">
            <a:avLst/>
          </a:prstGeom>
          <a:solidFill>
            <a:srgbClr val="fff3f3">
              <a:alpha val="50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762120"/>
            <a:ext cx="198144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523880"/>
            <a:ext cx="198144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762120"/>
            <a:ext cx="160020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raphè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6094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705720" y="1219320"/>
            <a:ext cx="2133360" cy="1295280"/>
            <a:chOff x="6705720" y="1219320"/>
            <a:chExt cx="2133360" cy="1295280"/>
          </a:xfrm>
        </p:grpSpPr>
        <p:sp>
          <p:nvSpPr>
            <p:cNvPr id="49" name=""/>
            <p:cNvSpPr/>
            <p:nvPr/>
          </p:nvSpPr>
          <p:spPr>
            <a:xfrm>
              <a:off x="6705720" y="1219320"/>
              <a:ext cx="2133360" cy="1295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81680" y="1447560"/>
              <a:ext cx="1980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odèles de reconnaissance appr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" name=""/>
          <p:cNvCxnSpPr>
            <a:stCxn id="44" idx="3"/>
            <a:endCxn id="46" idx="1"/>
          </p:cNvCxnSpPr>
          <p:nvPr/>
        </p:nvCxnSpPr>
        <p:spPr>
          <a:xfrm>
            <a:off x="2590920" y="961560"/>
            <a:ext cx="2057760" cy="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5" idx="3"/>
            <a:endCxn id="53" idx="1"/>
          </p:cNvCxnSpPr>
          <p:nvPr/>
        </p:nvCxnSpPr>
        <p:spPr>
          <a:xfrm>
            <a:off x="2590920" y="1723320"/>
            <a:ext cx="990720" cy="228960"/>
          </a:xfrm>
          <a:prstGeom prst="bentConnector3">
            <a:avLst>
              <a:gd name="adj1" fmla="val 500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6" idx="2"/>
            <a:endCxn id="53" idx="0"/>
          </p:cNvCxnSpPr>
          <p:nvPr/>
        </p:nvCxnSpPr>
        <p:spPr>
          <a:xfrm rot="5400000">
            <a:off x="4714200" y="1018440"/>
            <a:ext cx="591840" cy="876600"/>
          </a:xfrm>
          <a:prstGeom prst="bentConnector3">
            <a:avLst>
              <a:gd name="adj1" fmla="val 5003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3581280" y="1752480"/>
            <a:ext cx="198144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renti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3" idx="3"/>
            <a:endCxn id="49" idx="2"/>
          </p:cNvCxnSpPr>
          <p:nvPr/>
        </p:nvCxnSpPr>
        <p:spPr>
          <a:xfrm flipV="1">
            <a:off x="5562720" y="1866960"/>
            <a:ext cx="1143360" cy="85320"/>
          </a:xfrm>
          <a:prstGeom prst="bentConnector3">
            <a:avLst>
              <a:gd name="adj1" fmla="val 5001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09480" y="2286000"/>
            <a:ext cx="1981440" cy="100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èles de reconnaissance non app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3"/>
            <a:endCxn id="53" idx="2"/>
          </p:cNvCxnSpPr>
          <p:nvPr/>
        </p:nvCxnSpPr>
        <p:spPr>
          <a:xfrm flipV="1">
            <a:off x="2590920" y="2151360"/>
            <a:ext cx="1981440" cy="639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9480" y="3657600"/>
            <a:ext cx="1981440" cy="398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3657600"/>
            <a:ext cx="1981080" cy="3988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gorith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657600"/>
            <a:ext cx="1981440" cy="398880"/>
          </a:xfrm>
          <a:prstGeom prst="rect">
            <a:avLst/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8:16:57Z</dcterms:created>
  <dc:creator>dupre</dc:creator>
  <dc:description/>
  <dc:language>en-US</dc:language>
  <cp:lastModifiedBy>dupre</cp:lastModifiedBy>
  <dcterms:modified xsi:type="dcterms:W3CDTF">2001-08-20T10:18:58Z</dcterms:modified>
  <cp:revision>4</cp:revision>
  <dc:subject/>
  <dc:title>PowerPoint Presentation</dc:title>
</cp:coreProperties>
</file>