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34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D39-C2DD-4CB2-AC52-87BCE42B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A97-B756-4B43-BED6-F24EAF9D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ADF6-A05E-4AF3-83C3-195802A7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83A-2081-4647-ADA2-AF775F16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163-34F4-44EF-89FD-218CB454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3CF-861E-4768-9B64-33E6BBCF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7D4-4FDF-4932-8901-342BFB8C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B1FB-A80F-49BF-AEAA-C6767207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D50-3E2C-47C8-98F6-53070C6B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2CC-8C0E-44B1-BE36-904158E4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E2A-F54E-405C-8EEF-4D6C3073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98DE-E5DC-4F1C-906E-605EFC48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A3E0-0BCB-425E-B72D-ABB288276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447920"/>
            <a:ext cx="6172200" cy="435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tiquetag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aut de lign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 &lt; H &lt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as de lign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 &lt; B &l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paration de lign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 &lt; S &lt;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rête de lign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 &lt; C &lt;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i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enc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lan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f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52280" y="304920"/>
            <a:ext cx="8838720" cy="5412600"/>
            <a:chOff x="152280" y="304920"/>
            <a:chExt cx="8838720" cy="5412600"/>
          </a:xfrm>
        </p:grpSpPr>
        <p:grpSp>
          <p:nvGrpSpPr>
            <p:cNvPr id="43" name=""/>
            <p:cNvGrpSpPr/>
            <p:nvPr/>
          </p:nvGrpSpPr>
          <p:grpSpPr>
            <a:xfrm>
              <a:off x="152280" y="990720"/>
              <a:ext cx="4342680" cy="3885840"/>
              <a:chOff x="152280" y="990720"/>
              <a:chExt cx="4342680" cy="388584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152280" y="990720"/>
                <a:ext cx="1447200" cy="1295280"/>
                <a:chOff x="152280" y="990720"/>
                <a:chExt cx="1447200" cy="129528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5228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15228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1599840" y="990720"/>
                <a:ext cx="1447200" cy="1295280"/>
                <a:chOff x="1599840" y="990720"/>
                <a:chExt cx="1447200" cy="12952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159984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159984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3047760" y="990720"/>
                <a:ext cx="1447200" cy="1295280"/>
                <a:chOff x="3047760" y="990720"/>
                <a:chExt cx="1447200" cy="129528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304776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04776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152280" y="2286000"/>
                <a:ext cx="1447200" cy="1295280"/>
                <a:chOff x="152280" y="2286000"/>
                <a:chExt cx="1447200" cy="12952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15228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5228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1599840" y="2286000"/>
                <a:ext cx="1447200" cy="1295280"/>
                <a:chOff x="1599840" y="2286000"/>
                <a:chExt cx="1447200" cy="129528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159984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59984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3047760" y="2286000"/>
                <a:ext cx="1447200" cy="1295280"/>
                <a:chOff x="3047760" y="2286000"/>
                <a:chExt cx="1447200" cy="129528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304776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04776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152280" y="3581280"/>
                <a:ext cx="1447200" cy="1295280"/>
                <a:chOff x="152280" y="3581280"/>
                <a:chExt cx="1447200" cy="12952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5228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5228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1599840" y="3581280"/>
                <a:ext cx="1447200" cy="1295280"/>
                <a:chOff x="1599840" y="3581280"/>
                <a:chExt cx="1447200" cy="129528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159984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984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047760" y="3581280"/>
                <a:ext cx="1447200" cy="1295280"/>
                <a:chOff x="3047760" y="3581280"/>
                <a:chExt cx="1447200" cy="129528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04776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04776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" name=""/>
            <p:cNvGrpSpPr/>
            <p:nvPr/>
          </p:nvGrpSpPr>
          <p:grpSpPr>
            <a:xfrm>
              <a:off x="4800600" y="990720"/>
              <a:ext cx="4190400" cy="3885840"/>
              <a:chOff x="4800600" y="990720"/>
              <a:chExt cx="4190400" cy="388584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4800600" y="990720"/>
                <a:ext cx="1396440" cy="1295280"/>
                <a:chOff x="4800600" y="990720"/>
                <a:chExt cx="1396440" cy="12952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8006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8006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6197400" y="990720"/>
                <a:ext cx="1396440" cy="1295280"/>
                <a:chOff x="6197400" y="990720"/>
                <a:chExt cx="1396440" cy="1295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1974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1974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7594560" y="990720"/>
                <a:ext cx="1396440" cy="1295280"/>
                <a:chOff x="7594560" y="990720"/>
                <a:chExt cx="1396440" cy="12952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759456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59456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800600" y="2286000"/>
                <a:ext cx="1396440" cy="1295280"/>
                <a:chOff x="4800600" y="2286000"/>
                <a:chExt cx="1396440" cy="12952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48006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80060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197400" y="2286000"/>
                <a:ext cx="1396440" cy="1295280"/>
                <a:chOff x="6197400" y="2286000"/>
                <a:chExt cx="1396440" cy="12952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1974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19740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7594560" y="2286000"/>
                <a:ext cx="1396440" cy="1295280"/>
                <a:chOff x="7594560" y="2286000"/>
                <a:chExt cx="1396440" cy="12952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759456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59456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4800600" y="3581280"/>
                <a:ext cx="1396440" cy="1295280"/>
                <a:chOff x="4800600" y="3581280"/>
                <a:chExt cx="1396440" cy="12952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48006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80060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197400" y="3581280"/>
                <a:ext cx="1396440" cy="1295280"/>
                <a:chOff x="6197400" y="3581280"/>
                <a:chExt cx="1396440" cy="12952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1974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19740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7594560" y="3581280"/>
                <a:ext cx="1396440" cy="1295280"/>
                <a:chOff x="7594560" y="3581280"/>
                <a:chExt cx="1396440" cy="12952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759456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59456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" name=""/>
            <p:cNvSpPr/>
            <p:nvPr/>
          </p:nvSpPr>
          <p:spPr>
            <a:xfrm>
              <a:off x="4648320" y="304920"/>
              <a:ext cx="0" cy="495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38088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24480" y="380880"/>
              <a:ext cx="106704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14800" y="525780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52280" y="304920"/>
            <a:ext cx="8838720" cy="5412600"/>
            <a:chOff x="152280" y="304920"/>
            <a:chExt cx="8838720" cy="5412600"/>
          </a:xfrm>
        </p:grpSpPr>
        <p:grpSp>
          <p:nvGrpSpPr>
            <p:cNvPr id="104" name=""/>
            <p:cNvGrpSpPr/>
            <p:nvPr/>
          </p:nvGrpSpPr>
          <p:grpSpPr>
            <a:xfrm>
              <a:off x="152280" y="990720"/>
              <a:ext cx="4342680" cy="3885840"/>
              <a:chOff x="152280" y="990720"/>
              <a:chExt cx="4342680" cy="388584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52280" y="990720"/>
                <a:ext cx="1447200" cy="1295280"/>
                <a:chOff x="152280" y="990720"/>
                <a:chExt cx="1447200" cy="1295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5228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5228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1599840" y="990720"/>
                <a:ext cx="1447200" cy="1295280"/>
                <a:chOff x="1599840" y="990720"/>
                <a:chExt cx="1447200" cy="1295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59984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59984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047760" y="990720"/>
                <a:ext cx="1447200" cy="1295280"/>
                <a:chOff x="3047760" y="990720"/>
                <a:chExt cx="1447200" cy="1295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04776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04776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52280" y="2286000"/>
                <a:ext cx="1447200" cy="1295280"/>
                <a:chOff x="152280" y="2286000"/>
                <a:chExt cx="1447200" cy="1295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5228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5228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599840" y="2286000"/>
                <a:ext cx="1447200" cy="1295280"/>
                <a:chOff x="1599840" y="2286000"/>
                <a:chExt cx="1447200" cy="1295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59984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59984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047760" y="2286000"/>
                <a:ext cx="1447200" cy="1295280"/>
                <a:chOff x="3047760" y="2286000"/>
                <a:chExt cx="1447200" cy="1295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04776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04776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52280" y="3581280"/>
                <a:ext cx="1447200" cy="1295280"/>
                <a:chOff x="152280" y="3581280"/>
                <a:chExt cx="1447200" cy="1295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5228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5228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1599840" y="3581280"/>
                <a:ext cx="1447200" cy="1295280"/>
                <a:chOff x="1599840" y="3581280"/>
                <a:chExt cx="1447200" cy="1295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59984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59984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047760" y="3581280"/>
                <a:ext cx="1447200" cy="1295280"/>
                <a:chOff x="3047760" y="3581280"/>
                <a:chExt cx="1447200" cy="1295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04776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04776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" name=""/>
            <p:cNvGrpSpPr/>
            <p:nvPr/>
          </p:nvGrpSpPr>
          <p:grpSpPr>
            <a:xfrm>
              <a:off x="4800600" y="990720"/>
              <a:ext cx="4190400" cy="3885840"/>
              <a:chOff x="4800600" y="990720"/>
              <a:chExt cx="4190400" cy="388584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4800600" y="990720"/>
                <a:ext cx="1396440" cy="1295280"/>
                <a:chOff x="4800600" y="990720"/>
                <a:chExt cx="1396440" cy="1295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8006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8006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6197400" y="990720"/>
                <a:ext cx="1396440" cy="1295280"/>
                <a:chOff x="6197400" y="990720"/>
                <a:chExt cx="1396440" cy="12952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1974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1974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7594560" y="990720"/>
                <a:ext cx="1396440" cy="1295280"/>
                <a:chOff x="7594560" y="990720"/>
                <a:chExt cx="1396440" cy="12952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59456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59456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800600" y="2286000"/>
                <a:ext cx="1396440" cy="1295280"/>
                <a:chOff x="4800600" y="2286000"/>
                <a:chExt cx="1396440" cy="1295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8006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00600" y="236196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197400" y="2286000"/>
                <a:ext cx="1396440" cy="1295280"/>
                <a:chOff x="6197400" y="2286000"/>
                <a:chExt cx="1396440" cy="12952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1974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197400" y="236196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594560" y="2286000"/>
                <a:ext cx="1396440" cy="1295280"/>
                <a:chOff x="7594560" y="2286000"/>
                <a:chExt cx="1396440" cy="12952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59456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594560" y="236196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800600" y="3581280"/>
                <a:ext cx="1396440" cy="1295280"/>
                <a:chOff x="4800600" y="3581280"/>
                <a:chExt cx="1396440" cy="12952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8006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800600" y="365724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6197400" y="3581280"/>
                <a:ext cx="1396440" cy="1295280"/>
                <a:chOff x="6197400" y="3581280"/>
                <a:chExt cx="1396440" cy="12952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1974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197400" y="365724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7594560" y="3581280"/>
                <a:ext cx="1396440" cy="1295280"/>
                <a:chOff x="7594560" y="3581280"/>
                <a:chExt cx="1396440" cy="12952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59456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594560" y="365724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" name=""/>
            <p:cNvSpPr/>
            <p:nvPr/>
          </p:nvSpPr>
          <p:spPr>
            <a:xfrm>
              <a:off x="4648320" y="304920"/>
              <a:ext cx="0" cy="495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8800" y="38088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4480" y="380880"/>
              <a:ext cx="106704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14800" y="525780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52280" y="304920"/>
            <a:ext cx="8838720" cy="5412600"/>
            <a:chOff x="152280" y="304920"/>
            <a:chExt cx="8838720" cy="5412600"/>
          </a:xfrm>
        </p:grpSpPr>
        <p:grpSp>
          <p:nvGrpSpPr>
            <p:cNvPr id="165" name=""/>
            <p:cNvGrpSpPr/>
            <p:nvPr/>
          </p:nvGrpSpPr>
          <p:grpSpPr>
            <a:xfrm>
              <a:off x="152280" y="990720"/>
              <a:ext cx="4342680" cy="3885840"/>
              <a:chOff x="152280" y="990720"/>
              <a:chExt cx="4342680" cy="388584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152280" y="990720"/>
                <a:ext cx="1447200" cy="1295280"/>
                <a:chOff x="152280" y="990720"/>
                <a:chExt cx="1447200" cy="12952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5228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5228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1599840" y="990720"/>
                <a:ext cx="1447200" cy="1295280"/>
                <a:chOff x="1599840" y="990720"/>
                <a:chExt cx="1447200" cy="12952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59984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59984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047760" y="990720"/>
                <a:ext cx="1447200" cy="1295280"/>
                <a:chOff x="3047760" y="990720"/>
                <a:chExt cx="1447200" cy="12952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04776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04776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52280" y="2286000"/>
                <a:ext cx="1447200" cy="1295280"/>
                <a:chOff x="152280" y="2286000"/>
                <a:chExt cx="1447200" cy="12952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5228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5228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599840" y="2286000"/>
                <a:ext cx="1447200" cy="1295280"/>
                <a:chOff x="1599840" y="2286000"/>
                <a:chExt cx="1447200" cy="12952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59984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59984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047760" y="2286000"/>
                <a:ext cx="1447200" cy="1295280"/>
                <a:chOff x="3047760" y="2286000"/>
                <a:chExt cx="1447200" cy="12952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04776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04776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152280" y="3581280"/>
                <a:ext cx="1447200" cy="1295280"/>
                <a:chOff x="152280" y="3581280"/>
                <a:chExt cx="1447200" cy="12952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5228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5228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599840" y="3581280"/>
                <a:ext cx="1447200" cy="1295280"/>
                <a:chOff x="1599840" y="3581280"/>
                <a:chExt cx="1447200" cy="1295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59984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59984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047760" y="3581280"/>
                <a:ext cx="1447200" cy="1295280"/>
                <a:chOff x="3047760" y="3581280"/>
                <a:chExt cx="1447200" cy="12952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04776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04776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3" name=""/>
            <p:cNvGrpSpPr/>
            <p:nvPr/>
          </p:nvGrpSpPr>
          <p:grpSpPr>
            <a:xfrm>
              <a:off x="4800600" y="990720"/>
              <a:ext cx="4190400" cy="3885840"/>
              <a:chOff x="4800600" y="990720"/>
              <a:chExt cx="4190400" cy="388584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4800600" y="990720"/>
                <a:ext cx="1396440" cy="1295280"/>
                <a:chOff x="4800600" y="990720"/>
                <a:chExt cx="1396440" cy="12952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8006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8006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197400" y="990720"/>
                <a:ext cx="1396440" cy="1295280"/>
                <a:chOff x="6197400" y="990720"/>
                <a:chExt cx="1396440" cy="12952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1974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1974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594560" y="990720"/>
                <a:ext cx="1396440" cy="1295280"/>
                <a:chOff x="7594560" y="990720"/>
                <a:chExt cx="1396440" cy="12952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59456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59456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4800600" y="2286000"/>
                <a:ext cx="1396440" cy="1295280"/>
                <a:chOff x="4800600" y="2286000"/>
                <a:chExt cx="1396440" cy="12952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8006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80060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6197400" y="2286000"/>
                <a:ext cx="1396440" cy="1295280"/>
                <a:chOff x="6197400" y="2286000"/>
                <a:chExt cx="1396440" cy="12952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61974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19740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7594560" y="2286000"/>
                <a:ext cx="1396440" cy="1295280"/>
                <a:chOff x="7594560" y="2286000"/>
                <a:chExt cx="1396440" cy="12952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759456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59456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800600" y="3581280"/>
                <a:ext cx="1396440" cy="1295280"/>
                <a:chOff x="4800600" y="3581280"/>
                <a:chExt cx="1396440" cy="12952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48006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0060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,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97400" y="3581280"/>
                <a:ext cx="1396440" cy="1295280"/>
                <a:chOff x="6197400" y="3581280"/>
                <a:chExt cx="1396440" cy="12952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1974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9740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,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594560" y="3581280"/>
                <a:ext cx="1396440" cy="1295280"/>
                <a:chOff x="7594560" y="3581280"/>
                <a:chExt cx="1396440" cy="12952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59456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59456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,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1" name=""/>
            <p:cNvSpPr/>
            <p:nvPr/>
          </p:nvSpPr>
          <p:spPr>
            <a:xfrm>
              <a:off x="4648320" y="304920"/>
              <a:ext cx="0" cy="495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28800" y="38088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24480" y="380880"/>
              <a:ext cx="106704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25780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52280" y="304920"/>
            <a:ext cx="8838720" cy="5412600"/>
            <a:chOff x="152280" y="304920"/>
            <a:chExt cx="8838720" cy="5412600"/>
          </a:xfrm>
        </p:grpSpPr>
        <p:grpSp>
          <p:nvGrpSpPr>
            <p:cNvPr id="226" name=""/>
            <p:cNvGrpSpPr/>
            <p:nvPr/>
          </p:nvGrpSpPr>
          <p:grpSpPr>
            <a:xfrm>
              <a:off x="152280" y="990720"/>
              <a:ext cx="4342680" cy="3885840"/>
              <a:chOff x="152280" y="990720"/>
              <a:chExt cx="4342680" cy="388584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152280" y="990720"/>
                <a:ext cx="1447200" cy="1295280"/>
                <a:chOff x="152280" y="990720"/>
                <a:chExt cx="1447200" cy="12952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15228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5228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1599840" y="990720"/>
                <a:ext cx="1447200" cy="1295280"/>
                <a:chOff x="1599840" y="990720"/>
                <a:chExt cx="1447200" cy="12952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159984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59984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3047760" y="990720"/>
                <a:ext cx="1447200" cy="1295280"/>
                <a:chOff x="3047760" y="990720"/>
                <a:chExt cx="1447200" cy="12952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304776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04776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52280" y="2286000"/>
                <a:ext cx="1447200" cy="1295280"/>
                <a:chOff x="152280" y="2286000"/>
                <a:chExt cx="1447200" cy="12952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5228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5228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599840" y="2286000"/>
                <a:ext cx="1447200" cy="1295280"/>
                <a:chOff x="1599840" y="2286000"/>
                <a:chExt cx="1447200" cy="12952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9984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59984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047760" y="2286000"/>
                <a:ext cx="1447200" cy="1295280"/>
                <a:chOff x="3047760" y="2286000"/>
                <a:chExt cx="1447200" cy="12952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04776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04776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152280" y="3581280"/>
                <a:ext cx="1447200" cy="1295280"/>
                <a:chOff x="152280" y="3581280"/>
                <a:chExt cx="1447200" cy="12952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15228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5228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599840" y="3581280"/>
                <a:ext cx="1447200" cy="1295280"/>
                <a:chOff x="1599840" y="3581280"/>
                <a:chExt cx="1447200" cy="12952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9984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9984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3047760" y="3581280"/>
                <a:ext cx="1447200" cy="1295280"/>
                <a:chOff x="3047760" y="3581280"/>
                <a:chExt cx="1447200" cy="1295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04776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04776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4" name=""/>
            <p:cNvGrpSpPr/>
            <p:nvPr/>
          </p:nvGrpSpPr>
          <p:grpSpPr>
            <a:xfrm>
              <a:off x="4800600" y="990720"/>
              <a:ext cx="4190400" cy="3885840"/>
              <a:chOff x="4800600" y="990720"/>
              <a:chExt cx="4190400" cy="388584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4800600" y="990720"/>
                <a:ext cx="1396440" cy="1295280"/>
                <a:chOff x="4800600" y="990720"/>
                <a:chExt cx="1396440" cy="12952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8006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8006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6197400" y="990720"/>
                <a:ext cx="1396440" cy="1295280"/>
                <a:chOff x="6197400" y="990720"/>
                <a:chExt cx="1396440" cy="12952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1974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1974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7594560" y="990720"/>
                <a:ext cx="1396440" cy="1295280"/>
                <a:chOff x="7594560" y="990720"/>
                <a:chExt cx="1396440" cy="12952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759456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59456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800600" y="2286000"/>
                <a:ext cx="1396440" cy="1295280"/>
                <a:chOff x="4800600" y="2286000"/>
                <a:chExt cx="1396440" cy="12952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8006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80060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197400" y="2286000"/>
                <a:ext cx="1396440" cy="1295280"/>
                <a:chOff x="6197400" y="2286000"/>
                <a:chExt cx="1396440" cy="12952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1974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19740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7594560" y="2286000"/>
                <a:ext cx="1396440" cy="1295280"/>
                <a:chOff x="7594560" y="2286000"/>
                <a:chExt cx="1396440" cy="12952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759456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59456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800600" y="3581280"/>
                <a:ext cx="1396440" cy="1295280"/>
                <a:chOff x="4800600" y="3581280"/>
                <a:chExt cx="1396440" cy="12952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8006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80060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,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197400" y="3581280"/>
                <a:ext cx="1396440" cy="1295280"/>
                <a:chOff x="6197400" y="3581280"/>
                <a:chExt cx="1396440" cy="12952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61974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19740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,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594560" y="3581280"/>
                <a:ext cx="1396440" cy="1295280"/>
                <a:chOff x="7594560" y="3581280"/>
                <a:chExt cx="1396440" cy="12952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59456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59456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,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2" name=""/>
            <p:cNvSpPr/>
            <p:nvPr/>
          </p:nvSpPr>
          <p:spPr>
            <a:xfrm>
              <a:off x="4648320" y="304920"/>
              <a:ext cx="0" cy="495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28800" y="38088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80880"/>
              <a:ext cx="106704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14800" y="525780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3733920" y="2590560"/>
            <a:ext cx="75960" cy="76320"/>
            <a:chOff x="3733920" y="2590560"/>
            <a:chExt cx="75960" cy="76320"/>
          </a:xfrm>
        </p:grpSpPr>
        <p:sp>
          <p:nvSpPr>
            <p:cNvPr id="287" name=""/>
            <p:cNvSpPr/>
            <p:nvPr/>
          </p:nvSpPr>
          <p:spPr>
            <a:xfrm>
              <a:off x="3733920" y="2590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733920" y="25905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895480" y="2361960"/>
            <a:ext cx="76320" cy="76320"/>
            <a:chOff x="2895480" y="2361960"/>
            <a:chExt cx="76320" cy="76320"/>
          </a:xfrm>
        </p:grpSpPr>
        <p:sp>
          <p:nvSpPr>
            <p:cNvPr id="290" name=""/>
            <p:cNvSpPr/>
            <p:nvPr/>
          </p:nvSpPr>
          <p:spPr>
            <a:xfrm>
              <a:off x="2895480" y="23623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895480" y="23619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590920" y="2819160"/>
            <a:ext cx="75960" cy="76320"/>
            <a:chOff x="2590920" y="2819160"/>
            <a:chExt cx="75960" cy="76320"/>
          </a:xfrm>
        </p:grpSpPr>
        <p:sp>
          <p:nvSpPr>
            <p:cNvPr id="293" name=""/>
            <p:cNvSpPr/>
            <p:nvPr/>
          </p:nvSpPr>
          <p:spPr>
            <a:xfrm>
              <a:off x="2590920" y="2819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2590920" y="28191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429000" y="2209680"/>
            <a:ext cx="76320" cy="76320"/>
            <a:chOff x="3429000" y="2209680"/>
            <a:chExt cx="76320" cy="76320"/>
          </a:xfrm>
        </p:grpSpPr>
        <p:sp>
          <p:nvSpPr>
            <p:cNvPr id="296" name=""/>
            <p:cNvSpPr/>
            <p:nvPr/>
          </p:nvSpPr>
          <p:spPr>
            <a:xfrm>
              <a:off x="3429000" y="22096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429000" y="22096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114800" y="3124080"/>
            <a:ext cx="76320" cy="76320"/>
            <a:chOff x="4114800" y="3124080"/>
            <a:chExt cx="76320" cy="76320"/>
          </a:xfrm>
        </p:grpSpPr>
        <p:sp>
          <p:nvSpPr>
            <p:cNvPr id="299" name=""/>
            <p:cNvSpPr/>
            <p:nvPr/>
          </p:nvSpPr>
          <p:spPr>
            <a:xfrm>
              <a:off x="4114800" y="31240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114800" y="31240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276720" y="3276360"/>
            <a:ext cx="75960" cy="76320"/>
            <a:chOff x="3276720" y="3276360"/>
            <a:chExt cx="75960" cy="76320"/>
          </a:xfrm>
        </p:grpSpPr>
        <p:sp>
          <p:nvSpPr>
            <p:cNvPr id="302" name=""/>
            <p:cNvSpPr/>
            <p:nvPr/>
          </p:nvSpPr>
          <p:spPr>
            <a:xfrm>
              <a:off x="3276720" y="32767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276720" y="32763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733920" y="2133360"/>
            <a:ext cx="75960" cy="76320"/>
            <a:chOff x="3733920" y="2133360"/>
            <a:chExt cx="75960" cy="76320"/>
          </a:xfrm>
        </p:grpSpPr>
        <p:sp>
          <p:nvSpPr>
            <p:cNvPr id="305" name=""/>
            <p:cNvSpPr/>
            <p:nvPr/>
          </p:nvSpPr>
          <p:spPr>
            <a:xfrm>
              <a:off x="3733920" y="21337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733920" y="21333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191120" y="2209680"/>
            <a:ext cx="75960" cy="76320"/>
            <a:chOff x="4191120" y="2209680"/>
            <a:chExt cx="75960" cy="76320"/>
          </a:xfrm>
        </p:grpSpPr>
        <p:sp>
          <p:nvSpPr>
            <p:cNvPr id="308" name=""/>
            <p:cNvSpPr/>
            <p:nvPr/>
          </p:nvSpPr>
          <p:spPr>
            <a:xfrm>
              <a:off x="4191120" y="2209680"/>
              <a:ext cx="759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191120" y="2209680"/>
              <a:ext cx="759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514600" y="2742840"/>
            <a:ext cx="1676520" cy="1219320"/>
            <a:chOff x="2514600" y="2742840"/>
            <a:chExt cx="1676520" cy="1219320"/>
          </a:xfrm>
        </p:grpSpPr>
        <p:grpSp>
          <p:nvGrpSpPr>
            <p:cNvPr id="311" name=""/>
            <p:cNvGrpSpPr/>
            <p:nvPr/>
          </p:nvGrpSpPr>
          <p:grpSpPr>
            <a:xfrm>
              <a:off x="3505320" y="3276360"/>
              <a:ext cx="75960" cy="76320"/>
              <a:chOff x="3505320" y="3276360"/>
              <a:chExt cx="75960" cy="76320"/>
            </a:xfrm>
          </p:grpSpPr>
          <p:sp>
            <p:nvSpPr>
              <p:cNvPr id="312" name=""/>
              <p:cNvSpPr/>
              <p:nvPr/>
            </p:nvSpPr>
            <p:spPr>
              <a:xfrm flipV="1">
                <a:off x="3505320" y="3276360"/>
                <a:ext cx="7596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5320" y="3276360"/>
                <a:ext cx="7596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819520" y="3657240"/>
              <a:ext cx="75960" cy="76320"/>
              <a:chOff x="2819520" y="3657240"/>
              <a:chExt cx="75960" cy="7632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2819520" y="3657240"/>
                <a:ext cx="7596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19520" y="3657240"/>
                <a:ext cx="7596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514600" y="3200040"/>
              <a:ext cx="76320" cy="76320"/>
              <a:chOff x="2514600" y="3200040"/>
              <a:chExt cx="76320" cy="76320"/>
            </a:xfrm>
          </p:grpSpPr>
          <p:sp>
            <p:nvSpPr>
              <p:cNvPr id="318" name=""/>
              <p:cNvSpPr/>
              <p:nvPr/>
            </p:nvSpPr>
            <p:spPr>
              <a:xfrm flipV="1">
                <a:off x="2514600" y="3200040"/>
                <a:ext cx="7632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514600" y="3200040"/>
                <a:ext cx="7632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352680" y="3809880"/>
              <a:ext cx="76320" cy="76320"/>
              <a:chOff x="3352680" y="3809880"/>
              <a:chExt cx="76320" cy="76320"/>
            </a:xfrm>
          </p:grpSpPr>
          <p:sp>
            <p:nvSpPr>
              <p:cNvPr id="321" name=""/>
              <p:cNvSpPr/>
              <p:nvPr/>
            </p:nvSpPr>
            <p:spPr>
              <a:xfrm flipV="1">
                <a:off x="3352680" y="380988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352680" y="381024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038480" y="2895480"/>
              <a:ext cx="76320" cy="76320"/>
              <a:chOff x="4038480" y="2895480"/>
              <a:chExt cx="76320" cy="76320"/>
            </a:xfrm>
          </p:grpSpPr>
          <p:sp>
            <p:nvSpPr>
              <p:cNvPr id="324" name=""/>
              <p:cNvSpPr/>
              <p:nvPr/>
            </p:nvSpPr>
            <p:spPr>
              <a:xfrm flipV="1">
                <a:off x="4038480" y="289548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038480" y="289584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3200400" y="2742840"/>
              <a:ext cx="76320" cy="76320"/>
              <a:chOff x="3200400" y="2742840"/>
              <a:chExt cx="76320" cy="76320"/>
            </a:xfrm>
          </p:grpSpPr>
          <p:sp>
            <p:nvSpPr>
              <p:cNvPr id="327" name=""/>
              <p:cNvSpPr/>
              <p:nvPr/>
            </p:nvSpPr>
            <p:spPr>
              <a:xfrm flipV="1">
                <a:off x="3200400" y="2742840"/>
                <a:ext cx="7632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200400" y="2742840"/>
                <a:ext cx="7632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657600" y="3885840"/>
              <a:ext cx="76320" cy="76320"/>
              <a:chOff x="3657600" y="3885840"/>
              <a:chExt cx="76320" cy="76320"/>
            </a:xfrm>
          </p:grpSpPr>
          <p:sp>
            <p:nvSpPr>
              <p:cNvPr id="330" name=""/>
              <p:cNvSpPr/>
              <p:nvPr/>
            </p:nvSpPr>
            <p:spPr>
              <a:xfrm flipV="1">
                <a:off x="3657600" y="3885840"/>
                <a:ext cx="7632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57600" y="3885840"/>
                <a:ext cx="7632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4114800" y="3809880"/>
              <a:ext cx="76320" cy="76320"/>
              <a:chOff x="4114800" y="3809880"/>
              <a:chExt cx="76320" cy="76320"/>
            </a:xfrm>
          </p:grpSpPr>
          <p:sp>
            <p:nvSpPr>
              <p:cNvPr id="333" name=""/>
              <p:cNvSpPr/>
              <p:nvPr/>
            </p:nvSpPr>
            <p:spPr>
              <a:xfrm flipV="1">
                <a:off x="4114800" y="380988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14800" y="381024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3962880" y="1752120"/>
            <a:ext cx="1980360" cy="1219320"/>
            <a:chOff x="3962880" y="1752120"/>
            <a:chExt cx="1980360" cy="1219320"/>
          </a:xfrm>
        </p:grpSpPr>
        <p:grpSp>
          <p:nvGrpSpPr>
            <p:cNvPr id="336" name=""/>
            <p:cNvGrpSpPr/>
            <p:nvPr/>
          </p:nvGrpSpPr>
          <p:grpSpPr>
            <a:xfrm>
              <a:off x="4683240" y="2361960"/>
              <a:ext cx="89640" cy="76320"/>
              <a:chOff x="4683240" y="2361960"/>
              <a:chExt cx="89640" cy="76320"/>
            </a:xfrm>
          </p:grpSpPr>
          <p:sp>
            <p:nvSpPr>
              <p:cNvPr id="337" name=""/>
              <p:cNvSpPr/>
              <p:nvPr/>
            </p:nvSpPr>
            <p:spPr>
              <a:xfrm flipH="1">
                <a:off x="4683240" y="2361960"/>
                <a:ext cx="8964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flipV="1">
                <a:off x="4683240" y="2361960"/>
                <a:ext cx="8964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5493600" y="1980720"/>
              <a:ext cx="89640" cy="76320"/>
              <a:chOff x="5493600" y="1980720"/>
              <a:chExt cx="89640" cy="763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5493600" y="198108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5493600" y="198072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853600" y="2437920"/>
              <a:ext cx="89640" cy="76320"/>
              <a:chOff x="5853600" y="2437920"/>
              <a:chExt cx="89640" cy="76320"/>
            </a:xfrm>
          </p:grpSpPr>
          <p:sp>
            <p:nvSpPr>
              <p:cNvPr id="343" name=""/>
              <p:cNvSpPr/>
              <p:nvPr/>
            </p:nvSpPr>
            <p:spPr>
              <a:xfrm flipH="1">
                <a:off x="5853600" y="243828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>
                <a:off x="5853600" y="243792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4863240" y="1828440"/>
              <a:ext cx="89280" cy="76320"/>
              <a:chOff x="4863240" y="1828440"/>
              <a:chExt cx="89280" cy="76320"/>
            </a:xfrm>
          </p:grpSpPr>
          <p:sp>
            <p:nvSpPr>
              <p:cNvPr id="346" name=""/>
              <p:cNvSpPr/>
              <p:nvPr/>
            </p:nvSpPr>
            <p:spPr>
              <a:xfrm flipH="1">
                <a:off x="4863240" y="1828440"/>
                <a:ext cx="8928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4863240" y="1828440"/>
                <a:ext cx="8928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4053240" y="2742840"/>
              <a:ext cx="89280" cy="76320"/>
              <a:chOff x="4053240" y="2742840"/>
              <a:chExt cx="89280" cy="76320"/>
            </a:xfrm>
          </p:grpSpPr>
          <p:sp>
            <p:nvSpPr>
              <p:cNvPr id="349" name=""/>
              <p:cNvSpPr/>
              <p:nvPr/>
            </p:nvSpPr>
            <p:spPr>
              <a:xfrm flipH="1">
                <a:off x="4053240" y="2742840"/>
                <a:ext cx="8928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4053240" y="2742840"/>
                <a:ext cx="8928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5043600" y="2895120"/>
              <a:ext cx="89640" cy="76320"/>
              <a:chOff x="5043600" y="2895120"/>
              <a:chExt cx="89640" cy="76320"/>
            </a:xfrm>
          </p:grpSpPr>
          <p:sp>
            <p:nvSpPr>
              <p:cNvPr id="352" name=""/>
              <p:cNvSpPr/>
              <p:nvPr/>
            </p:nvSpPr>
            <p:spPr>
              <a:xfrm flipH="1">
                <a:off x="5043600" y="289548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flipV="1">
                <a:off x="5043600" y="289512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4503240" y="1752120"/>
              <a:ext cx="89640" cy="76320"/>
              <a:chOff x="4503240" y="1752120"/>
              <a:chExt cx="89640" cy="7632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4503240" y="175248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>
                <a:off x="4503240" y="175212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962880" y="1828440"/>
              <a:ext cx="89640" cy="76320"/>
              <a:chOff x="3962880" y="1828440"/>
              <a:chExt cx="89640" cy="76320"/>
            </a:xfrm>
          </p:grpSpPr>
          <p:sp>
            <p:nvSpPr>
              <p:cNvPr id="358" name=""/>
              <p:cNvSpPr/>
              <p:nvPr/>
            </p:nvSpPr>
            <p:spPr>
              <a:xfrm flipH="1">
                <a:off x="3962880" y="1828440"/>
                <a:ext cx="8964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flipV="1">
                <a:off x="3962880" y="1828440"/>
                <a:ext cx="8964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 flipV="1">
            <a:off x="2057400" y="1523520"/>
            <a:ext cx="3809880" cy="25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3200040" y="2742840"/>
            <a:ext cx="27612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3429000" y="2209680"/>
            <a:ext cx="409680" cy="6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57600" y="30481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7:48:47Z</dcterms:created>
  <dc:creator>dupre</dc:creator>
  <dc:description/>
  <dc:language>en-US</dc:language>
  <cp:lastModifiedBy>dupre</cp:lastModifiedBy>
  <dcterms:modified xsi:type="dcterms:W3CDTF">2002-03-19T13:26:53Z</dcterms:modified>
  <cp:revision>4</cp:revision>
  <dc:subject/>
  <dc:title>PowerPoint Presentation</dc:title>
</cp:coreProperties>
</file>