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51EE-5011-4E83-BF7F-66562D552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17F9-BFF7-4ED7-94E0-3A2C8AE5B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D2C6-A292-4154-883C-60F7CFFEB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B437-8B6A-419F-AED7-B5341ECB2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BBDE-B86B-4B69-A376-530047AAC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6B4F-AE3F-42FF-A5DD-06D8D051C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5DDA-F060-4A39-8C77-A6DAD8E86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8C21-ACFF-489E-B7E8-802CCFF3E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2D6F-9AA1-47D3-AF49-833287E4D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374D-05A2-4747-9533-9AE96B23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73F7-B4D5-4D7C-8BCF-853EF382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90BA-9ABC-4989-B48F-85381F1DB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18F9C-CB8F-489B-A298-909042F9D4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971800" y="2209680"/>
            <a:ext cx="2590920" cy="1983600"/>
            <a:chOff x="2971800" y="2209680"/>
            <a:chExt cx="2590920" cy="1983600"/>
          </a:xfrm>
        </p:grpSpPr>
        <p:grpSp>
          <p:nvGrpSpPr>
            <p:cNvPr id="42" name=""/>
            <p:cNvGrpSpPr/>
            <p:nvPr/>
          </p:nvGrpSpPr>
          <p:grpSpPr>
            <a:xfrm>
              <a:off x="2971800" y="2209680"/>
              <a:ext cx="2590920" cy="1905120"/>
              <a:chOff x="2971800" y="2209680"/>
              <a:chExt cx="2590920" cy="1905120"/>
            </a:xfrm>
          </p:grpSpPr>
          <p:sp>
            <p:nvSpPr>
              <p:cNvPr id="43" name=""/>
              <p:cNvSpPr/>
              <p:nvPr/>
            </p:nvSpPr>
            <p:spPr>
              <a:xfrm>
                <a:off x="4648320" y="2819520"/>
                <a:ext cx="914400" cy="8380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5105520" y="2819520"/>
                <a:ext cx="0" cy="838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4724280" y="3124080"/>
                <a:ext cx="381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5181480" y="3124080"/>
                <a:ext cx="304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flipH="1" flipV="1">
                <a:off x="3429000" y="2438280"/>
                <a:ext cx="1295280" cy="533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flipH="1">
                <a:off x="3428640" y="3200400"/>
                <a:ext cx="1219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flipH="1">
                <a:off x="3429000" y="3505320"/>
                <a:ext cx="1295280" cy="380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flipH="1">
                <a:off x="3428640" y="3352680"/>
                <a:ext cx="12193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flipH="1" flipV="1">
                <a:off x="3428640" y="2895480"/>
                <a:ext cx="1219320" cy="152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2971800" y="3657600"/>
                <a:ext cx="457200" cy="457200"/>
                <a:chOff x="2971800" y="3657600"/>
                <a:chExt cx="457200" cy="45720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2971800" y="3657600"/>
                  <a:ext cx="457200" cy="45720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3047760" y="3733920"/>
                  <a:ext cx="38124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4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r>
                    <a:rPr b="0" lang="fr-FR" sz="1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" name=""/>
              <p:cNvSpPr/>
              <p:nvPr/>
            </p:nvSpPr>
            <p:spPr>
              <a:xfrm>
                <a:off x="2971800" y="2971800"/>
                <a:ext cx="45720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3048120" y="3048120"/>
                <a:ext cx="3808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" name=""/>
              <p:cNvGrpSpPr/>
              <p:nvPr/>
            </p:nvGrpSpPr>
            <p:grpSpPr>
              <a:xfrm>
                <a:off x="2971800" y="2209680"/>
                <a:ext cx="457200" cy="457200"/>
                <a:chOff x="2971800" y="2209680"/>
                <a:chExt cx="457200" cy="45720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2971800" y="2209680"/>
                  <a:ext cx="457200" cy="45720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3047760" y="2286000"/>
                  <a:ext cx="38124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r>
                    <a:rPr b="0" lang="en-US" sz="1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0" name=""/>
            <p:cNvSpPr/>
            <p:nvPr/>
          </p:nvSpPr>
          <p:spPr>
            <a:xfrm>
              <a:off x="3810240" y="365760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10240" y="312408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810240" y="236232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953240" y="3505320"/>
              <a:ext cx="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800600" y="3886200"/>
              <a:ext cx="381240" cy="307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2514600" y="1600200"/>
            <a:ext cx="3809880" cy="2514600"/>
            <a:chOff x="2514600" y="1600200"/>
            <a:chExt cx="3809880" cy="2514600"/>
          </a:xfrm>
        </p:grpSpPr>
        <p:grpSp>
          <p:nvGrpSpPr>
            <p:cNvPr id="66" name=""/>
            <p:cNvGrpSpPr/>
            <p:nvPr/>
          </p:nvGrpSpPr>
          <p:grpSpPr>
            <a:xfrm>
              <a:off x="2514600" y="1600200"/>
              <a:ext cx="3581280" cy="2514600"/>
              <a:chOff x="2514600" y="1600200"/>
              <a:chExt cx="3581280" cy="2514600"/>
            </a:xfrm>
          </p:grpSpPr>
          <p:sp>
            <p:nvSpPr>
              <p:cNvPr id="67" name=""/>
              <p:cNvSpPr/>
              <p:nvPr/>
            </p:nvSpPr>
            <p:spPr>
              <a:xfrm>
                <a:off x="4038480" y="1600200"/>
                <a:ext cx="53352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038480" y="2590920"/>
                <a:ext cx="53352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038480" y="3581280"/>
                <a:ext cx="53352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514600" y="1600200"/>
                <a:ext cx="53352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514600" y="2590920"/>
                <a:ext cx="53352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514600" y="3581280"/>
                <a:ext cx="53352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562720" y="1600200"/>
                <a:ext cx="53316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562720" y="2590920"/>
                <a:ext cx="53316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562720" y="3581280"/>
                <a:ext cx="53316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" name=""/>
              <p:cNvGrpSpPr/>
              <p:nvPr/>
            </p:nvGrpSpPr>
            <p:grpSpPr>
              <a:xfrm>
                <a:off x="3047760" y="1828440"/>
                <a:ext cx="990720" cy="2057760"/>
                <a:chOff x="3047760" y="1828440"/>
                <a:chExt cx="990720" cy="2057760"/>
              </a:xfrm>
            </p:grpSpPr>
            <p:sp>
              <p:nvSpPr>
                <p:cNvPr id="77" name=""/>
                <p:cNvSpPr/>
                <p:nvPr/>
              </p:nvSpPr>
              <p:spPr>
                <a:xfrm flipH="1">
                  <a:off x="3047760" y="1904760"/>
                  <a:ext cx="990360" cy="1981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3048120" y="1828800"/>
                  <a:ext cx="990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3048120" y="1828800"/>
                  <a:ext cx="990360" cy="198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3048120" y="3886200"/>
                  <a:ext cx="990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3048120" y="2819160"/>
                  <a:ext cx="990360" cy="1067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 flipV="1">
                  <a:off x="3048120" y="2895480"/>
                  <a:ext cx="990360" cy="990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3048120" y="2819160"/>
                  <a:ext cx="990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3048120" y="1904760"/>
                  <a:ext cx="990360" cy="914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flipV="1">
                  <a:off x="3048120" y="1828440"/>
                  <a:ext cx="990360" cy="990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4572000" y="1828440"/>
                <a:ext cx="990720" cy="2057760"/>
                <a:chOff x="4572000" y="1828440"/>
                <a:chExt cx="990720" cy="2057760"/>
              </a:xfrm>
            </p:grpSpPr>
            <p:sp>
              <p:nvSpPr>
                <p:cNvPr id="87" name=""/>
                <p:cNvSpPr/>
                <p:nvPr/>
              </p:nvSpPr>
              <p:spPr>
                <a:xfrm flipH="1">
                  <a:off x="4572000" y="1904760"/>
                  <a:ext cx="990720" cy="1981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4572000" y="1828800"/>
                  <a:ext cx="9907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4572000" y="1828800"/>
                  <a:ext cx="990720" cy="198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4572000" y="3886200"/>
                  <a:ext cx="9907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4572000" y="2819160"/>
                  <a:ext cx="990720" cy="1067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 flipV="1">
                  <a:off x="4572000" y="2895480"/>
                  <a:ext cx="990720" cy="990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4572000" y="2819160"/>
                  <a:ext cx="9907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572000" y="1904760"/>
                  <a:ext cx="990720" cy="914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 flipV="1">
                  <a:off x="4572000" y="1828440"/>
                  <a:ext cx="990720" cy="990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6" name=""/>
            <p:cNvSpPr/>
            <p:nvPr/>
          </p:nvSpPr>
          <p:spPr>
            <a:xfrm>
              <a:off x="2590920" y="175248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590920" y="274320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590920" y="373392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114800" y="3657600"/>
              <a:ext cx="609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,N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038480" y="2666880"/>
              <a:ext cx="685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,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114800" y="1676520"/>
              <a:ext cx="685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,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62720" y="1676520"/>
              <a:ext cx="685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,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638680" y="2666880"/>
              <a:ext cx="685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,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638680" y="3657600"/>
              <a:ext cx="685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,N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2514600" y="1600200"/>
            <a:ext cx="3809880" cy="2514600"/>
            <a:chOff x="2514600" y="1600200"/>
            <a:chExt cx="3809880" cy="2514600"/>
          </a:xfrm>
        </p:grpSpPr>
        <p:sp>
          <p:nvSpPr>
            <p:cNvPr id="106" name=""/>
            <p:cNvSpPr/>
            <p:nvPr/>
          </p:nvSpPr>
          <p:spPr>
            <a:xfrm>
              <a:off x="4038480" y="2133720"/>
              <a:ext cx="533520" cy="533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038480" y="2895480"/>
              <a:ext cx="53352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514600" y="1600200"/>
              <a:ext cx="53352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514600" y="2590920"/>
              <a:ext cx="533520" cy="533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14600" y="3581280"/>
              <a:ext cx="53352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562720" y="1600200"/>
              <a:ext cx="53316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562720" y="2590920"/>
              <a:ext cx="533160" cy="533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562720" y="3581280"/>
              <a:ext cx="53316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3047760" y="2362320"/>
              <a:ext cx="990360" cy="1523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048120" y="1828800"/>
              <a:ext cx="99036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48120" y="1828800"/>
              <a:ext cx="990360" cy="1371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3048120" y="3200040"/>
              <a:ext cx="99036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4572000" y="1905120"/>
              <a:ext cx="990720" cy="1295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4572000" y="1828800"/>
              <a:ext cx="99072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72000" y="2362320"/>
              <a:ext cx="990720" cy="144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572000" y="3200400"/>
              <a:ext cx="99072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590920" y="175248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90920" y="274320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590920" y="373392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14800" y="2971800"/>
              <a:ext cx="609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,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114800" y="2209680"/>
              <a:ext cx="685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,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562720" y="1676520"/>
              <a:ext cx="685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,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638680" y="2666880"/>
              <a:ext cx="685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,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638680" y="3657600"/>
              <a:ext cx="685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,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048120" y="2819520"/>
              <a:ext cx="99036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3048120" y="2362320"/>
              <a:ext cx="99036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4572000" y="2819520"/>
              <a:ext cx="99072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 flipV="1">
              <a:off x="4572000" y="2362320"/>
              <a:ext cx="99072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"/>
          <p:cNvGrpSpPr/>
          <p:nvPr/>
        </p:nvGrpSpPr>
        <p:grpSpPr>
          <a:xfrm>
            <a:off x="2438280" y="533520"/>
            <a:ext cx="3810240" cy="2514600"/>
            <a:chOff x="2438280" y="533520"/>
            <a:chExt cx="3810240" cy="2514600"/>
          </a:xfrm>
        </p:grpSpPr>
        <p:grpSp>
          <p:nvGrpSpPr>
            <p:cNvPr id="135" name=""/>
            <p:cNvGrpSpPr/>
            <p:nvPr/>
          </p:nvGrpSpPr>
          <p:grpSpPr>
            <a:xfrm>
              <a:off x="2438280" y="533520"/>
              <a:ext cx="3581280" cy="2514600"/>
              <a:chOff x="2438280" y="533520"/>
              <a:chExt cx="3581280" cy="2514600"/>
            </a:xfrm>
          </p:grpSpPr>
          <p:sp>
            <p:nvSpPr>
              <p:cNvPr id="136" name=""/>
              <p:cNvSpPr/>
              <p:nvPr/>
            </p:nvSpPr>
            <p:spPr>
              <a:xfrm>
                <a:off x="3962160" y="533520"/>
                <a:ext cx="53352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962160" y="1524240"/>
                <a:ext cx="53352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962160" y="2514600"/>
                <a:ext cx="53352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438280" y="533520"/>
                <a:ext cx="53352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438280" y="1524240"/>
                <a:ext cx="53352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438280" y="2514600"/>
                <a:ext cx="53352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6400" y="533520"/>
                <a:ext cx="53316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486400" y="1524240"/>
                <a:ext cx="53316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486400" y="2514600"/>
                <a:ext cx="53316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2971440" y="761760"/>
                <a:ext cx="990720" cy="2057760"/>
                <a:chOff x="2971440" y="761760"/>
                <a:chExt cx="990720" cy="2057760"/>
              </a:xfrm>
            </p:grpSpPr>
            <p:sp>
              <p:nvSpPr>
                <p:cNvPr id="146" name=""/>
                <p:cNvSpPr/>
                <p:nvPr/>
              </p:nvSpPr>
              <p:spPr>
                <a:xfrm flipH="1">
                  <a:off x="2971440" y="838080"/>
                  <a:ext cx="990360" cy="1981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2971800" y="762120"/>
                  <a:ext cx="990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971800" y="762120"/>
                  <a:ext cx="990360" cy="198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2971800" y="2819520"/>
                  <a:ext cx="990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2971800" y="1752480"/>
                  <a:ext cx="990360" cy="1067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V="1">
                  <a:off x="2971800" y="1828800"/>
                  <a:ext cx="990360" cy="990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2971800" y="1752480"/>
                  <a:ext cx="990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2971800" y="838080"/>
                  <a:ext cx="990360" cy="914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flipV="1">
                  <a:off x="2971800" y="761760"/>
                  <a:ext cx="990360" cy="990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4495680" y="761760"/>
                <a:ext cx="990720" cy="2057760"/>
                <a:chOff x="4495680" y="761760"/>
                <a:chExt cx="990720" cy="2057760"/>
              </a:xfrm>
            </p:grpSpPr>
            <p:sp>
              <p:nvSpPr>
                <p:cNvPr id="156" name=""/>
                <p:cNvSpPr/>
                <p:nvPr/>
              </p:nvSpPr>
              <p:spPr>
                <a:xfrm flipH="1">
                  <a:off x="4495680" y="838080"/>
                  <a:ext cx="990720" cy="1981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4495680" y="762120"/>
                  <a:ext cx="9907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495680" y="762120"/>
                  <a:ext cx="990720" cy="198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4495680" y="2819520"/>
                  <a:ext cx="9907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4495680" y="1752480"/>
                  <a:ext cx="990720" cy="1067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V="1">
                  <a:off x="4495680" y="1828800"/>
                  <a:ext cx="990720" cy="990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4495680" y="1752480"/>
                  <a:ext cx="9907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4495680" y="838080"/>
                  <a:ext cx="990720" cy="914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 flipV="1">
                  <a:off x="4495680" y="761760"/>
                  <a:ext cx="990720" cy="990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5" name=""/>
            <p:cNvSpPr/>
            <p:nvPr/>
          </p:nvSpPr>
          <p:spPr>
            <a:xfrm>
              <a:off x="2514600" y="68580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514600" y="167652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514600" y="266688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038480" y="2590920"/>
              <a:ext cx="609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,N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62520" y="1600200"/>
              <a:ext cx="685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,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038480" y="609480"/>
              <a:ext cx="685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,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486400" y="609480"/>
              <a:ext cx="685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,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562720" y="1600200"/>
              <a:ext cx="685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,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562720" y="2590920"/>
              <a:ext cx="685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,N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74" name=""/>
          <p:cNvGraphicFramePr/>
          <p:nvPr/>
        </p:nvGraphicFramePr>
        <p:xfrm>
          <a:off x="6858000" y="1143000"/>
          <a:ext cx="1752480" cy="164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0" y="1143000"/>
                    <a:ext cx="1752480" cy="16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3657600" y="304920"/>
            <a:ext cx="1143000" cy="297180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181480" y="304920"/>
            <a:ext cx="1143000" cy="297180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2895480" y="3886200"/>
          <a:ext cx="2743200" cy="14986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95480" y="3886200"/>
                    <a:ext cx="274320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4191120" y="327672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324480" y="19810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14600" y="342900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fonction de transfert, couche caché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16200000">
            <a:off x="5065200" y="1864080"/>
            <a:ext cx="31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fonction de tranfert, couche de sort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838080" y="2666880"/>
            <a:ext cx="144792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vec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" name=""/>
          <p:cNvCxnSpPr>
            <a:stCxn id="184" idx="0"/>
            <a:endCxn id="186" idx="3"/>
          </p:cNvCxnSpPr>
          <p:nvPr/>
        </p:nvCxnSpPr>
        <p:spPr>
          <a:xfrm flipV="1">
            <a:off x="1561680" y="2114280"/>
            <a:ext cx="537480" cy="5529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7" name=""/>
          <p:cNvSpPr/>
          <p:nvPr/>
        </p:nvSpPr>
        <p:spPr>
          <a:xfrm>
            <a:off x="3733920" y="2666880"/>
            <a:ext cx="144756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vec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d&lt;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705720" y="2666880"/>
            <a:ext cx="144756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vec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05120" y="762120"/>
            <a:ext cx="21333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remière couche du réseau diabolo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projection (ou compress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52480" y="609480"/>
            <a:ext cx="2362320" cy="17528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0" name=""/>
          <p:cNvCxnSpPr>
            <a:stCxn id="186" idx="5"/>
            <a:endCxn id="187" idx="0"/>
          </p:cNvCxnSpPr>
          <p:nvPr/>
        </p:nvCxnSpPr>
        <p:spPr>
          <a:xfrm>
            <a:off x="3768840" y="2114640"/>
            <a:ext cx="689760" cy="5529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1" name=""/>
          <p:cNvSpPr/>
          <p:nvPr/>
        </p:nvSpPr>
        <p:spPr>
          <a:xfrm>
            <a:off x="4876920" y="838080"/>
            <a:ext cx="21333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econde couche du réseau diabolo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reconstit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724280" y="685800"/>
            <a:ext cx="2362320" cy="1371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"/>
          <p:cNvCxnSpPr>
            <a:stCxn id="192" idx="5"/>
            <a:endCxn id="188" idx="0"/>
          </p:cNvCxnSpPr>
          <p:nvPr/>
        </p:nvCxnSpPr>
        <p:spPr>
          <a:xfrm>
            <a:off x="6740640" y="1864800"/>
            <a:ext cx="689760" cy="802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4" name=""/>
          <p:cNvCxnSpPr>
            <a:stCxn id="187" idx="0"/>
            <a:endCxn id="192" idx="3"/>
          </p:cNvCxnSpPr>
          <p:nvPr/>
        </p:nvCxnSpPr>
        <p:spPr>
          <a:xfrm flipV="1">
            <a:off x="4457880" y="1864440"/>
            <a:ext cx="613440" cy="802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429000" y="617220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990720" y="1143000"/>
            <a:ext cx="7391160" cy="5181480"/>
            <a:chOff x="990720" y="1143000"/>
            <a:chExt cx="7391160" cy="5181480"/>
          </a:xfrm>
        </p:grpSpPr>
        <p:grpSp>
          <p:nvGrpSpPr>
            <p:cNvPr id="197" name=""/>
            <p:cNvGrpSpPr/>
            <p:nvPr/>
          </p:nvGrpSpPr>
          <p:grpSpPr>
            <a:xfrm>
              <a:off x="1752480" y="1447920"/>
              <a:ext cx="5486400" cy="2450520"/>
              <a:chOff x="1752480" y="1447920"/>
              <a:chExt cx="5486400" cy="2450520"/>
            </a:xfrm>
          </p:grpSpPr>
          <p:sp>
            <p:nvSpPr>
              <p:cNvPr id="198" name=""/>
              <p:cNvSpPr/>
              <p:nvPr/>
            </p:nvSpPr>
            <p:spPr>
              <a:xfrm>
                <a:off x="2057400" y="2514240"/>
                <a:ext cx="4495680" cy="1384200"/>
              </a:xfrm>
              <a:custGeom>
                <a:avLst/>
                <a:gdLst/>
                <a:ahLst/>
                <a:rect l="l" t="t" r="r" b="b"/>
                <a:pathLst>
                  <a:path w="1824" h="632">
                    <a:moveTo>
                      <a:pt x="0" y="632"/>
                    </a:moveTo>
                    <a:cubicBezTo>
                      <a:pt x="80" y="420"/>
                      <a:pt x="160" y="208"/>
                      <a:pt x="288" y="104"/>
                    </a:cubicBezTo>
                    <a:cubicBezTo>
                      <a:pt x="416" y="0"/>
                      <a:pt x="600" y="0"/>
                      <a:pt x="768" y="8"/>
                    </a:cubicBezTo>
                    <a:cubicBezTo>
                      <a:pt x="936" y="16"/>
                      <a:pt x="1184" y="72"/>
                      <a:pt x="1296" y="152"/>
                    </a:cubicBezTo>
                    <a:cubicBezTo>
                      <a:pt x="1408" y="232"/>
                      <a:pt x="1352" y="416"/>
                      <a:pt x="1440" y="488"/>
                    </a:cubicBezTo>
                    <a:cubicBezTo>
                      <a:pt x="1528" y="560"/>
                      <a:pt x="1676" y="572"/>
                      <a:pt x="1824" y="584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752480" y="3885840"/>
                <a:ext cx="5486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553080" y="3809880"/>
                <a:ext cx="533520" cy="75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V="1">
                <a:off x="1752480" y="1447920"/>
                <a:ext cx="0" cy="2437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7086600" y="411480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990720" y="11430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(x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057400" y="3886200"/>
              <a:ext cx="0" cy="243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010280" y="3886200"/>
              <a:ext cx="0" cy="236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057400" y="6172200"/>
              <a:ext cx="495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286000" y="3429000"/>
              <a:ext cx="320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514600" y="3048120"/>
              <a:ext cx="289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895480" y="266688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1447920" y="3048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447920" y="3429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447920" y="2666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137124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79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1447920" y="38862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1447560" y="26668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1752480" y="251460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2057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06668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066680" y="2971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66680" y="3352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438280" y="3048120"/>
            <a:ext cx="0" cy="2133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10080" y="3048120"/>
            <a:ext cx="0" cy="2133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510552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429000" y="46483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981080" y="3429000"/>
            <a:ext cx="5105520" cy="457200"/>
          </a:xfrm>
          <a:custGeom>
            <a:avLst/>
            <a:gdLst/>
            <a:ahLst/>
            <a:rect l="l" t="t" r="r" b="b"/>
            <a:pathLst>
              <a:path w="3216" h="288">
                <a:moveTo>
                  <a:pt x="0" y="288"/>
                </a:moveTo>
                <a:lnTo>
                  <a:pt x="144" y="0"/>
                </a:lnTo>
                <a:lnTo>
                  <a:pt x="3072" y="0"/>
                </a:lnTo>
                <a:lnTo>
                  <a:pt x="3216" y="288"/>
                </a:lnTo>
              </a:path>
            </a:pathLst>
          </a:custGeom>
          <a:solidFill>
            <a:srgbClr val="ccecff">
              <a:alpha val="50000"/>
            </a:srgbClr>
          </a:solidFill>
          <a:ln w="38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86000" y="3048120"/>
            <a:ext cx="3276720" cy="380880"/>
          </a:xfrm>
          <a:custGeom>
            <a:avLst/>
            <a:gdLst/>
            <a:ahLst/>
            <a:rect l="l" t="t" r="r" b="b"/>
            <a:pathLst>
              <a:path w="3216" h="288">
                <a:moveTo>
                  <a:pt x="0" y="288"/>
                </a:moveTo>
                <a:lnTo>
                  <a:pt x="144" y="0"/>
                </a:lnTo>
                <a:lnTo>
                  <a:pt x="3072" y="0"/>
                </a:lnTo>
                <a:lnTo>
                  <a:pt x="3216" y="288"/>
                </a:lnTo>
              </a:path>
            </a:pathLst>
          </a:custGeom>
          <a:solidFill>
            <a:srgbClr val="ccecff">
              <a:alpha val="50000"/>
            </a:srgbClr>
          </a:solidFill>
          <a:ln w="38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438280" y="2666880"/>
            <a:ext cx="2971800" cy="381240"/>
          </a:xfrm>
          <a:custGeom>
            <a:avLst/>
            <a:gdLst/>
            <a:ahLst/>
            <a:rect l="l" t="t" r="r" b="b"/>
            <a:pathLst>
              <a:path w="3216" h="288">
                <a:moveTo>
                  <a:pt x="0" y="288"/>
                </a:moveTo>
                <a:lnTo>
                  <a:pt x="144" y="0"/>
                </a:lnTo>
                <a:lnTo>
                  <a:pt x="3072" y="0"/>
                </a:lnTo>
                <a:lnTo>
                  <a:pt x="3216" y="288"/>
                </a:lnTo>
              </a:path>
            </a:pathLst>
          </a:custGeom>
          <a:solidFill>
            <a:srgbClr val="ccecff">
              <a:alpha val="50000"/>
            </a:srgbClr>
          </a:solidFill>
          <a:ln w="38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819520" y="2286000"/>
            <a:ext cx="2057400" cy="380880"/>
          </a:xfrm>
          <a:custGeom>
            <a:avLst/>
            <a:gdLst/>
            <a:ahLst/>
            <a:rect l="l" t="t" r="r" b="b"/>
            <a:pathLst>
              <a:path w="3216" h="288">
                <a:moveTo>
                  <a:pt x="0" y="288"/>
                </a:moveTo>
                <a:lnTo>
                  <a:pt x="144" y="0"/>
                </a:lnTo>
                <a:lnTo>
                  <a:pt x="3072" y="0"/>
                </a:lnTo>
                <a:lnTo>
                  <a:pt x="3216" y="288"/>
                </a:lnTo>
              </a:path>
            </a:pathLst>
          </a:custGeom>
          <a:solidFill>
            <a:srgbClr val="ccecff">
              <a:alpha val="50000"/>
            </a:srgbClr>
          </a:solidFill>
          <a:ln w="38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4571640" y="1447920"/>
            <a:ext cx="228960" cy="837720"/>
            <a:chOff x="4571640" y="1447920"/>
            <a:chExt cx="228960" cy="837720"/>
          </a:xfrm>
        </p:grpSpPr>
        <p:sp>
          <p:nvSpPr>
            <p:cNvPr id="231" name=""/>
            <p:cNvSpPr/>
            <p:nvPr/>
          </p:nvSpPr>
          <p:spPr>
            <a:xfrm flipV="1">
              <a:off x="4800600" y="19807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 flipV="1">
              <a:off x="4571640" y="17521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4572000" y="14479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4876920" y="1447920"/>
            <a:ext cx="228240" cy="1218600"/>
            <a:chOff x="4876920" y="1447920"/>
            <a:chExt cx="228240" cy="1218600"/>
          </a:xfrm>
        </p:grpSpPr>
        <p:sp>
          <p:nvSpPr>
            <p:cNvPr id="235" name=""/>
            <p:cNvSpPr/>
            <p:nvPr/>
          </p:nvSpPr>
          <p:spPr>
            <a:xfrm flipV="1">
              <a:off x="4876920" y="19807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4876920" y="175212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5105160" y="14479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4572000" y="1523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24280" y="1143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5257800" y="3048120"/>
            <a:ext cx="2666880" cy="609480"/>
            <a:chOff x="5257800" y="3048120"/>
            <a:chExt cx="2666880" cy="609480"/>
          </a:xfrm>
        </p:grpSpPr>
        <p:sp>
          <p:nvSpPr>
            <p:cNvPr id="241" name=""/>
            <p:cNvSpPr/>
            <p:nvPr/>
          </p:nvSpPr>
          <p:spPr>
            <a:xfrm>
              <a:off x="5257800" y="335268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257800" y="342900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7238880" y="30481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238880" y="342900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43800" y="3048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543800" y="3657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7772400" y="3048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772400" y="3124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0" y="34290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486400" y="34290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286000" y="57913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962520" y="53341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2073240" y="838080"/>
            <a:ext cx="457200" cy="5335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073240" y="1828800"/>
            <a:ext cx="457200" cy="533520"/>
          </a:xfrm>
          <a:prstGeom prst="ellipse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073240" y="2819520"/>
            <a:ext cx="457200" cy="533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62120" y="838080"/>
            <a:ext cx="458640" cy="5335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62120" y="1828800"/>
            <a:ext cx="458640" cy="533520"/>
          </a:xfrm>
          <a:prstGeom prst="ellipse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62120" y="2819520"/>
            <a:ext cx="458640" cy="533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382920" y="838080"/>
            <a:ext cx="459000" cy="5335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382920" y="1828800"/>
            <a:ext cx="459000" cy="533520"/>
          </a:xfrm>
          <a:prstGeom prst="ellipse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382920" y="2819520"/>
            <a:ext cx="459000" cy="533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1220760" y="1143000"/>
            <a:ext cx="852480" cy="19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20760" y="1066680"/>
            <a:ext cx="8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220760" y="1066680"/>
            <a:ext cx="852480" cy="198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220760" y="3124080"/>
            <a:ext cx="8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20760" y="2057400"/>
            <a:ext cx="852480" cy="10666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1220760" y="2133360"/>
            <a:ext cx="852480" cy="9903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220760" y="2057400"/>
            <a:ext cx="8524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220760" y="1143000"/>
            <a:ext cx="852480" cy="9144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1220760" y="1066680"/>
            <a:ext cx="852480" cy="9907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2530440" y="1143000"/>
            <a:ext cx="852480" cy="19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530440" y="1066680"/>
            <a:ext cx="8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530440" y="1066680"/>
            <a:ext cx="852480" cy="198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530440" y="3124080"/>
            <a:ext cx="8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530440" y="2057400"/>
            <a:ext cx="852480" cy="10666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2530440" y="2133360"/>
            <a:ext cx="852480" cy="9903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530440" y="2057400"/>
            <a:ext cx="8524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530440" y="1143000"/>
            <a:ext cx="852480" cy="9144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2530440" y="1066680"/>
            <a:ext cx="852480" cy="9907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6920" y="990720"/>
            <a:ext cx="328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26920" y="1981080"/>
            <a:ext cx="328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26920" y="2971800"/>
            <a:ext cx="3286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fr-FR" sz="1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138400" y="2895480"/>
            <a:ext cx="523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,N</a:t>
            </a:r>
            <a:r>
              <a:rPr b="0" lang="en-US" sz="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73240" y="1905120"/>
            <a:ext cx="588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,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138400" y="914400"/>
            <a:ext cx="588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,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382920" y="914400"/>
            <a:ext cx="590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448080" y="1905120"/>
            <a:ext cx="5904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,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448080" y="2895480"/>
            <a:ext cx="5904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,N</a:t>
            </a:r>
            <a:r>
              <a:rPr b="0" lang="en-US" sz="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941480" y="609480"/>
            <a:ext cx="785880" cy="289584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200400" y="609480"/>
            <a:ext cx="787320" cy="289584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1219320" y="4114800"/>
          <a:ext cx="2562120" cy="1295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4114800"/>
                    <a:ext cx="256212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"/>
          <p:cNvSpPr/>
          <p:nvPr/>
        </p:nvSpPr>
        <p:spPr>
          <a:xfrm>
            <a:off x="2514600" y="350532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962520" y="205740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572000" y="990720"/>
          <a:ext cx="1781280" cy="1971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990720"/>
                    <a:ext cx="178128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"/>
          <p:cNvSpPr/>
          <p:nvPr/>
        </p:nvSpPr>
        <p:spPr>
          <a:xfrm>
            <a:off x="1523880" y="35812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nction de transf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3155760" y="18730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nction de transf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rot="16200000">
            <a:off x="5441760" y="202536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renormalis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324480" y="205740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097760" y="762120"/>
            <a:ext cx="458640" cy="533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97760" y="1752480"/>
            <a:ext cx="458640" cy="533520"/>
          </a:xfrm>
          <a:prstGeom prst="ellipse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097760" y="2743200"/>
            <a:ext cx="458640" cy="5335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097760" y="838080"/>
            <a:ext cx="5904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162920" y="1828800"/>
            <a:ext cx="5904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,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162920" y="2819520"/>
            <a:ext cx="5904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,N</a:t>
            </a:r>
            <a:r>
              <a:rPr b="0" lang="en-US" sz="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934320" y="609480"/>
            <a:ext cx="787320" cy="289584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477120" y="4038480"/>
            <a:ext cx="160020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,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315200" y="3505320"/>
            <a:ext cx="0" cy="533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0" name=""/>
          <p:cNvGraphicFramePr/>
          <p:nvPr/>
        </p:nvGraphicFramePr>
        <p:xfrm>
          <a:off x="1976400" y="1905120"/>
          <a:ext cx="5191200" cy="3047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6400" y="1905120"/>
                    <a:ext cx="519120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3962520" y="1447920"/>
            <a:ext cx="0" cy="2361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3124080" y="2133360"/>
            <a:ext cx="76320" cy="76320"/>
            <a:chOff x="3124080" y="2133360"/>
            <a:chExt cx="76320" cy="76320"/>
          </a:xfrm>
        </p:grpSpPr>
        <p:sp>
          <p:nvSpPr>
            <p:cNvPr id="314" name=""/>
            <p:cNvSpPr/>
            <p:nvPr/>
          </p:nvSpPr>
          <p:spPr>
            <a:xfrm>
              <a:off x="3124080" y="2133720"/>
              <a:ext cx="76320" cy="75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124080" y="2133360"/>
              <a:ext cx="76320" cy="75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3352680" y="1981080"/>
            <a:ext cx="76320" cy="76320"/>
            <a:chOff x="3352680" y="1981080"/>
            <a:chExt cx="76320" cy="76320"/>
          </a:xfrm>
        </p:grpSpPr>
        <p:sp>
          <p:nvSpPr>
            <p:cNvPr id="317" name=""/>
            <p:cNvSpPr/>
            <p:nvPr/>
          </p:nvSpPr>
          <p:spPr>
            <a:xfrm>
              <a:off x="3352680" y="1981080"/>
              <a:ext cx="76320" cy="763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352680" y="1981080"/>
              <a:ext cx="76320" cy="763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3429000" y="2286000"/>
            <a:ext cx="76320" cy="76320"/>
            <a:chOff x="3429000" y="2286000"/>
            <a:chExt cx="76320" cy="76320"/>
          </a:xfrm>
        </p:grpSpPr>
        <p:sp>
          <p:nvSpPr>
            <p:cNvPr id="320" name=""/>
            <p:cNvSpPr/>
            <p:nvPr/>
          </p:nvSpPr>
          <p:spPr>
            <a:xfrm>
              <a:off x="3429000" y="2286000"/>
              <a:ext cx="76320" cy="763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429000" y="2286000"/>
              <a:ext cx="76320" cy="763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2895480" y="2361960"/>
            <a:ext cx="76320" cy="76320"/>
            <a:chOff x="2895480" y="2361960"/>
            <a:chExt cx="76320" cy="76320"/>
          </a:xfrm>
        </p:grpSpPr>
        <p:sp>
          <p:nvSpPr>
            <p:cNvPr id="323" name=""/>
            <p:cNvSpPr/>
            <p:nvPr/>
          </p:nvSpPr>
          <p:spPr>
            <a:xfrm>
              <a:off x="2895480" y="2362320"/>
              <a:ext cx="76320" cy="75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2895480" y="2361960"/>
              <a:ext cx="76320" cy="75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3276720" y="2438280"/>
            <a:ext cx="75960" cy="76320"/>
            <a:chOff x="3276720" y="2438280"/>
            <a:chExt cx="75960" cy="76320"/>
          </a:xfrm>
        </p:grpSpPr>
        <p:sp>
          <p:nvSpPr>
            <p:cNvPr id="326" name=""/>
            <p:cNvSpPr/>
            <p:nvPr/>
          </p:nvSpPr>
          <p:spPr>
            <a:xfrm>
              <a:off x="3276720" y="2438280"/>
              <a:ext cx="75960" cy="763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3276720" y="2438280"/>
              <a:ext cx="75960" cy="763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3657600" y="2590560"/>
            <a:ext cx="76320" cy="76320"/>
            <a:chOff x="3657600" y="2590560"/>
            <a:chExt cx="76320" cy="76320"/>
          </a:xfrm>
        </p:grpSpPr>
        <p:sp>
          <p:nvSpPr>
            <p:cNvPr id="329" name=""/>
            <p:cNvSpPr/>
            <p:nvPr/>
          </p:nvSpPr>
          <p:spPr>
            <a:xfrm>
              <a:off x="3657600" y="2590920"/>
              <a:ext cx="76320" cy="75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3657600" y="2590560"/>
              <a:ext cx="76320" cy="75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3276720" y="2743200"/>
            <a:ext cx="75960" cy="76320"/>
            <a:chOff x="3276720" y="2743200"/>
            <a:chExt cx="75960" cy="76320"/>
          </a:xfrm>
        </p:grpSpPr>
        <p:sp>
          <p:nvSpPr>
            <p:cNvPr id="332" name=""/>
            <p:cNvSpPr/>
            <p:nvPr/>
          </p:nvSpPr>
          <p:spPr>
            <a:xfrm>
              <a:off x="3276720" y="2743200"/>
              <a:ext cx="75960" cy="763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3276720" y="2743200"/>
              <a:ext cx="75960" cy="763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3657600" y="2895480"/>
            <a:ext cx="76320" cy="76320"/>
            <a:chOff x="3657600" y="2895480"/>
            <a:chExt cx="76320" cy="76320"/>
          </a:xfrm>
        </p:grpSpPr>
        <p:sp>
          <p:nvSpPr>
            <p:cNvPr id="335" name=""/>
            <p:cNvSpPr/>
            <p:nvPr/>
          </p:nvSpPr>
          <p:spPr>
            <a:xfrm>
              <a:off x="3657600" y="2895480"/>
              <a:ext cx="76320" cy="763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3657600" y="2895480"/>
              <a:ext cx="76320" cy="763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3886200" y="2133360"/>
            <a:ext cx="76320" cy="76320"/>
            <a:chOff x="3886200" y="2133360"/>
            <a:chExt cx="76320" cy="76320"/>
          </a:xfrm>
        </p:grpSpPr>
        <p:sp>
          <p:nvSpPr>
            <p:cNvPr id="338" name=""/>
            <p:cNvSpPr/>
            <p:nvPr/>
          </p:nvSpPr>
          <p:spPr>
            <a:xfrm>
              <a:off x="3886200" y="2133720"/>
              <a:ext cx="76320" cy="75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3886200" y="2133360"/>
              <a:ext cx="76320" cy="75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4495680" y="2057400"/>
            <a:ext cx="76320" cy="763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572000" y="2286000"/>
            <a:ext cx="76320" cy="763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800600" y="2133720"/>
            <a:ext cx="76320" cy="759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495680" y="2514600"/>
            <a:ext cx="76320" cy="763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800600" y="2438280"/>
            <a:ext cx="76320" cy="763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495680" y="2819520"/>
            <a:ext cx="76320" cy="759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267080" y="2362320"/>
            <a:ext cx="76320" cy="759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00600" y="2743200"/>
            <a:ext cx="76320" cy="763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495680" y="3276720"/>
            <a:ext cx="76320" cy="759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962520" y="2819520"/>
            <a:ext cx="75960" cy="759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495680" y="342900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lass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514600" y="34290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lass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1981080"/>
            <a:ext cx="304920" cy="1067040"/>
          </a:xfrm>
          <a:prstGeom prst="ellipse">
            <a:avLst/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581280" y="1066680"/>
            <a:ext cx="2210040" cy="398880"/>
          </a:xfrm>
          <a:prstGeom prst="rect">
            <a:avLst/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oints ambig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4" name=""/>
          <p:cNvCxnSpPr>
            <a:stCxn id="352" idx="7"/>
            <a:endCxn id="353" idx="2"/>
          </p:cNvCxnSpPr>
          <p:nvPr/>
        </p:nvCxnSpPr>
        <p:spPr>
          <a:xfrm flipV="1">
            <a:off x="4070160" y="1491840"/>
            <a:ext cx="616680" cy="635760"/>
          </a:xfrm>
          <a:prstGeom prst="straightConnector1">
            <a:avLst/>
          </a:prstGeom>
          <a:ln w="19080">
            <a:solidFill>
              <a:srgbClr val="00cc99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5T17:03:27Z</dcterms:created>
  <dc:creator>Dupré Xavier</dc:creator>
  <dc:description/>
  <dc:language>en-US</dc:language>
  <cp:lastModifiedBy>dupre</cp:lastModifiedBy>
  <dcterms:modified xsi:type="dcterms:W3CDTF">2001-11-06T21:26:41Z</dcterms:modified>
  <cp:revision>11</cp:revision>
  <dc:subject/>
  <dc:title>Aucun titre de diapositive</dc:title>
</cp:coreProperties>
</file>