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E32-B7E5-4257-87FA-CF2AEF36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5FC-C7A1-4AEF-AC7F-828BE236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748-8644-4911-B7B4-9EF1F7E5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866-A88A-4A10-8186-1D821134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425-9AC1-48DC-86F6-C0660F50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FC2-F960-4A53-9C6C-E210E5E3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D77-C909-47D5-9E16-5DC44B5C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AAEC-6646-449F-B003-768BCF4B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A75-64FE-4446-80D7-24326F3B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487-7FD9-4187-9CE3-32A841EA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4E9-3538-4282-BAF2-7CC15AE5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FA4-D5AD-4F6B-9927-02B4DCC4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990B-7EEE-4C68-A5B7-6B483163D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53080" y="609480"/>
            <a:ext cx="2362320" cy="2895840"/>
          </a:xfrm>
          <a:prstGeom prst="rect">
            <a:avLst/>
          </a:prstGeom>
          <a:solidFill>
            <a:srgbClr val="f4fff3">
              <a:alpha val="50000"/>
            </a:srgbClr>
          </a:solidFill>
          <a:ln w="64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609480"/>
            <a:ext cx="3429000" cy="2895840"/>
          </a:xfrm>
          <a:prstGeom prst="rect">
            <a:avLst/>
          </a:prstGeom>
          <a:solidFill>
            <a:srgbClr val="f6f3ff">
              <a:alpha val="50000"/>
            </a:srgbClr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09480"/>
            <a:ext cx="2438640" cy="2895840"/>
          </a:xfrm>
          <a:prstGeom prst="rect">
            <a:avLst/>
          </a:prstGeom>
          <a:solidFill>
            <a:srgbClr val="fff3f3">
              <a:alpha val="50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762120"/>
            <a:ext cx="198144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523880"/>
            <a:ext cx="198144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762120"/>
            <a:ext cx="1600200" cy="3988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raphè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6094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705720" y="1219320"/>
            <a:ext cx="2133360" cy="1295280"/>
            <a:chOff x="6705720" y="1219320"/>
            <a:chExt cx="2133360" cy="1295280"/>
          </a:xfrm>
        </p:grpSpPr>
        <p:sp>
          <p:nvSpPr>
            <p:cNvPr id="49" name=""/>
            <p:cNvSpPr/>
            <p:nvPr/>
          </p:nvSpPr>
          <p:spPr>
            <a:xfrm>
              <a:off x="6705720" y="1219320"/>
              <a:ext cx="2133360" cy="1295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81680" y="1447560"/>
              <a:ext cx="1980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modèles de reconnaissance appr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" name=""/>
          <p:cNvCxnSpPr>
            <a:stCxn id="44" idx="3"/>
            <a:endCxn id="46" idx="1"/>
          </p:cNvCxnSpPr>
          <p:nvPr/>
        </p:nvCxnSpPr>
        <p:spPr>
          <a:xfrm>
            <a:off x="2590920" y="961560"/>
            <a:ext cx="205776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3"/>
            <a:endCxn id="53" idx="1"/>
          </p:cNvCxnSpPr>
          <p:nvPr/>
        </p:nvCxnSpPr>
        <p:spPr>
          <a:xfrm>
            <a:off x="2590920" y="1723320"/>
            <a:ext cx="990720" cy="228960"/>
          </a:xfrm>
          <a:prstGeom prst="bentConnector3">
            <a:avLst>
              <a:gd name="adj1" fmla="val 500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6" idx="2"/>
            <a:endCxn id="53" idx="0"/>
          </p:cNvCxnSpPr>
          <p:nvPr/>
        </p:nvCxnSpPr>
        <p:spPr>
          <a:xfrm rot="5400000">
            <a:off x="4714200" y="1018440"/>
            <a:ext cx="591840" cy="876600"/>
          </a:xfrm>
          <a:prstGeom prst="bentConnector3">
            <a:avLst>
              <a:gd name="adj1" fmla="val 5003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3581280" y="1752480"/>
            <a:ext cx="1981440" cy="3988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renti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3" idx="3"/>
            <a:endCxn id="49" idx="2"/>
          </p:cNvCxnSpPr>
          <p:nvPr/>
        </p:nvCxnSpPr>
        <p:spPr>
          <a:xfrm flipV="1">
            <a:off x="5562720" y="1866960"/>
            <a:ext cx="1143360" cy="85320"/>
          </a:xfrm>
          <a:prstGeom prst="bentConnector3">
            <a:avLst>
              <a:gd name="adj1" fmla="val 5001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09480" y="2286000"/>
            <a:ext cx="1981440" cy="100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dèles de reconnaissance non app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3"/>
            <a:endCxn id="53" idx="2"/>
          </p:cNvCxnSpPr>
          <p:nvPr/>
        </p:nvCxnSpPr>
        <p:spPr>
          <a:xfrm flipV="1">
            <a:off x="2590920" y="2151360"/>
            <a:ext cx="1981440" cy="639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9480" y="3657600"/>
            <a:ext cx="198144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3657600"/>
            <a:ext cx="1981080" cy="3988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lgorith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657600"/>
            <a:ext cx="1981440" cy="3988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8:16:57Z</dcterms:created>
  <dc:creator>dupre</dc:creator>
  <dc:description/>
  <dc:language>en-US</dc:language>
  <cp:lastModifiedBy>dupre</cp:lastModifiedBy>
  <dcterms:modified xsi:type="dcterms:W3CDTF">2001-08-20T10:18:58Z</dcterms:modified>
  <cp:revision>4</cp:revision>
  <dc:subject/>
  <dc:title>PowerPoint Presentation</dc:title>
</cp:coreProperties>
</file>