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2D0-3E7E-4802-9870-C620E1E4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6F4-D2D0-4C5A-A82D-408D9FB9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521-8BD1-4F9B-976E-50E09594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CEE-C14C-408F-A3CF-2BD47E9A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299-ED3C-4B2C-A0D4-2D6D7134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87A-4F0E-420B-B854-F06F8B73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938-8E25-44F1-ACAC-5809680B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322-7DE3-49FB-9B7E-06876D65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CAF-355E-431E-95E6-1C646070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49E-253F-4133-A767-38E9B02E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31B-15C0-4F81-93E9-87636A2D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754-3EF7-40FD-88C4-93DBC655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95DC-D500-495B-8C69-8A067E9F9B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895480" y="1600200"/>
          <a:ext cx="275292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27529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8862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2666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828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609480"/>
          <a:ext cx="815328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1532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1295280" y="266040"/>
            <a:ext cx="2110320" cy="3045600"/>
            <a:chOff x="1295280" y="266040"/>
            <a:chExt cx="2110320" cy="3045600"/>
          </a:xfrm>
        </p:grpSpPr>
        <p:sp>
          <p:nvSpPr>
            <p:cNvPr id="51" name=""/>
            <p:cNvSpPr/>
            <p:nvPr/>
          </p:nvSpPr>
          <p:spPr>
            <a:xfrm flipH="1" flipV="1">
              <a:off x="2184120" y="265680"/>
              <a:ext cx="122076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4207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42079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981080" y="2743200"/>
              <a:ext cx="3812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5280" y="2439360"/>
              <a:ext cx="106668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60" y="2459"/>
                  </a:moveTo>
                  <a:arcTo wR="10800" hR="10800" stAng="-3033861" swAng="393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60" y="2459"/>
                  </a:moveTo>
                  <a:arcTo wR="10800" hR="10800" stAng="-3033861" swAng="3939713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832000" y="2135160"/>
            <a:ext cx="2494080" cy="3123000"/>
            <a:chOff x="5832000" y="2135160"/>
            <a:chExt cx="2494080" cy="3123000"/>
          </a:xfrm>
        </p:grpSpPr>
        <p:sp>
          <p:nvSpPr>
            <p:cNvPr id="55" name=""/>
            <p:cNvSpPr/>
            <p:nvPr/>
          </p:nvSpPr>
          <p:spPr>
            <a:xfrm>
              <a:off x="5832000" y="2210760"/>
              <a:ext cx="144216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4207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42079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065360" y="2405880"/>
              <a:ext cx="450000" cy="31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7065360" y="2134800"/>
              <a:ext cx="1260360" cy="8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60" y="2459"/>
                  </a:moveTo>
                  <a:arcTo wR="10800" hR="10800" stAng="-3033861" swAng="393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60" y="2459"/>
                  </a:moveTo>
                  <a:arcTo wR="10800" hR="10800" stAng="-3033861" swAng="3939713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574440" y="621720"/>
            <a:ext cx="1121040" cy="3190320"/>
            <a:chOff x="3574440" y="621720"/>
            <a:chExt cx="1121040" cy="3190320"/>
          </a:xfrm>
        </p:grpSpPr>
        <p:sp>
          <p:nvSpPr>
            <p:cNvPr id="59" name=""/>
            <p:cNvSpPr/>
            <p:nvPr/>
          </p:nvSpPr>
          <p:spPr>
            <a:xfrm flipH="1" flipV="1">
              <a:off x="3868920" y="621360"/>
              <a:ext cx="826200" cy="256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5" y="7801"/>
                  </a:moveTo>
                  <a:arcTo wR="10800" hR="10800" stAng="-9832729" swAng="8853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425" y="7801"/>
                  </a:moveTo>
                  <a:arcTo wR="10800" hR="10800" stAng="-9832729" swAng="8853523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74440" y="2568960"/>
              <a:ext cx="721800" cy="12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5" y="5617"/>
                  </a:moveTo>
                  <a:arcTo wR="10800" hR="10800" stAng="-1720785" swAng="2626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5" y="5617"/>
                  </a:moveTo>
                  <a:arcTo wR="10800" hR="10800" stAng="-1720785" swAng="2626637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V="1">
            <a:off x="1828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64832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6708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55308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810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876560" y="987120"/>
            <a:ext cx="1971360" cy="3743640"/>
            <a:chOff x="4876560" y="987120"/>
            <a:chExt cx="1971360" cy="3743640"/>
          </a:xfrm>
        </p:grpSpPr>
        <p:sp>
          <p:nvSpPr>
            <p:cNvPr id="68" name=""/>
            <p:cNvSpPr/>
            <p:nvPr/>
          </p:nvSpPr>
          <p:spPr>
            <a:xfrm flipV="1">
              <a:off x="5112000" y="2157840"/>
              <a:ext cx="843840" cy="111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039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03925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6560" y="987120"/>
              <a:ext cx="1066680" cy="374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57" y="6616"/>
                  </a:moveTo>
                  <a:arcTo wR="10800" hR="10800" stAng="-1367494" swAng="2273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57" y="6616"/>
                  </a:moveTo>
                  <a:arcTo wR="10800" hR="10800" stAng="-1367494" swAng="2273346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934240" y="2293920"/>
              <a:ext cx="913680" cy="72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528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52892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632448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4:21:20Z</dcterms:created>
  <dc:creator>xavier dupre</dc:creator>
  <dc:description/>
  <dc:language>en-US</dc:language>
  <cp:lastModifiedBy>xavier dupre</cp:lastModifiedBy>
  <dcterms:modified xsi:type="dcterms:W3CDTF">2003-01-06T16:58:33Z</dcterms:modified>
  <cp:revision>3</cp:revision>
  <dc:subject/>
  <dc:title>PowerPoint Presentation</dc:title>
</cp:coreProperties>
</file>