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59E-31A6-4B4E-B73A-6E12B664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B59-FF2C-40DC-833A-B25FD644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4C0-CC82-4384-BC20-D9FC8AE7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EC5-09F0-4DE9-8A85-CE9C23D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BA7-0296-4748-98B4-50E1CF8A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47B-FDDE-4DA5-B29B-9956540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77C-CDA5-4762-9029-E960FF5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A5F-C1CD-4E72-9123-E49C215B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57E-2E2D-485E-A097-0334391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50F-D049-43B4-B971-AA7B82A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186-63F4-428B-9DF0-D177CA7D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915-55BF-423A-A09C-BBC9A4E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65A2-03BD-427A-BC67-0652BC901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8380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1143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533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752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0574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143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33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5335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0574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38280" y="99072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37920" y="99072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828800"/>
            <a:ext cx="190512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343040" y="2362320"/>
            <a:ext cx="106668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410080" y="1752480"/>
            <a:ext cx="106704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990720"/>
            <a:ext cx="9144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114800" y="68580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685800"/>
            <a:ext cx="91440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181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4572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876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181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572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876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648320"/>
            <a:ext cx="30477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720" y="3505320"/>
            <a:ext cx="3962160" cy="1143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267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3526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3505320"/>
            <a:ext cx="91440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4724280"/>
            <a:ext cx="91440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5053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886200"/>
            <a:ext cx="457200" cy="14479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419720"/>
            <a:ext cx="457200" cy="3045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vier dupre</cp:lastModifiedBy>
  <dcterms:modified xsi:type="dcterms:W3CDTF">2003-01-23T15:05:39Z</dcterms:modified>
  <cp:revision>2</cp:revision>
  <dc:subject/>
  <dc:title>PowerPoint Presentation</dc:title>
</cp:coreProperties>
</file>