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89A-8317-40AE-B120-C2D862A7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A1E-6BE6-41BC-A092-ACD2877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ADA-082D-49BB-90C8-FC231FB5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993-3152-44AE-86BF-60801902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3A5-B3F0-4D06-B83E-C93587ED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67F-48D5-4CFC-A1C6-8FA778A0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E89-26E0-4AD0-9465-DD4B143E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E38-457A-4832-80DF-E5008A09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6EB-D3C2-452D-9D44-AA9B2F16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7FA-73D4-43EE-8D3E-77F69F6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9E1-ABDD-4991-AA82-73D08AE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E11-A9D3-407E-B37C-C3FDB3CD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6EAA-E117-4277-8449-1B4E79C3F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09480"/>
            <a:ext cx="2362320" cy="2895840"/>
          </a:xfrm>
          <a:prstGeom prst="rect">
            <a:avLst/>
          </a:prstGeom>
          <a:solidFill>
            <a:srgbClr val="f4fff3">
              <a:alpha val="50000"/>
            </a:srgbClr>
          </a:solidFill>
          <a:ln w="64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09480"/>
            <a:ext cx="3429000" cy="2895840"/>
          </a:xfrm>
          <a:prstGeom prst="rect">
            <a:avLst/>
          </a:prstGeom>
          <a:solidFill>
            <a:srgbClr val="f6f3ff">
              <a:alpha val="50000"/>
            </a:srgbClr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09480"/>
            <a:ext cx="2438640" cy="2895840"/>
          </a:xfrm>
          <a:prstGeom prst="rect">
            <a:avLst/>
          </a:prstGeom>
          <a:solidFill>
            <a:srgbClr val="fff3f3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76212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52388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762120"/>
            <a:ext cx="160020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aphè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609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705720" y="1219320"/>
            <a:ext cx="2133360" cy="1295280"/>
            <a:chOff x="6705720" y="1219320"/>
            <a:chExt cx="2133360" cy="1295280"/>
          </a:xfrm>
        </p:grpSpPr>
        <p:sp>
          <p:nvSpPr>
            <p:cNvPr id="49" name=""/>
            <p:cNvSpPr/>
            <p:nvPr/>
          </p:nvSpPr>
          <p:spPr>
            <a:xfrm>
              <a:off x="6705720" y="1219320"/>
              <a:ext cx="2133360" cy="1295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81680" y="1447560"/>
              <a:ext cx="198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odèles de reconnaissance app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" name=""/>
          <p:cNvCxnSpPr>
            <a:stCxn id="44" idx="3"/>
            <a:endCxn id="46" idx="1"/>
          </p:cNvCxnSpPr>
          <p:nvPr/>
        </p:nvCxnSpPr>
        <p:spPr>
          <a:xfrm>
            <a:off x="2590920" y="961560"/>
            <a:ext cx="20577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3"/>
            <a:endCxn id="53" idx="1"/>
          </p:cNvCxnSpPr>
          <p:nvPr/>
        </p:nvCxnSpPr>
        <p:spPr>
          <a:xfrm>
            <a:off x="2590920" y="1723320"/>
            <a:ext cx="990720" cy="228960"/>
          </a:xfrm>
          <a:prstGeom prst="bentConnector3">
            <a:avLst>
              <a:gd name="adj1" fmla="val 500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2"/>
            <a:endCxn id="53" idx="0"/>
          </p:cNvCxnSpPr>
          <p:nvPr/>
        </p:nvCxnSpPr>
        <p:spPr>
          <a:xfrm rot="5400000">
            <a:off x="4714200" y="1018440"/>
            <a:ext cx="591840" cy="876600"/>
          </a:xfrm>
          <a:prstGeom prst="bentConnector3">
            <a:avLst>
              <a:gd name="adj1" fmla="val 5003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581280" y="1752480"/>
            <a:ext cx="198144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rent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3" idx="3"/>
            <a:endCxn id="49" idx="2"/>
          </p:cNvCxnSpPr>
          <p:nvPr/>
        </p:nvCxnSpPr>
        <p:spPr>
          <a:xfrm flipV="1">
            <a:off x="5562720" y="1866960"/>
            <a:ext cx="1143360" cy="85320"/>
          </a:xfrm>
          <a:prstGeom prst="bentConnector3">
            <a:avLst>
              <a:gd name="adj1" fmla="val 500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09480" y="2286000"/>
            <a:ext cx="1981440" cy="100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èles de reconnaissance non app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3"/>
            <a:endCxn id="53" idx="2"/>
          </p:cNvCxnSpPr>
          <p:nvPr/>
        </p:nvCxnSpPr>
        <p:spPr>
          <a:xfrm flipV="1">
            <a:off x="2590920" y="2151360"/>
            <a:ext cx="1981440" cy="639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9480" y="365760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657600"/>
            <a:ext cx="198108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657600"/>
            <a:ext cx="1981440" cy="3988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8:16:57Z</dcterms:created>
  <dc:creator>dupre</dc:creator>
  <dc:description/>
  <dc:language>en-US</dc:language>
  <cp:lastModifiedBy>dupre</cp:lastModifiedBy>
  <dcterms:modified xsi:type="dcterms:W3CDTF">2001-08-20T10:18:58Z</dcterms:modified>
  <cp:revision>4</cp:revision>
  <dc:subject/>
  <dc:title>PowerPoint Presentation</dc:title>
</cp:coreProperties>
</file>