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551-221B-41CD-AA1B-442B0FD7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AB9-DE24-4B76-BD48-FB4D52F6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827-2E10-40B5-80D7-864D7E86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7B1-E855-4C8D-89F2-602F40AB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8EB-95CC-4D7C-930C-672451B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4A1-6D2B-4141-9D10-015F8602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18D-86BA-4982-A9EC-3E74CDC8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BDD-F353-49E5-88A6-93D4DFD0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69F-F568-410D-9CD8-D89CD92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905-27F5-436B-9F0B-7D07C45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CFB-D2CA-451E-87C2-F68D5F5B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987-69A4-44A2-AE64-BF9E112F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9CC8-7F90-4EFD-9F8F-B9CA13B1D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6172200" cy="435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iquet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aut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&lt; H &l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 &lt; B &l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 &lt; S &l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ête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 &lt; C &lt;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i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en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an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f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43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04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006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74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456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8006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1974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9456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65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226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3733920" y="2590560"/>
            <a:ext cx="75960" cy="76320"/>
            <a:chOff x="3733920" y="2590560"/>
            <a:chExt cx="75960" cy="76320"/>
          </a:xfrm>
        </p:grpSpPr>
        <p:sp>
          <p:nvSpPr>
            <p:cNvPr id="287" name=""/>
            <p:cNvSpPr/>
            <p:nvPr/>
          </p:nvSpPr>
          <p:spPr>
            <a:xfrm>
              <a:off x="373392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73392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290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90920" y="2819160"/>
            <a:ext cx="75960" cy="76320"/>
            <a:chOff x="2590920" y="2819160"/>
            <a:chExt cx="75960" cy="76320"/>
          </a:xfrm>
        </p:grpSpPr>
        <p:sp>
          <p:nvSpPr>
            <p:cNvPr id="293" name=""/>
            <p:cNvSpPr/>
            <p:nvPr/>
          </p:nvSpPr>
          <p:spPr>
            <a:xfrm>
              <a:off x="259092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59092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29000" y="2209680"/>
            <a:ext cx="76320" cy="76320"/>
            <a:chOff x="3429000" y="2209680"/>
            <a:chExt cx="76320" cy="76320"/>
          </a:xfrm>
        </p:grpSpPr>
        <p:sp>
          <p:nvSpPr>
            <p:cNvPr id="296" name=""/>
            <p:cNvSpPr/>
            <p:nvPr/>
          </p:nvSpPr>
          <p:spPr>
            <a:xfrm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114800" y="3124080"/>
            <a:ext cx="76320" cy="76320"/>
            <a:chOff x="4114800" y="3124080"/>
            <a:chExt cx="76320" cy="76320"/>
          </a:xfrm>
        </p:grpSpPr>
        <p:sp>
          <p:nvSpPr>
            <p:cNvPr id="299" name=""/>
            <p:cNvSpPr/>
            <p:nvPr/>
          </p:nvSpPr>
          <p:spPr>
            <a:xfrm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76720" y="3276360"/>
            <a:ext cx="75960" cy="76320"/>
            <a:chOff x="3276720" y="3276360"/>
            <a:chExt cx="75960" cy="76320"/>
          </a:xfrm>
        </p:grpSpPr>
        <p:sp>
          <p:nvSpPr>
            <p:cNvPr id="302" name=""/>
            <p:cNvSpPr/>
            <p:nvPr/>
          </p:nvSpPr>
          <p:spPr>
            <a:xfrm>
              <a:off x="3276720" y="3276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76720" y="3276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733920" y="2133360"/>
            <a:ext cx="75960" cy="76320"/>
            <a:chOff x="3733920" y="2133360"/>
            <a:chExt cx="75960" cy="76320"/>
          </a:xfrm>
        </p:grpSpPr>
        <p:sp>
          <p:nvSpPr>
            <p:cNvPr id="305" name=""/>
            <p:cNvSpPr/>
            <p:nvPr/>
          </p:nvSpPr>
          <p:spPr>
            <a:xfrm>
              <a:off x="373392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73392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91120" y="2209680"/>
            <a:ext cx="75960" cy="76320"/>
            <a:chOff x="4191120" y="2209680"/>
            <a:chExt cx="75960" cy="76320"/>
          </a:xfrm>
        </p:grpSpPr>
        <p:sp>
          <p:nvSpPr>
            <p:cNvPr id="308" name=""/>
            <p:cNvSpPr/>
            <p:nvPr/>
          </p:nvSpPr>
          <p:spPr>
            <a:xfrm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14600" y="2742840"/>
            <a:ext cx="1676520" cy="1219320"/>
            <a:chOff x="2514600" y="2742840"/>
            <a:chExt cx="1676520" cy="1219320"/>
          </a:xfrm>
        </p:grpSpPr>
        <p:grpSp>
          <p:nvGrpSpPr>
            <p:cNvPr id="311" name=""/>
            <p:cNvGrpSpPr/>
            <p:nvPr/>
          </p:nvGrpSpPr>
          <p:grpSpPr>
            <a:xfrm>
              <a:off x="3505320" y="3276360"/>
              <a:ext cx="75960" cy="76320"/>
              <a:chOff x="3505320" y="3276360"/>
              <a:chExt cx="75960" cy="763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19520" y="3657240"/>
              <a:ext cx="75960" cy="76320"/>
              <a:chOff x="2819520" y="3657240"/>
              <a:chExt cx="75960" cy="763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600" y="3200040"/>
              <a:ext cx="76320" cy="76320"/>
              <a:chOff x="2514600" y="3200040"/>
              <a:chExt cx="76320" cy="7632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352680" y="3809880"/>
              <a:ext cx="76320" cy="76320"/>
              <a:chOff x="3352680" y="3809880"/>
              <a:chExt cx="76320" cy="7632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35268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268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38480" y="2895480"/>
              <a:ext cx="76320" cy="76320"/>
              <a:chOff x="4038480" y="2895480"/>
              <a:chExt cx="76320" cy="7632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4038480" y="28954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480" y="28958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200400" y="2742840"/>
              <a:ext cx="76320" cy="76320"/>
              <a:chOff x="3200400" y="2742840"/>
              <a:chExt cx="76320" cy="7632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57600" y="3885840"/>
              <a:ext cx="76320" cy="76320"/>
              <a:chOff x="3657600" y="3885840"/>
              <a:chExt cx="76320" cy="763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114800" y="3809880"/>
              <a:ext cx="76320" cy="76320"/>
              <a:chOff x="4114800" y="3809880"/>
              <a:chExt cx="76320" cy="7632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411480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962880" y="1752120"/>
            <a:ext cx="1980360" cy="1219320"/>
            <a:chOff x="3962880" y="1752120"/>
            <a:chExt cx="1980360" cy="1219320"/>
          </a:xfrm>
        </p:grpSpPr>
        <p:grpSp>
          <p:nvGrpSpPr>
            <p:cNvPr id="336" name=""/>
            <p:cNvGrpSpPr/>
            <p:nvPr/>
          </p:nvGrpSpPr>
          <p:grpSpPr>
            <a:xfrm>
              <a:off x="4683240" y="2361960"/>
              <a:ext cx="89640" cy="76320"/>
              <a:chOff x="4683240" y="2361960"/>
              <a:chExt cx="89640" cy="7632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493600" y="1980720"/>
              <a:ext cx="89640" cy="76320"/>
              <a:chOff x="5493600" y="1980720"/>
              <a:chExt cx="89640" cy="763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5493600" y="19810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5493600" y="19807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853600" y="2437920"/>
              <a:ext cx="89640" cy="76320"/>
              <a:chOff x="5853600" y="2437920"/>
              <a:chExt cx="89640" cy="7632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853600" y="24382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53600" y="24379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863240" y="1828440"/>
              <a:ext cx="89280" cy="76320"/>
              <a:chOff x="4863240" y="1828440"/>
              <a:chExt cx="89280" cy="763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053240" y="2742840"/>
              <a:ext cx="89280" cy="76320"/>
              <a:chOff x="4053240" y="2742840"/>
              <a:chExt cx="89280" cy="7632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043600" y="2895120"/>
              <a:ext cx="89640" cy="76320"/>
              <a:chOff x="5043600" y="2895120"/>
              <a:chExt cx="89640" cy="7632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5043600" y="2895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5043600" y="2895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503240" y="1752120"/>
              <a:ext cx="89640" cy="76320"/>
              <a:chOff x="4503240" y="1752120"/>
              <a:chExt cx="89640" cy="763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4503240" y="1752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503240" y="1752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62880" y="1828440"/>
              <a:ext cx="89640" cy="76320"/>
              <a:chOff x="3962880" y="1828440"/>
              <a:chExt cx="89640" cy="7632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V="1">
            <a:off x="2057400" y="1523520"/>
            <a:ext cx="380988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200040" y="2742840"/>
            <a:ext cx="2761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3429000" y="2209680"/>
            <a:ext cx="40968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7:48:47Z</dcterms:created>
  <dc:creator>dupre</dc:creator>
  <dc:description/>
  <dc:language>en-US</dc:language>
  <cp:lastModifiedBy>dupre</cp:lastModifiedBy>
  <dcterms:modified xsi:type="dcterms:W3CDTF">2002-03-19T13:26:53Z</dcterms:modified>
  <cp:revision>4</cp:revision>
  <dc:subject/>
  <dc:title>PowerPoint Presentation</dc:title>
</cp:coreProperties>
</file>