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3C3-6F6D-4DA2-A361-3719ED7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33A-B1FE-4EB7-84CF-E9D1FD7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C48-2D7C-4549-BA09-057DB3E7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5C4-FB1B-485C-8006-19DE627A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BBF-F904-4CAC-BD4E-ADEF4E56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A34-571F-49FD-96E1-3A6E6F63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3FF-B471-45C3-9018-D2DBD58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7E9-1FD1-4126-A04A-C7B1025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3BA-A366-477D-9403-789F3C3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F62-40FF-4A64-8FBA-15FD6C7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628-013F-4CFD-BEC8-CA3271E7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338-FEC3-44B0-B004-D3B40C0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F0D-C563-4F67-B0DC-9791927B4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4380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 des m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7772400" cy="3733560"/>
            <a:chOff x="304920" y="304920"/>
            <a:chExt cx="7772400" cy="3733560"/>
          </a:xfrm>
        </p:grpSpPr>
        <p:grpSp>
          <p:nvGrpSpPr>
            <p:cNvPr id="43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" name=""/>
              <p:cNvCxnSpPr>
                <a:stCxn id="44" idx="5"/>
                <a:endCxn id="86" idx="1"/>
              </p:cNvCxnSpPr>
              <p:nvPr/>
            </p:nvCxnSpPr>
            <p:spPr>
              <a:xfrm>
                <a:off x="815760" y="2720880"/>
                <a:ext cx="708480" cy="1014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>
                <a:stCxn id="44" idx="7"/>
                <a:endCxn id="47" idx="1"/>
              </p:cNvCxnSpPr>
              <p:nvPr/>
            </p:nvCxnSpPr>
            <p:spPr>
              <a:xfrm flipV="1">
                <a:off x="815760" y="1753560"/>
                <a:ext cx="708480" cy="86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10" idx="6"/>
                <a:endCxn id="77" idx="1"/>
              </p:cNvCxnSpPr>
              <p:nvPr/>
            </p:nvCxnSpPr>
            <p:spPr>
              <a:xfrm>
                <a:off x="32004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56" idx="3"/>
                <a:endCxn id="110" idx="2"/>
              </p:cNvCxnSpPr>
              <p:nvPr/>
            </p:nvCxnSpPr>
            <p:spPr>
              <a:xfrm flipV="1">
                <a:off x="29714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"/>
              <p:cNvCxnSpPr>
                <a:stCxn id="86" idx="3"/>
                <a:endCxn id="118" idx="2"/>
              </p:cNvCxnSpPr>
              <p:nvPr/>
            </p:nvCxnSpPr>
            <p:spPr>
              <a:xfrm flipV="1">
                <a:off x="20570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05" idx="6"/>
                <a:endCxn id="64" idx="3"/>
              </p:cNvCxnSpPr>
              <p:nvPr/>
            </p:nvCxnSpPr>
            <p:spPr>
              <a:xfrm flipV="1">
                <a:off x="2438280" y="1217160"/>
                <a:ext cx="78480" cy="536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47" idx="3"/>
                <a:endCxn id="105" idx="2"/>
              </p:cNvCxnSpPr>
              <p:nvPr/>
            </p:nvCxnSpPr>
            <p:spPr>
              <a:xfrm flipV="1">
                <a:off x="2057040" y="17528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06" idx="2"/>
                <a:endCxn id="65" idx="3"/>
              </p:cNvCxnSpPr>
              <p:nvPr/>
            </p:nvCxnSpPr>
            <p:spPr>
              <a:xfrm flipH="1">
                <a:off x="2971440" y="9907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"/>
              <p:cNvCxnSpPr>
                <a:stCxn id="56" idx="0"/>
                <a:endCxn id="105" idx="6"/>
              </p:cNvCxnSpPr>
              <p:nvPr/>
            </p:nvCxnSpPr>
            <p:spPr>
              <a:xfrm flipH="1" flipV="1">
                <a:off x="2438280" y="1752840"/>
                <a:ext cx="266760" cy="533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"/>
              <p:cNvCxnSpPr>
                <a:stCxn id="68" idx="1"/>
                <a:endCxn id="106" idx="7"/>
              </p:cNvCxnSpPr>
              <p:nvPr/>
            </p:nvCxnSpPr>
            <p:spPr>
              <a:xfrm flipH="1">
                <a:off x="3254400" y="534600"/>
                <a:ext cx="98640" cy="40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50" idx="1"/>
                <a:endCxn id="106" idx="6"/>
              </p:cNvCxnSpPr>
              <p:nvPr/>
            </p:nvCxnSpPr>
            <p:spPr>
              <a:xfrm flipH="1" flipV="1">
                <a:off x="3276720" y="990720"/>
                <a:ext cx="76320" cy="306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50" idx="3"/>
                <a:endCxn id="112" idx="2"/>
              </p:cNvCxnSpPr>
              <p:nvPr/>
            </p:nvCxnSpPr>
            <p:spPr>
              <a:xfrm flipV="1">
                <a:off x="38858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>
                <a:stCxn id="112" idx="6"/>
                <a:endCxn id="71" idx="1"/>
              </p:cNvCxnSpPr>
              <p:nvPr/>
            </p:nvCxnSpPr>
            <p:spPr>
              <a:xfrm>
                <a:off x="41911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>
                <a:stCxn id="68" idx="3"/>
                <a:endCxn id="113" idx="2"/>
              </p:cNvCxnSpPr>
              <p:nvPr/>
            </p:nvCxnSpPr>
            <p:spPr>
              <a:xfrm flipV="1">
                <a:off x="38858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9" name=""/>
              <p:cNvCxnSpPr>
                <a:stCxn id="74" idx="3"/>
                <a:endCxn id="116" idx="2"/>
              </p:cNvCxnSpPr>
              <p:nvPr/>
            </p:nvCxnSpPr>
            <p:spPr>
              <a:xfrm flipV="1">
                <a:off x="48002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0" name=""/>
              <p:cNvCxnSpPr>
                <a:stCxn id="116" idx="6"/>
                <a:endCxn id="62" idx="1"/>
              </p:cNvCxnSpPr>
              <p:nvPr/>
            </p:nvCxnSpPr>
            <p:spPr>
              <a:xfrm>
                <a:off x="5105520" y="5335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"/>
              <p:cNvCxnSpPr>
                <a:stCxn id="107" idx="6"/>
                <a:endCxn id="124" idx="2"/>
              </p:cNvCxnSpPr>
              <p:nvPr/>
            </p:nvCxnSpPr>
            <p:spPr>
              <a:xfrm flipV="1">
                <a:off x="6019920" y="2286000"/>
                <a:ext cx="1905120" cy="228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11" idx="6"/>
                <a:endCxn id="59" idx="1"/>
              </p:cNvCxnSpPr>
              <p:nvPr/>
            </p:nvCxnSpPr>
            <p:spPr>
              <a:xfrm>
                <a:off x="51055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62" idx="3"/>
                <a:endCxn id="115" idx="2"/>
              </p:cNvCxnSpPr>
              <p:nvPr/>
            </p:nvCxnSpPr>
            <p:spPr>
              <a:xfrm flipV="1">
                <a:off x="5714640" y="5335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"/>
              <p:cNvCxnSpPr>
                <a:stCxn id="114" idx="5"/>
                <a:endCxn id="124" idx="1"/>
              </p:cNvCxnSpPr>
              <p:nvPr/>
            </p:nvCxnSpPr>
            <p:spPr>
              <a:xfrm>
                <a:off x="5997600" y="1349280"/>
                <a:ext cx="1949760" cy="883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5" name=""/>
              <p:cNvCxnSpPr>
                <a:stCxn id="71" idx="3"/>
                <a:endCxn id="111" idx="2"/>
              </p:cNvCxnSpPr>
              <p:nvPr/>
            </p:nvCxnSpPr>
            <p:spPr>
              <a:xfrm flipV="1">
                <a:off x="48002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"/>
              <p:cNvCxnSpPr>
                <a:stCxn id="53" idx="3"/>
                <a:endCxn id="119" idx="2"/>
              </p:cNvCxnSpPr>
              <p:nvPr/>
            </p:nvCxnSpPr>
            <p:spPr>
              <a:xfrm flipV="1">
                <a:off x="655308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"/>
              <p:cNvCxnSpPr>
                <a:stCxn id="119" idx="6"/>
                <a:endCxn id="124" idx="1"/>
              </p:cNvCxnSpPr>
              <p:nvPr/>
            </p:nvCxnSpPr>
            <p:spPr>
              <a:xfrm>
                <a:off x="6858000" y="533520"/>
                <a:ext cx="1089360" cy="169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"/>
              <p:cNvCxnSpPr>
                <a:stCxn id="77" idx="3"/>
                <a:endCxn id="109" idx="2"/>
              </p:cNvCxnSpPr>
              <p:nvPr/>
            </p:nvCxnSpPr>
            <p:spPr>
              <a:xfrm flipV="1">
                <a:off x="38858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59" idx="3"/>
                <a:endCxn id="114" idx="2"/>
              </p:cNvCxnSpPr>
              <p:nvPr/>
            </p:nvCxnSpPr>
            <p:spPr>
              <a:xfrm flipV="1">
                <a:off x="57146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09" idx="6"/>
                <a:endCxn id="89" idx="1"/>
              </p:cNvCxnSpPr>
              <p:nvPr/>
            </p:nvCxnSpPr>
            <p:spPr>
              <a:xfrm>
                <a:off x="41148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89" idx="3"/>
                <a:endCxn id="108" idx="2"/>
              </p:cNvCxnSpPr>
              <p:nvPr/>
            </p:nvCxnSpPr>
            <p:spPr>
              <a:xfrm flipV="1">
                <a:off x="48002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08" idx="6"/>
                <a:endCxn id="92" idx="1"/>
              </p:cNvCxnSpPr>
              <p:nvPr/>
            </p:nvCxnSpPr>
            <p:spPr>
              <a:xfrm>
                <a:off x="5029200" y="251460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92" idx="3"/>
                <a:endCxn id="107" idx="2"/>
              </p:cNvCxnSpPr>
              <p:nvPr/>
            </p:nvCxnSpPr>
            <p:spPr>
              <a:xfrm flipV="1">
                <a:off x="5638680" y="2514600"/>
                <a:ext cx="22896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07" idx="6"/>
                <a:endCxn id="83" idx="1"/>
              </p:cNvCxnSpPr>
              <p:nvPr/>
            </p:nvCxnSpPr>
            <p:spPr>
              <a:xfrm>
                <a:off x="6019920" y="2514600"/>
                <a:ext cx="360" cy="382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18" idx="6"/>
                <a:endCxn id="80" idx="1"/>
              </p:cNvCxnSpPr>
              <p:nvPr/>
            </p:nvCxnSpPr>
            <p:spPr>
              <a:xfrm>
                <a:off x="2362320" y="37339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80" idx="3"/>
                <a:endCxn id="123" idx="2"/>
              </p:cNvCxnSpPr>
              <p:nvPr/>
            </p:nvCxnSpPr>
            <p:spPr>
              <a:xfrm flipV="1">
                <a:off x="29714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95" idx="3"/>
                <a:endCxn id="122" idx="2"/>
              </p:cNvCxnSpPr>
              <p:nvPr/>
            </p:nvCxnSpPr>
            <p:spPr>
              <a:xfrm flipV="1">
                <a:off x="38858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22" idx="6"/>
                <a:endCxn id="98" idx="1"/>
              </p:cNvCxnSpPr>
              <p:nvPr/>
            </p:nvCxnSpPr>
            <p:spPr>
              <a:xfrm>
                <a:off x="4114800" y="373392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98" idx="3"/>
                <a:endCxn id="121" idx="2"/>
              </p:cNvCxnSpPr>
              <p:nvPr/>
            </p:nvCxnSpPr>
            <p:spPr>
              <a:xfrm flipV="1">
                <a:off x="48002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21" idx="6"/>
                <a:endCxn id="101" idx="1"/>
              </p:cNvCxnSpPr>
              <p:nvPr/>
            </p:nvCxnSpPr>
            <p:spPr>
              <a:xfrm>
                <a:off x="50292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"/>
              <p:cNvCxnSpPr>
                <a:stCxn id="101" idx="3"/>
                <a:endCxn id="120" idx="2"/>
              </p:cNvCxnSpPr>
              <p:nvPr/>
            </p:nvCxnSpPr>
            <p:spPr>
              <a:xfrm flipV="1">
                <a:off x="56386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63" idx="6"/>
                <a:endCxn id="124" idx="2"/>
              </p:cNvCxnSpPr>
              <p:nvPr/>
            </p:nvCxnSpPr>
            <p:spPr>
              <a:xfrm flipV="1">
                <a:off x="6858000" y="2286000"/>
                <a:ext cx="10670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83" idx="3"/>
                <a:endCxn id="163" idx="2"/>
              </p:cNvCxnSpPr>
              <p:nvPr/>
            </p:nvCxnSpPr>
            <p:spPr>
              <a:xfrm flipV="1">
                <a:off x="6553080" y="28958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20" idx="6"/>
                <a:endCxn id="104" idx="1"/>
              </p:cNvCxnSpPr>
              <p:nvPr/>
            </p:nvCxnSpPr>
            <p:spPr>
              <a:xfrm>
                <a:off x="59436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17" idx="6"/>
                <a:endCxn id="124" idx="3"/>
              </p:cNvCxnSpPr>
              <p:nvPr/>
            </p:nvCxnSpPr>
            <p:spPr>
              <a:xfrm flipV="1">
                <a:off x="6858000" y="2340000"/>
                <a:ext cx="1089360" cy="1394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104" idx="3"/>
                <a:endCxn id="117" idx="2"/>
              </p:cNvCxnSpPr>
              <p:nvPr/>
            </p:nvCxnSpPr>
            <p:spPr>
              <a:xfrm flipV="1">
                <a:off x="65530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163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4920" y="28195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but des m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23" idx="6"/>
              <a:endCxn id="95" idx="1"/>
            </p:cNvCxnSpPr>
            <p:nvPr/>
          </p:nvCxnSpPr>
          <p:spPr>
            <a:xfrm>
              <a:off x="3276720" y="37339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13" idx="6"/>
              <a:endCxn id="74" idx="1"/>
            </p:cNvCxnSpPr>
            <p:nvPr/>
          </p:nvCxnSpPr>
          <p:spPr>
            <a:xfrm>
              <a:off x="4191120" y="5335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15" idx="6"/>
              <a:endCxn id="53" idx="1"/>
            </p:cNvCxnSpPr>
            <p:nvPr/>
          </p:nvCxnSpPr>
          <p:spPr>
            <a:xfrm>
              <a:off x="5943600" y="533520"/>
              <a:ext cx="7668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371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0384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481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6" name=""/>
          <p:cNvCxnSpPr>
            <a:stCxn id="1130" idx="4"/>
            <a:endCxn id="1137" idx="1"/>
          </p:cNvCxnSpPr>
          <p:nvPr/>
        </p:nvCxnSpPr>
        <p:spPr>
          <a:xfrm flipH="1" rot="16200000">
            <a:off x="126180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34" idx="4"/>
            <a:endCxn id="1137" idx="3"/>
          </p:cNvCxnSpPr>
          <p:nvPr/>
        </p:nvCxnSpPr>
        <p:spPr>
          <a:xfrm rot="5400000">
            <a:off x="271944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7" name=""/>
          <p:cNvSpPr/>
          <p:nvPr/>
        </p:nvSpPr>
        <p:spPr>
          <a:xfrm>
            <a:off x="1752480" y="220968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x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66880" y="297180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7" idx="2"/>
            <a:endCxn id="1139" idx="1"/>
          </p:cNvCxnSpPr>
          <p:nvPr/>
        </p:nvCxnSpPr>
        <p:spPr>
          <a:xfrm flipH="1" rot="16200000">
            <a:off x="2237400" y="2759760"/>
            <a:ext cx="545400" cy="295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2" idx="4"/>
            <a:endCxn id="1139" idx="3"/>
          </p:cNvCxnSpPr>
          <p:nvPr/>
        </p:nvCxnSpPr>
        <p:spPr>
          <a:xfrm rot="5400000">
            <a:off x="3290760" y="2280240"/>
            <a:ext cx="1504080" cy="29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956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388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485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722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8" name=""/>
          <p:cNvCxnSpPr>
            <a:stCxn id="1142" idx="4"/>
            <a:endCxn id="1149" idx="1"/>
          </p:cNvCxnSpPr>
          <p:nvPr/>
        </p:nvCxnSpPr>
        <p:spPr>
          <a:xfrm flipH="1" rot="16200000">
            <a:off x="4006080" y="2318400"/>
            <a:ext cx="150408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46" idx="4"/>
            <a:endCxn id="1151" idx="0"/>
          </p:cNvCxnSpPr>
          <p:nvPr/>
        </p:nvCxnSpPr>
        <p:spPr>
          <a:xfrm flipV="1" rot="10800000">
            <a:off x="6323760" y="1676160"/>
            <a:ext cx="1080" cy="44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"/>
          <p:cNvSpPr/>
          <p:nvPr/>
        </p:nvSpPr>
        <p:spPr>
          <a:xfrm>
            <a:off x="4876920" y="2971800"/>
            <a:ext cx="121896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15000" y="213372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2" name=""/>
          <p:cNvCxnSpPr>
            <a:stCxn id="1151" idx="2"/>
            <a:endCxn id="1149" idx="3"/>
          </p:cNvCxnSpPr>
          <p:nvPr/>
        </p:nvCxnSpPr>
        <p:spPr>
          <a:xfrm rot="5400000">
            <a:off x="5904000" y="2759760"/>
            <a:ext cx="62172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"/>
          <p:cNvCxnSpPr>
            <a:stCxn id="1144" idx="4"/>
            <a:endCxn id="1151" idx="3"/>
          </p:cNvCxnSpPr>
          <p:nvPr/>
        </p:nvCxnSpPr>
        <p:spPr>
          <a:xfrm rot="5400000">
            <a:off x="6796440" y="1823040"/>
            <a:ext cx="665640" cy="372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"/>
          <p:cNvSpPr/>
          <p:nvPr/>
        </p:nvSpPr>
        <p:spPr>
          <a:xfrm>
            <a:off x="1295280" y="3886200"/>
            <a:ext cx="3124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x,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95280" y="990720"/>
            <a:ext cx="312444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19720" y="990720"/>
            <a:ext cx="312408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3886200"/>
            <a:ext cx="312408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y,z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52280" y="304920"/>
            <a:ext cx="7925040" cy="4726440"/>
            <a:chOff x="152280" y="304920"/>
            <a:chExt cx="7925040" cy="4726440"/>
          </a:xfrm>
        </p:grpSpPr>
        <p:sp>
          <p:nvSpPr>
            <p:cNvPr id="173" name=""/>
            <p:cNvSpPr/>
            <p:nvPr/>
          </p:nvSpPr>
          <p:spPr>
            <a:xfrm>
              <a:off x="220968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81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180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180" idx="5"/>
                <a:endCxn id="222" idx="1"/>
              </p:cNvCxnSpPr>
              <p:nvPr/>
            </p:nvCxnSpPr>
            <p:spPr>
              <a:xfrm>
                <a:off x="816120" y="2720880"/>
                <a:ext cx="708480" cy="1013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"/>
              <p:cNvCxnSpPr>
                <a:stCxn id="180" idx="7"/>
                <a:endCxn id="183" idx="1"/>
              </p:cNvCxnSpPr>
              <p:nvPr/>
            </p:nvCxnSpPr>
            <p:spPr>
              <a:xfrm flipV="1">
                <a:off x="816120" y="1752120"/>
                <a:ext cx="708480" cy="861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"/>
              <p:cNvCxnSpPr>
                <a:stCxn id="246" idx="6"/>
                <a:endCxn id="213" idx="1"/>
              </p:cNvCxnSpPr>
              <p:nvPr/>
            </p:nvCxnSpPr>
            <p:spPr>
              <a:xfrm>
                <a:off x="32000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"/>
              <p:cNvCxnSpPr>
                <a:stCxn id="192" idx="3"/>
                <a:endCxn id="246" idx="2"/>
              </p:cNvCxnSpPr>
              <p:nvPr/>
            </p:nvCxnSpPr>
            <p:spPr>
              <a:xfrm>
                <a:off x="29718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5" name=""/>
              <p:cNvCxnSpPr>
                <a:stCxn id="222" idx="3"/>
                <a:endCxn id="254" idx="2"/>
              </p:cNvCxnSpPr>
              <p:nvPr/>
            </p:nvCxnSpPr>
            <p:spPr>
              <a:xfrm>
                <a:off x="20570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41" idx="6"/>
                <a:endCxn id="200" idx="3"/>
              </p:cNvCxnSpPr>
              <p:nvPr/>
            </p:nvCxnSpPr>
            <p:spPr>
              <a:xfrm flipV="1">
                <a:off x="2438280" y="1217160"/>
                <a:ext cx="78480" cy="535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7" name=""/>
              <p:cNvCxnSpPr>
                <a:stCxn id="183" idx="3"/>
                <a:endCxn id="241" idx="2"/>
              </p:cNvCxnSpPr>
              <p:nvPr/>
            </p:nvCxnSpPr>
            <p:spPr>
              <a:xfrm>
                <a:off x="2057040" y="175212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8" name=""/>
              <p:cNvCxnSpPr>
                <a:stCxn id="242" idx="2"/>
                <a:endCxn id="201" idx="3"/>
              </p:cNvCxnSpPr>
              <p:nvPr/>
            </p:nvCxnSpPr>
            <p:spPr>
              <a:xfrm flipH="1">
                <a:off x="2971080" y="9903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"/>
              <p:cNvCxnSpPr>
                <a:stCxn id="192" idx="0"/>
                <a:endCxn id="241" idx="6"/>
              </p:cNvCxnSpPr>
              <p:nvPr/>
            </p:nvCxnSpPr>
            <p:spPr>
              <a:xfrm flipH="1" flipV="1">
                <a:off x="2437920" y="1752120"/>
                <a:ext cx="267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04" idx="1"/>
                <a:endCxn id="242" idx="7"/>
              </p:cNvCxnSpPr>
              <p:nvPr/>
            </p:nvCxnSpPr>
            <p:spPr>
              <a:xfrm flipH="1">
                <a:off x="3253680" y="533520"/>
                <a:ext cx="99000" cy="403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1" name=""/>
              <p:cNvCxnSpPr>
                <a:stCxn id="186" idx="1"/>
                <a:endCxn id="242" idx="6"/>
              </p:cNvCxnSpPr>
              <p:nvPr/>
            </p:nvCxnSpPr>
            <p:spPr>
              <a:xfrm flipH="1" flipV="1">
                <a:off x="3276000" y="990360"/>
                <a:ext cx="76680" cy="305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186" idx="3"/>
                <a:endCxn id="248" idx="2"/>
              </p:cNvCxnSpPr>
              <p:nvPr/>
            </p:nvCxnSpPr>
            <p:spPr>
              <a:xfrm>
                <a:off x="38858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>
                <a:stCxn id="248" idx="6"/>
                <a:endCxn id="207" idx="1"/>
              </p:cNvCxnSpPr>
              <p:nvPr/>
            </p:nvCxnSpPr>
            <p:spPr>
              <a:xfrm>
                <a:off x="41907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4" name=""/>
              <p:cNvCxnSpPr>
                <a:stCxn id="204" idx="3"/>
                <a:endCxn id="249" idx="2"/>
              </p:cNvCxnSpPr>
              <p:nvPr/>
            </p:nvCxnSpPr>
            <p:spPr>
              <a:xfrm>
                <a:off x="38858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5" name=""/>
              <p:cNvCxnSpPr>
                <a:stCxn id="210" idx="3"/>
                <a:endCxn id="252" idx="2"/>
              </p:cNvCxnSpPr>
              <p:nvPr/>
            </p:nvCxnSpPr>
            <p:spPr>
              <a:xfrm>
                <a:off x="48002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6" name=""/>
              <p:cNvCxnSpPr>
                <a:stCxn id="252" idx="6"/>
                <a:endCxn id="198" idx="1"/>
              </p:cNvCxnSpPr>
              <p:nvPr/>
            </p:nvCxnSpPr>
            <p:spPr>
              <a:xfrm>
                <a:off x="510516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7" name=""/>
              <p:cNvCxnSpPr>
                <a:stCxn id="243" idx="6"/>
                <a:endCxn id="260" idx="2"/>
              </p:cNvCxnSpPr>
              <p:nvPr/>
            </p:nvCxnSpPr>
            <p:spPr>
              <a:xfrm flipV="1">
                <a:off x="6019560" y="2285280"/>
                <a:ext cx="19054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"/>
              <p:cNvCxnSpPr>
                <a:stCxn id="247" idx="6"/>
                <a:endCxn id="195" idx="1"/>
              </p:cNvCxnSpPr>
              <p:nvPr/>
            </p:nvCxnSpPr>
            <p:spPr>
              <a:xfrm>
                <a:off x="51051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"/>
              <p:cNvCxnSpPr>
                <a:stCxn id="198" idx="3"/>
                <a:endCxn id="251" idx="2"/>
              </p:cNvCxnSpPr>
              <p:nvPr/>
            </p:nvCxnSpPr>
            <p:spPr>
              <a:xfrm>
                <a:off x="571500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0" name=""/>
              <p:cNvCxnSpPr>
                <a:stCxn id="250" idx="5"/>
                <a:endCxn id="260" idx="1"/>
              </p:cNvCxnSpPr>
              <p:nvPr/>
            </p:nvCxnSpPr>
            <p:spPr>
              <a:xfrm>
                <a:off x="5997240" y="1349280"/>
                <a:ext cx="1950120" cy="883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1" name=""/>
              <p:cNvCxnSpPr>
                <a:stCxn id="207" idx="3"/>
                <a:endCxn id="247" idx="2"/>
              </p:cNvCxnSpPr>
              <p:nvPr/>
            </p:nvCxnSpPr>
            <p:spPr>
              <a:xfrm>
                <a:off x="48002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2" name=""/>
              <p:cNvCxnSpPr>
                <a:stCxn id="189" idx="3"/>
                <a:endCxn id="255" idx="2"/>
              </p:cNvCxnSpPr>
              <p:nvPr/>
            </p:nvCxnSpPr>
            <p:spPr>
              <a:xfrm>
                <a:off x="6553080" y="5331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3" name=""/>
              <p:cNvCxnSpPr>
                <a:stCxn id="255" idx="6"/>
                <a:endCxn id="260" idx="1"/>
              </p:cNvCxnSpPr>
              <p:nvPr/>
            </p:nvCxnSpPr>
            <p:spPr>
              <a:xfrm>
                <a:off x="6857640" y="533520"/>
                <a:ext cx="1089720" cy="1699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4" name=""/>
              <p:cNvCxnSpPr>
                <a:stCxn id="213" idx="3"/>
                <a:endCxn id="245" idx="2"/>
              </p:cNvCxnSpPr>
              <p:nvPr/>
            </p:nvCxnSpPr>
            <p:spPr>
              <a:xfrm>
                <a:off x="3886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195" idx="3"/>
                <a:endCxn id="250" idx="2"/>
              </p:cNvCxnSpPr>
              <p:nvPr/>
            </p:nvCxnSpPr>
            <p:spPr>
              <a:xfrm>
                <a:off x="57146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45" idx="6"/>
                <a:endCxn id="225" idx="1"/>
              </p:cNvCxnSpPr>
              <p:nvPr/>
            </p:nvCxnSpPr>
            <p:spPr>
              <a:xfrm>
                <a:off x="41144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25" idx="3"/>
                <a:endCxn id="244" idx="2"/>
              </p:cNvCxnSpPr>
              <p:nvPr/>
            </p:nvCxnSpPr>
            <p:spPr>
              <a:xfrm>
                <a:off x="48006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>
                <a:stCxn id="244" idx="6"/>
                <a:endCxn id="228" idx="1"/>
              </p:cNvCxnSpPr>
              <p:nvPr/>
            </p:nvCxnSpPr>
            <p:spPr>
              <a:xfrm>
                <a:off x="5029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28" idx="3"/>
                <a:endCxn id="243" idx="2"/>
              </p:cNvCxnSpPr>
              <p:nvPr/>
            </p:nvCxnSpPr>
            <p:spPr>
              <a:xfrm>
                <a:off x="5638320" y="25142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43" idx="6"/>
                <a:endCxn id="219" idx="1"/>
              </p:cNvCxnSpPr>
              <p:nvPr/>
            </p:nvCxnSpPr>
            <p:spPr>
              <a:xfrm>
                <a:off x="6019560" y="2514600"/>
                <a:ext cx="1080" cy="381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54" idx="6"/>
                <a:endCxn id="216" idx="1"/>
              </p:cNvCxnSpPr>
              <p:nvPr/>
            </p:nvCxnSpPr>
            <p:spPr>
              <a:xfrm>
                <a:off x="236196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2" name=""/>
              <p:cNvCxnSpPr>
                <a:stCxn id="216" idx="3"/>
                <a:endCxn id="259" idx="2"/>
              </p:cNvCxnSpPr>
              <p:nvPr/>
            </p:nvCxnSpPr>
            <p:spPr>
              <a:xfrm>
                <a:off x="2971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31" idx="3"/>
                <a:endCxn id="258" idx="2"/>
              </p:cNvCxnSpPr>
              <p:nvPr/>
            </p:nvCxnSpPr>
            <p:spPr>
              <a:xfrm>
                <a:off x="3886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58" idx="6"/>
                <a:endCxn id="234" idx="1"/>
              </p:cNvCxnSpPr>
              <p:nvPr/>
            </p:nvCxnSpPr>
            <p:spPr>
              <a:xfrm>
                <a:off x="4114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34" idx="3"/>
                <a:endCxn id="257" idx="2"/>
              </p:cNvCxnSpPr>
              <p:nvPr/>
            </p:nvCxnSpPr>
            <p:spPr>
              <a:xfrm>
                <a:off x="4800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57" idx="6"/>
                <a:endCxn id="237" idx="1"/>
              </p:cNvCxnSpPr>
              <p:nvPr/>
            </p:nvCxnSpPr>
            <p:spPr>
              <a:xfrm>
                <a:off x="5029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>
                <a:stCxn id="237" idx="3"/>
                <a:endCxn id="256" idx="2"/>
              </p:cNvCxnSpPr>
              <p:nvPr/>
            </p:nvCxnSpPr>
            <p:spPr>
              <a:xfrm>
                <a:off x="56386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"/>
              <p:cNvCxnSpPr>
                <a:stCxn id="299" idx="6"/>
                <a:endCxn id="260" idx="2"/>
              </p:cNvCxnSpPr>
              <p:nvPr/>
            </p:nvCxnSpPr>
            <p:spPr>
              <a:xfrm flipV="1">
                <a:off x="6857640" y="2285280"/>
                <a:ext cx="106740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0" name=""/>
              <p:cNvCxnSpPr>
                <a:stCxn id="219" idx="3"/>
                <a:endCxn id="299" idx="2"/>
              </p:cNvCxnSpPr>
              <p:nvPr/>
            </p:nvCxnSpPr>
            <p:spPr>
              <a:xfrm>
                <a:off x="6553080" y="289512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56" idx="6"/>
                <a:endCxn id="240" idx="1"/>
              </p:cNvCxnSpPr>
              <p:nvPr/>
            </p:nvCxnSpPr>
            <p:spPr>
              <a:xfrm>
                <a:off x="5943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53" idx="6"/>
                <a:endCxn id="260" idx="3"/>
              </p:cNvCxnSpPr>
              <p:nvPr/>
            </p:nvCxnSpPr>
            <p:spPr>
              <a:xfrm flipV="1">
                <a:off x="6857640" y="2339640"/>
                <a:ext cx="1089720" cy="1394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40" idx="3"/>
                <a:endCxn id="253" idx="2"/>
              </p:cNvCxnSpPr>
              <p:nvPr/>
            </p:nvCxnSpPr>
            <p:spPr>
              <a:xfrm>
                <a:off x="65530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429000" y="4724280"/>
              <a:ext cx="1905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s de même niv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280" y="2895480"/>
              <a:ext cx="1447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 d’entr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173" idx="2"/>
              <a:endCxn id="304" idx="1"/>
            </p:cNvCxnSpPr>
            <p:nvPr/>
          </p:nvCxnSpPr>
          <p:spPr>
            <a:xfrm>
              <a:off x="2323800" y="4276800"/>
              <a:ext cx="110556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176" idx="2"/>
              <a:endCxn id="304" idx="3"/>
            </p:cNvCxnSpPr>
            <p:nvPr/>
          </p:nvCxnSpPr>
          <p:spPr>
            <a:xfrm flipH="1">
              <a:off x="5333400" y="4276800"/>
              <a:ext cx="57204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175" idx="2"/>
              <a:endCxn id="304" idx="0"/>
            </p:cNvCxnSpPr>
            <p:nvPr/>
          </p:nvCxnSpPr>
          <p:spPr>
            <a:xfrm flipH="1">
              <a:off x="4380840" y="4276440"/>
              <a:ext cx="61020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174" idx="2"/>
              <a:endCxn id="304" idx="0"/>
            </p:cNvCxnSpPr>
            <p:nvPr/>
          </p:nvCxnSpPr>
          <p:spPr>
            <a:xfrm>
              <a:off x="4076280" y="4276440"/>
              <a:ext cx="3056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178" idx="2"/>
              <a:endCxn id="304" idx="0"/>
            </p:cNvCxnSpPr>
            <p:nvPr/>
          </p:nvCxnSpPr>
          <p:spPr>
            <a:xfrm>
              <a:off x="3161880" y="4276440"/>
              <a:ext cx="12200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177" idx="2"/>
              <a:endCxn id="304" idx="3"/>
            </p:cNvCxnSpPr>
            <p:nvPr/>
          </p:nvCxnSpPr>
          <p:spPr>
            <a:xfrm flipH="1">
              <a:off x="5333760" y="4276800"/>
              <a:ext cx="141048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251" idx="6"/>
              <a:endCxn id="189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259" idx="6"/>
              <a:endCxn id="231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243" idx="5"/>
              <a:endCxn id="219" idx="0"/>
            </p:cNvCxnSpPr>
            <p:nvPr/>
          </p:nvCxnSpPr>
          <p:spPr>
            <a:xfrm>
              <a:off x="5997240" y="2577600"/>
              <a:ext cx="289440" cy="89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249" idx="6"/>
              <a:endCxn id="210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85800" y="304920"/>
            <a:ext cx="7391520" cy="4635000"/>
            <a:chOff x="685800" y="304920"/>
            <a:chExt cx="7391520" cy="4635000"/>
          </a:xfrm>
        </p:grpSpPr>
        <p:sp>
          <p:nvSpPr>
            <p:cNvPr id="317" name=""/>
            <p:cNvSpPr/>
            <p:nvPr/>
          </p:nvSpPr>
          <p:spPr>
            <a:xfrm>
              <a:off x="4191120" y="2286000"/>
              <a:ext cx="3047760" cy="19810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800" y="25909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523880" y="1523880"/>
              <a:ext cx="533160" cy="533520"/>
              <a:chOff x="1523880" y="1523880"/>
              <a:chExt cx="533160" cy="533520"/>
            </a:xfrm>
          </p:grpSpPr>
          <p:sp>
            <p:nvSpPr>
              <p:cNvPr id="321" name=""/>
              <p:cNvSpPr/>
              <p:nvPr/>
            </p:nvSpPr>
            <p:spPr>
              <a:xfrm>
                <a:off x="1523880" y="1523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2388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352680" y="1066680"/>
              <a:ext cx="533160" cy="533520"/>
              <a:chOff x="3352680" y="1066680"/>
              <a:chExt cx="533160" cy="533520"/>
            </a:xfrm>
          </p:grpSpPr>
          <p:sp>
            <p:nvSpPr>
              <p:cNvPr id="324" name=""/>
              <p:cNvSpPr/>
              <p:nvPr/>
            </p:nvSpPr>
            <p:spPr>
              <a:xfrm>
                <a:off x="33526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19920" y="304920"/>
              <a:ext cx="533160" cy="533160"/>
              <a:chOff x="6019920" y="304920"/>
              <a:chExt cx="533160" cy="533160"/>
            </a:xfrm>
          </p:grpSpPr>
          <p:sp>
            <p:nvSpPr>
              <p:cNvPr id="327" name=""/>
              <p:cNvSpPr/>
              <p:nvPr/>
            </p:nvSpPr>
            <p:spPr>
              <a:xfrm>
                <a:off x="601992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992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438280" y="2286000"/>
              <a:ext cx="533160" cy="533520"/>
              <a:chOff x="2438280" y="2286000"/>
              <a:chExt cx="533160" cy="533520"/>
            </a:xfrm>
          </p:grpSpPr>
          <p:sp>
            <p:nvSpPr>
              <p:cNvPr id="330" name=""/>
              <p:cNvSpPr/>
              <p:nvPr/>
            </p:nvSpPr>
            <p:spPr>
              <a:xfrm>
                <a:off x="24382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181480" y="1066680"/>
              <a:ext cx="533160" cy="533520"/>
              <a:chOff x="5181480" y="1066680"/>
              <a:chExt cx="533160" cy="533520"/>
            </a:xfrm>
          </p:grpSpPr>
          <p:sp>
            <p:nvSpPr>
              <p:cNvPr id="333" name=""/>
              <p:cNvSpPr/>
              <p:nvPr/>
            </p:nvSpPr>
            <p:spPr>
              <a:xfrm>
                <a:off x="51814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181480" y="304920"/>
              <a:ext cx="533160" cy="533160"/>
              <a:chOff x="5181480" y="304920"/>
              <a:chExt cx="53316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51814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14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438280" y="762120"/>
              <a:ext cx="533160" cy="533160"/>
              <a:chOff x="2438280" y="762120"/>
              <a:chExt cx="5331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438280" y="7621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76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352680" y="304920"/>
              <a:ext cx="533160" cy="533160"/>
              <a:chOff x="3352680" y="304920"/>
              <a:chExt cx="533160" cy="533160"/>
            </a:xfrm>
          </p:grpSpPr>
          <p:sp>
            <p:nvSpPr>
              <p:cNvPr id="342" name=""/>
              <p:cNvSpPr/>
              <p:nvPr/>
            </p:nvSpPr>
            <p:spPr>
              <a:xfrm>
                <a:off x="33526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526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267080" y="1066680"/>
              <a:ext cx="533160" cy="533520"/>
              <a:chOff x="4267080" y="1066680"/>
              <a:chExt cx="533160" cy="533520"/>
            </a:xfrm>
          </p:grpSpPr>
          <p:sp>
            <p:nvSpPr>
              <p:cNvPr id="345" name=""/>
              <p:cNvSpPr/>
              <p:nvPr/>
            </p:nvSpPr>
            <p:spPr>
              <a:xfrm>
                <a:off x="42670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670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267080" y="304920"/>
              <a:ext cx="533160" cy="533160"/>
              <a:chOff x="4267080" y="304920"/>
              <a:chExt cx="533160" cy="533160"/>
            </a:xfrm>
          </p:grpSpPr>
          <p:sp>
            <p:nvSpPr>
              <p:cNvPr id="348" name=""/>
              <p:cNvSpPr/>
              <p:nvPr/>
            </p:nvSpPr>
            <p:spPr>
              <a:xfrm>
                <a:off x="42670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2670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352680" y="2286000"/>
              <a:ext cx="533160" cy="533520"/>
              <a:chOff x="3352680" y="2286000"/>
              <a:chExt cx="533160" cy="533520"/>
            </a:xfrm>
          </p:grpSpPr>
          <p:sp>
            <p:nvSpPr>
              <p:cNvPr id="351" name=""/>
              <p:cNvSpPr/>
              <p:nvPr/>
            </p:nvSpPr>
            <p:spPr>
              <a:xfrm>
                <a:off x="33526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3526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438280" y="3505320"/>
              <a:ext cx="533160" cy="533160"/>
              <a:chOff x="2438280" y="3505320"/>
              <a:chExt cx="533160" cy="533160"/>
            </a:xfrm>
          </p:grpSpPr>
          <p:sp>
            <p:nvSpPr>
              <p:cNvPr id="354" name=""/>
              <p:cNvSpPr/>
              <p:nvPr/>
            </p:nvSpPr>
            <p:spPr>
              <a:xfrm>
                <a:off x="24382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382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19920" y="2666880"/>
              <a:ext cx="533160" cy="533520"/>
              <a:chOff x="6019920" y="2666880"/>
              <a:chExt cx="533160" cy="533520"/>
            </a:xfrm>
          </p:grpSpPr>
          <p:sp>
            <p:nvSpPr>
              <p:cNvPr id="357" name=""/>
              <p:cNvSpPr/>
              <p:nvPr/>
            </p:nvSpPr>
            <p:spPr>
              <a:xfrm>
                <a:off x="6019920" y="2666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19920" y="2666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523880" y="3505320"/>
              <a:ext cx="533160" cy="533160"/>
              <a:chOff x="1523880" y="3505320"/>
              <a:chExt cx="533160" cy="533160"/>
            </a:xfrm>
          </p:grpSpPr>
          <p:sp>
            <p:nvSpPr>
              <p:cNvPr id="360" name=""/>
              <p:cNvSpPr/>
              <p:nvPr/>
            </p:nvSpPr>
            <p:spPr>
              <a:xfrm>
                <a:off x="15238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238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267080" y="2286000"/>
              <a:ext cx="533160" cy="533520"/>
              <a:chOff x="4267080" y="2286000"/>
              <a:chExt cx="533160" cy="533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2670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70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105520" y="2286000"/>
              <a:ext cx="533160" cy="533520"/>
              <a:chOff x="5105520" y="2286000"/>
              <a:chExt cx="533160" cy="533520"/>
            </a:xfrm>
          </p:grpSpPr>
          <p:sp>
            <p:nvSpPr>
              <p:cNvPr id="366" name=""/>
              <p:cNvSpPr/>
              <p:nvPr/>
            </p:nvSpPr>
            <p:spPr>
              <a:xfrm>
                <a:off x="510552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0552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352680" y="3505320"/>
              <a:ext cx="533160" cy="533160"/>
              <a:chOff x="3352680" y="3505320"/>
              <a:chExt cx="533160" cy="533160"/>
            </a:xfrm>
          </p:grpSpPr>
          <p:sp>
            <p:nvSpPr>
              <p:cNvPr id="369" name=""/>
              <p:cNvSpPr/>
              <p:nvPr/>
            </p:nvSpPr>
            <p:spPr>
              <a:xfrm>
                <a:off x="33526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67080" y="3505320"/>
              <a:ext cx="533160" cy="533160"/>
              <a:chOff x="4267080" y="3505320"/>
              <a:chExt cx="533160" cy="533160"/>
            </a:xfrm>
          </p:grpSpPr>
          <p:sp>
            <p:nvSpPr>
              <p:cNvPr id="372" name=""/>
              <p:cNvSpPr/>
              <p:nvPr/>
            </p:nvSpPr>
            <p:spPr>
              <a:xfrm>
                <a:off x="42670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670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105520" y="3505320"/>
              <a:ext cx="533160" cy="533160"/>
              <a:chOff x="5105520" y="3505320"/>
              <a:chExt cx="533160" cy="533160"/>
            </a:xfrm>
          </p:grpSpPr>
          <p:sp>
            <p:nvSpPr>
              <p:cNvPr id="375" name=""/>
              <p:cNvSpPr/>
              <p:nvPr/>
            </p:nvSpPr>
            <p:spPr>
              <a:xfrm>
                <a:off x="51055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055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019920" y="3505320"/>
              <a:ext cx="533160" cy="533160"/>
              <a:chOff x="6019920" y="3505320"/>
              <a:chExt cx="533160" cy="533160"/>
            </a:xfrm>
          </p:grpSpPr>
          <p:sp>
            <p:nvSpPr>
              <p:cNvPr id="378" name=""/>
              <p:cNvSpPr/>
              <p:nvPr/>
            </p:nvSpPr>
            <p:spPr>
              <a:xfrm>
                <a:off x="60199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199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286000" y="1676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24080" y="9144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280" y="24382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769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25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72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913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57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625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240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19" idx="5"/>
              <a:endCxn id="361" idx="1"/>
            </p:cNvCxnSpPr>
            <p:nvPr/>
          </p:nvCxnSpPr>
          <p:spPr>
            <a:xfrm>
              <a:off x="816120" y="2720880"/>
              <a:ext cx="708480" cy="101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1" name=""/>
            <p:cNvCxnSpPr>
              <a:stCxn id="319" idx="7"/>
              <a:endCxn id="322" idx="1"/>
            </p:cNvCxnSpPr>
            <p:nvPr/>
          </p:nvCxnSpPr>
          <p:spPr>
            <a:xfrm flipV="1">
              <a:off x="816120" y="1752120"/>
              <a:ext cx="708480" cy="86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2" name=""/>
            <p:cNvCxnSpPr>
              <a:stCxn id="385" idx="6"/>
              <a:endCxn id="352" idx="1"/>
            </p:cNvCxnSpPr>
            <p:nvPr/>
          </p:nvCxnSpPr>
          <p:spPr>
            <a:xfrm>
              <a:off x="32000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3" name=""/>
            <p:cNvCxnSpPr>
              <a:stCxn id="331" idx="3"/>
              <a:endCxn id="385" idx="2"/>
            </p:cNvCxnSpPr>
            <p:nvPr/>
          </p:nvCxnSpPr>
          <p:spPr>
            <a:xfrm>
              <a:off x="29718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361" idx="3"/>
              <a:endCxn id="393" idx="2"/>
            </p:cNvCxnSpPr>
            <p:nvPr/>
          </p:nvCxnSpPr>
          <p:spPr>
            <a:xfrm>
              <a:off x="20570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80" idx="6"/>
              <a:endCxn id="339" idx="3"/>
            </p:cNvCxnSpPr>
            <p:nvPr/>
          </p:nvCxnSpPr>
          <p:spPr>
            <a:xfrm flipV="1">
              <a:off x="2438280" y="1217160"/>
              <a:ext cx="78480" cy="535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22" idx="3"/>
              <a:endCxn id="380" idx="2"/>
            </p:cNvCxnSpPr>
            <p:nvPr/>
          </p:nvCxnSpPr>
          <p:spPr>
            <a:xfrm>
              <a:off x="2057040" y="17521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>
              <a:stCxn id="381" idx="2"/>
              <a:endCxn id="340" idx="3"/>
            </p:cNvCxnSpPr>
            <p:nvPr/>
          </p:nvCxnSpPr>
          <p:spPr>
            <a:xfrm flipH="1">
              <a:off x="2971080" y="9903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331" idx="0"/>
              <a:endCxn id="380" idx="6"/>
            </p:cNvCxnSpPr>
            <p:nvPr/>
          </p:nvCxnSpPr>
          <p:spPr>
            <a:xfrm flipH="1" flipV="1">
              <a:off x="2437920" y="1752120"/>
              <a:ext cx="26712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343" idx="1"/>
              <a:endCxn id="381" idx="7"/>
            </p:cNvCxnSpPr>
            <p:nvPr/>
          </p:nvCxnSpPr>
          <p:spPr>
            <a:xfrm flipH="1">
              <a:off x="3253680" y="533520"/>
              <a:ext cx="99000" cy="403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0" name=""/>
            <p:cNvCxnSpPr>
              <a:stCxn id="325" idx="1"/>
              <a:endCxn id="381" idx="6"/>
            </p:cNvCxnSpPr>
            <p:nvPr/>
          </p:nvCxnSpPr>
          <p:spPr>
            <a:xfrm flipH="1" flipV="1">
              <a:off x="3276000" y="990360"/>
              <a:ext cx="7668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1" name=""/>
            <p:cNvCxnSpPr>
              <a:stCxn id="325" idx="3"/>
              <a:endCxn id="387" idx="2"/>
            </p:cNvCxnSpPr>
            <p:nvPr/>
          </p:nvCxnSpPr>
          <p:spPr>
            <a:xfrm>
              <a:off x="38858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stCxn id="387" idx="6"/>
              <a:endCxn id="346" idx="1"/>
            </p:cNvCxnSpPr>
            <p:nvPr/>
          </p:nvCxnSpPr>
          <p:spPr>
            <a:xfrm>
              <a:off x="41907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3" name=""/>
            <p:cNvCxnSpPr>
              <a:stCxn id="343" idx="3"/>
              <a:endCxn id="388" idx="2"/>
            </p:cNvCxnSpPr>
            <p:nvPr/>
          </p:nvCxnSpPr>
          <p:spPr>
            <a:xfrm>
              <a:off x="38858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4" name=""/>
            <p:cNvCxnSpPr>
              <a:stCxn id="349" idx="3"/>
              <a:endCxn id="391" idx="2"/>
            </p:cNvCxnSpPr>
            <p:nvPr/>
          </p:nvCxnSpPr>
          <p:spPr>
            <a:xfrm>
              <a:off x="48002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391" idx="6"/>
              <a:endCxn id="337" idx="1"/>
            </p:cNvCxnSpPr>
            <p:nvPr/>
          </p:nvCxnSpPr>
          <p:spPr>
            <a:xfrm>
              <a:off x="510516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382" idx="6"/>
              <a:endCxn id="399" idx="2"/>
            </p:cNvCxnSpPr>
            <p:nvPr/>
          </p:nvCxnSpPr>
          <p:spPr>
            <a:xfrm flipV="1">
              <a:off x="6019560" y="2285280"/>
              <a:ext cx="19054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386" idx="6"/>
              <a:endCxn id="334" idx="1"/>
            </p:cNvCxnSpPr>
            <p:nvPr/>
          </p:nvCxnSpPr>
          <p:spPr>
            <a:xfrm>
              <a:off x="51051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8" name=""/>
            <p:cNvCxnSpPr>
              <a:stCxn id="337" idx="3"/>
              <a:endCxn id="390" idx="2"/>
            </p:cNvCxnSpPr>
            <p:nvPr/>
          </p:nvCxnSpPr>
          <p:spPr>
            <a:xfrm>
              <a:off x="571500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9" name=""/>
            <p:cNvCxnSpPr>
              <a:stCxn id="389" idx="5"/>
              <a:endCxn id="399" idx="1"/>
            </p:cNvCxnSpPr>
            <p:nvPr/>
          </p:nvCxnSpPr>
          <p:spPr>
            <a:xfrm>
              <a:off x="5997240" y="1349280"/>
              <a:ext cx="1950120" cy="883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0" name=""/>
            <p:cNvCxnSpPr>
              <a:stCxn id="346" idx="3"/>
              <a:endCxn id="386" idx="2"/>
            </p:cNvCxnSpPr>
            <p:nvPr/>
          </p:nvCxnSpPr>
          <p:spPr>
            <a:xfrm>
              <a:off x="48002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1" name=""/>
            <p:cNvCxnSpPr>
              <a:stCxn id="328" idx="3"/>
              <a:endCxn id="394" idx="2"/>
            </p:cNvCxnSpPr>
            <p:nvPr/>
          </p:nvCxnSpPr>
          <p:spPr>
            <a:xfrm>
              <a:off x="6553080" y="5331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2" name=""/>
            <p:cNvCxnSpPr>
              <a:stCxn id="394" idx="6"/>
              <a:endCxn id="399" idx="1"/>
            </p:cNvCxnSpPr>
            <p:nvPr/>
          </p:nvCxnSpPr>
          <p:spPr>
            <a:xfrm>
              <a:off x="6857640" y="533520"/>
              <a:ext cx="1089720" cy="169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3" name=""/>
            <p:cNvCxnSpPr>
              <a:stCxn id="352" idx="3"/>
              <a:endCxn id="384" idx="2"/>
            </p:cNvCxnSpPr>
            <p:nvPr/>
          </p:nvCxnSpPr>
          <p:spPr>
            <a:xfrm>
              <a:off x="3886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4" name=""/>
            <p:cNvCxnSpPr>
              <a:stCxn id="334" idx="3"/>
              <a:endCxn id="389" idx="2"/>
            </p:cNvCxnSpPr>
            <p:nvPr/>
          </p:nvCxnSpPr>
          <p:spPr>
            <a:xfrm>
              <a:off x="57146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5" name=""/>
            <p:cNvCxnSpPr>
              <a:stCxn id="384" idx="6"/>
              <a:endCxn id="364" idx="1"/>
            </p:cNvCxnSpPr>
            <p:nvPr/>
          </p:nvCxnSpPr>
          <p:spPr>
            <a:xfrm>
              <a:off x="41144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6" name=""/>
            <p:cNvCxnSpPr>
              <a:stCxn id="364" idx="3"/>
              <a:endCxn id="383" idx="2"/>
            </p:cNvCxnSpPr>
            <p:nvPr/>
          </p:nvCxnSpPr>
          <p:spPr>
            <a:xfrm>
              <a:off x="48006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7" name=""/>
            <p:cNvCxnSpPr>
              <a:stCxn id="383" idx="6"/>
              <a:endCxn id="367" idx="1"/>
            </p:cNvCxnSpPr>
            <p:nvPr/>
          </p:nvCxnSpPr>
          <p:spPr>
            <a:xfrm>
              <a:off x="5029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367" idx="3"/>
              <a:endCxn id="382" idx="2"/>
            </p:cNvCxnSpPr>
            <p:nvPr/>
          </p:nvCxnSpPr>
          <p:spPr>
            <a:xfrm>
              <a:off x="5638320" y="25142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382" idx="6"/>
              <a:endCxn id="358" idx="1"/>
            </p:cNvCxnSpPr>
            <p:nvPr/>
          </p:nvCxnSpPr>
          <p:spPr>
            <a:xfrm>
              <a:off x="6019560" y="2514600"/>
              <a:ext cx="108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stCxn id="393" idx="6"/>
              <a:endCxn id="355" idx="1"/>
            </p:cNvCxnSpPr>
            <p:nvPr/>
          </p:nvCxnSpPr>
          <p:spPr>
            <a:xfrm>
              <a:off x="236196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355" idx="3"/>
              <a:endCxn id="398" idx="2"/>
            </p:cNvCxnSpPr>
            <p:nvPr/>
          </p:nvCxnSpPr>
          <p:spPr>
            <a:xfrm>
              <a:off x="2971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370" idx="3"/>
              <a:endCxn id="397" idx="2"/>
            </p:cNvCxnSpPr>
            <p:nvPr/>
          </p:nvCxnSpPr>
          <p:spPr>
            <a:xfrm>
              <a:off x="3886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397" idx="6"/>
              <a:endCxn id="373" idx="1"/>
            </p:cNvCxnSpPr>
            <p:nvPr/>
          </p:nvCxnSpPr>
          <p:spPr>
            <a:xfrm>
              <a:off x="4114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4" name=""/>
            <p:cNvCxnSpPr>
              <a:stCxn id="373" idx="3"/>
              <a:endCxn id="396" idx="2"/>
            </p:cNvCxnSpPr>
            <p:nvPr/>
          </p:nvCxnSpPr>
          <p:spPr>
            <a:xfrm>
              <a:off x="4800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396" idx="6"/>
              <a:endCxn id="376" idx="1"/>
            </p:cNvCxnSpPr>
            <p:nvPr/>
          </p:nvCxnSpPr>
          <p:spPr>
            <a:xfrm>
              <a:off x="5029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376" idx="3"/>
              <a:endCxn id="395" idx="2"/>
            </p:cNvCxnSpPr>
            <p:nvPr/>
          </p:nvCxnSpPr>
          <p:spPr>
            <a:xfrm>
              <a:off x="56386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38" idx="6"/>
              <a:endCxn id="399" idx="2"/>
            </p:cNvCxnSpPr>
            <p:nvPr/>
          </p:nvCxnSpPr>
          <p:spPr>
            <a:xfrm flipV="1">
              <a:off x="6857640" y="2285280"/>
              <a:ext cx="10674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>
              <a:stCxn id="358" idx="3"/>
              <a:endCxn id="438" idx="2"/>
            </p:cNvCxnSpPr>
            <p:nvPr/>
          </p:nvCxnSpPr>
          <p:spPr>
            <a:xfrm>
              <a:off x="6553080" y="289512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>
              <a:stCxn id="395" idx="6"/>
              <a:endCxn id="379" idx="1"/>
            </p:cNvCxnSpPr>
            <p:nvPr/>
          </p:nvCxnSpPr>
          <p:spPr>
            <a:xfrm>
              <a:off x="5943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>
              <a:stCxn id="392" idx="6"/>
              <a:endCxn id="399" idx="3"/>
            </p:cNvCxnSpPr>
            <p:nvPr/>
          </p:nvCxnSpPr>
          <p:spPr>
            <a:xfrm flipV="1">
              <a:off x="6857640" y="2339640"/>
              <a:ext cx="1089720" cy="13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2" name=""/>
            <p:cNvCxnSpPr>
              <a:stCxn id="379" idx="3"/>
              <a:endCxn id="392" idx="2"/>
            </p:cNvCxnSpPr>
            <p:nvPr/>
          </p:nvCxnSpPr>
          <p:spPr>
            <a:xfrm>
              <a:off x="65530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38" name=""/>
            <p:cNvSpPr/>
            <p:nvPr/>
          </p:nvSpPr>
          <p:spPr>
            <a:xfrm>
              <a:off x="6705720" y="2819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"/>
            <p:cNvCxnSpPr>
              <a:stCxn id="398" idx="6"/>
              <a:endCxn id="370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>
              <a:stCxn id="390" idx="6"/>
              <a:endCxn id="328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5" name=""/>
            <p:cNvSpPr/>
            <p:nvPr/>
          </p:nvSpPr>
          <p:spPr>
            <a:xfrm>
              <a:off x="1600200" y="4419720"/>
              <a:ext cx="5638680" cy="52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ur le mot « ALLIER »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à ce niveau, on décide de couper  deux branches pour n’en laisser que de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>
              <a:stCxn id="388" idx="6"/>
              <a:endCxn id="349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7" name="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676520" y="1295280"/>
            <a:ext cx="6553080" cy="4114080"/>
            <a:chOff x="1676520" y="1295280"/>
            <a:chExt cx="6553080" cy="4114080"/>
          </a:xfrm>
        </p:grpSpPr>
        <p:sp>
          <p:nvSpPr>
            <p:cNvPr id="449" name=""/>
            <p:cNvSpPr/>
            <p:nvPr/>
          </p:nvSpPr>
          <p:spPr>
            <a:xfrm flipV="1" rot="5400000">
              <a:off x="4545720" y="2845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5400000">
              <a:off x="5460120" y="23882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5400000">
              <a:off x="5688720" y="2616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400000">
              <a:off x="2031120" y="3759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5400000">
              <a:off x="2259720" y="3988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5400000">
              <a:off x="2488320" y="42170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962520" y="2895480"/>
              <a:ext cx="152280" cy="380520"/>
              <a:chOff x="3962520" y="2895480"/>
              <a:chExt cx="152280" cy="380520"/>
            </a:xfrm>
          </p:grpSpPr>
          <p:sp>
            <p:nvSpPr>
              <p:cNvPr id="456" name=""/>
              <p:cNvSpPr/>
              <p:nvPr/>
            </p:nvSpPr>
            <p:spPr>
              <a:xfrm>
                <a:off x="3962520" y="2895480"/>
                <a:ext cx="101520" cy="317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3962520" y="3085560"/>
                <a:ext cx="152280" cy="1904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676520" y="1295280"/>
              <a:ext cx="5029200" cy="3886200"/>
              <a:chOff x="1676520" y="1295280"/>
              <a:chExt cx="5029200" cy="3886200"/>
            </a:xfrm>
          </p:grpSpPr>
          <p:sp>
            <p:nvSpPr>
              <p:cNvPr id="459" name=""/>
              <p:cNvSpPr/>
              <p:nvPr/>
            </p:nvSpPr>
            <p:spPr>
              <a:xfrm>
                <a:off x="1676520" y="26668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905120" y="1981080"/>
                <a:ext cx="685440" cy="456480"/>
                <a:chOff x="1905120" y="1981080"/>
                <a:chExt cx="685440" cy="456480"/>
              </a:xfrm>
            </p:grpSpPr>
            <p:sp>
              <p:nvSpPr>
                <p:cNvPr id="461" name=""/>
                <p:cNvSpPr/>
                <p:nvPr/>
              </p:nvSpPr>
              <p:spPr>
                <a:xfrm flipH="1">
                  <a:off x="19051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1333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19051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23612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505320" y="1523880"/>
                <a:ext cx="685440" cy="456480"/>
                <a:chOff x="3505320" y="1523880"/>
                <a:chExt cx="685440" cy="45648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35053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37335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35053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9614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276720" y="1981080"/>
                <a:ext cx="685440" cy="456480"/>
                <a:chOff x="3276720" y="1981080"/>
                <a:chExt cx="685440" cy="45648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32767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35049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32767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37328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648320" y="1295280"/>
                <a:ext cx="685440" cy="456480"/>
                <a:chOff x="4648320" y="1295280"/>
                <a:chExt cx="685440" cy="4564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>
                  <a:off x="46483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8765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46483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51044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419720" y="1752480"/>
                <a:ext cx="685440" cy="456480"/>
                <a:chOff x="4419720" y="1752480"/>
                <a:chExt cx="685440" cy="456480"/>
              </a:xfrm>
            </p:grpSpPr>
            <p:sp>
              <p:nvSpPr>
                <p:cNvPr id="481" name=""/>
                <p:cNvSpPr/>
                <p:nvPr/>
              </p:nvSpPr>
              <p:spPr>
                <a:xfrm flipH="1">
                  <a:off x="44197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46479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44197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>
                  <a:off x="48758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334120" y="1295280"/>
                <a:ext cx="685440" cy="456480"/>
                <a:chOff x="5334120" y="1295280"/>
                <a:chExt cx="685440" cy="456480"/>
              </a:xfrm>
            </p:grpSpPr>
            <p:sp>
              <p:nvSpPr>
                <p:cNvPr id="486" name=""/>
                <p:cNvSpPr/>
                <p:nvPr/>
              </p:nvSpPr>
              <p:spPr>
                <a:xfrm flipH="1">
                  <a:off x="53341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55623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53341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57902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019920" y="1981080"/>
                <a:ext cx="685440" cy="456480"/>
                <a:chOff x="6019920" y="1981080"/>
                <a:chExt cx="685440" cy="456480"/>
              </a:xfrm>
            </p:grpSpPr>
            <p:sp>
              <p:nvSpPr>
                <p:cNvPr id="491" name=""/>
                <p:cNvSpPr/>
                <p:nvPr/>
              </p:nvSpPr>
              <p:spPr>
                <a:xfrm flipH="1">
                  <a:off x="60199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62481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>
                  <a:off x="60199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64760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62720" y="1523880"/>
                <a:ext cx="685440" cy="456480"/>
                <a:chOff x="5562720" y="1523880"/>
                <a:chExt cx="685440" cy="45648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55627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57909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55627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60188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791320" y="1752480"/>
                <a:ext cx="685440" cy="456480"/>
                <a:chOff x="5791320" y="1752480"/>
                <a:chExt cx="685440" cy="456480"/>
              </a:xfrm>
            </p:grpSpPr>
            <p:sp>
              <p:nvSpPr>
                <p:cNvPr id="501" name=""/>
                <p:cNvSpPr/>
                <p:nvPr/>
              </p:nvSpPr>
              <p:spPr>
                <a:xfrm flipH="1">
                  <a:off x="57913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60195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57913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62474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505320" y="2209680"/>
                <a:ext cx="1142640" cy="913680"/>
                <a:chOff x="3505320" y="2209680"/>
                <a:chExt cx="1142640" cy="9136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3962520" y="2666880"/>
                  <a:ext cx="685440" cy="456480"/>
                  <a:chOff x="3962520" y="2666880"/>
                  <a:chExt cx="685440" cy="4564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>
                    <a:off x="3962520" y="26668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>
                    <a:off x="4190760" y="28951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3962520" y="28951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4418640" y="26668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3733920" y="2438280"/>
                  <a:ext cx="685440" cy="456480"/>
                  <a:chOff x="3733920" y="2438280"/>
                  <a:chExt cx="685440" cy="4564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37339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39621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37339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flipV="1">
                    <a:off x="41900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3505320" y="2209680"/>
                  <a:ext cx="685440" cy="456480"/>
                  <a:chOff x="3505320" y="2209680"/>
                  <a:chExt cx="685440" cy="4564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>
                    <a:off x="3505320" y="2209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>
                    <a:off x="3733560" y="2437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>
                    <a:off x="3505320" y="2437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3961440" y="2209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4876920" y="2209680"/>
                <a:ext cx="685440" cy="456480"/>
                <a:chOff x="4876920" y="2209680"/>
                <a:chExt cx="685440" cy="456480"/>
              </a:xfrm>
            </p:grpSpPr>
            <p:sp>
              <p:nvSpPr>
                <p:cNvPr id="522" name=""/>
                <p:cNvSpPr/>
                <p:nvPr/>
              </p:nvSpPr>
              <p:spPr>
                <a:xfrm flipH="1">
                  <a:off x="4876920" y="22096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105160" y="24379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4876920" y="24379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5333040" y="22096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648320" y="1981080"/>
                <a:ext cx="685440" cy="456480"/>
                <a:chOff x="4648320" y="1981080"/>
                <a:chExt cx="685440" cy="456480"/>
              </a:xfrm>
            </p:grpSpPr>
            <p:sp>
              <p:nvSpPr>
                <p:cNvPr id="527" name=""/>
                <p:cNvSpPr/>
                <p:nvPr/>
              </p:nvSpPr>
              <p:spPr>
                <a:xfrm flipH="1">
                  <a:off x="46483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8765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>
                  <a:off x="46483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51044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733920" y="3124080"/>
                <a:ext cx="685440" cy="456480"/>
                <a:chOff x="3733920" y="3124080"/>
                <a:chExt cx="685440" cy="456480"/>
              </a:xfrm>
            </p:grpSpPr>
            <p:sp>
              <p:nvSpPr>
                <p:cNvPr id="532" name=""/>
                <p:cNvSpPr/>
                <p:nvPr/>
              </p:nvSpPr>
              <p:spPr>
                <a:xfrm flipH="1">
                  <a:off x="3733920" y="3124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3962160" y="3352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>
                  <a:off x="3733920" y="3352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4190040" y="3124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35816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816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981440" y="20570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éb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1676520" y="2438280"/>
                <a:ext cx="1828440" cy="1599480"/>
                <a:chOff x="1676520" y="2438280"/>
                <a:chExt cx="1828440" cy="159948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1676520" y="2438280"/>
                  <a:ext cx="685440" cy="456480"/>
                  <a:chOff x="1676520" y="2438280"/>
                  <a:chExt cx="685440" cy="4564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>
                    <a:off x="16765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19047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6765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21326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1905120" y="2666880"/>
                  <a:ext cx="1142640" cy="913680"/>
                  <a:chOff x="1905120" y="2666880"/>
                  <a:chExt cx="1142640" cy="913680"/>
                </a:xfrm>
              </p:grpSpPr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362320" y="3124080"/>
                    <a:ext cx="685440" cy="456480"/>
                    <a:chOff x="2362320" y="3124080"/>
                    <a:chExt cx="685440" cy="4564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>
                      <a:off x="2362320" y="31240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>
                      <a:off x="2590560" y="33523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flipV="1">
                      <a:off x="2362320" y="33523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flipV="1">
                      <a:off x="2818440" y="31240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133720" y="2895480"/>
                    <a:ext cx="685440" cy="456480"/>
                    <a:chOff x="2133720" y="2895480"/>
                    <a:chExt cx="685440" cy="45648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>
                      <a:off x="2133720" y="28954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>
                      <a:off x="2361960" y="31237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flipV="1">
                      <a:off x="2133720" y="31237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flipV="1">
                      <a:off x="2589840" y="28954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1905120" y="2666880"/>
                    <a:ext cx="685440" cy="456480"/>
                    <a:chOff x="1905120" y="2666880"/>
                    <a:chExt cx="685440" cy="4564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>
                      <a:off x="1905120" y="26668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>
                      <a:off x="2133360" y="28951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flipV="1">
                      <a:off x="1905120" y="28951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flipV="1">
                      <a:off x="2361240" y="26668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2819520" y="3581280"/>
                  <a:ext cx="685440" cy="456480"/>
                  <a:chOff x="2819520" y="3581280"/>
                  <a:chExt cx="685440" cy="4564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>
                    <a:off x="2819520" y="3581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3047760" y="3809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2819520" y="3809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3275640" y="3581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2590920" y="3352680"/>
                  <a:ext cx="685440" cy="456480"/>
                  <a:chOff x="2590920" y="3352680"/>
                  <a:chExt cx="685440" cy="4564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>
                    <a:off x="2590920" y="3352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819160" y="3580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2590920" y="3580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>
                    <a:off x="3047040" y="3352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1" name=""/>
              <p:cNvGrpSpPr/>
              <p:nvPr/>
            </p:nvGrpSpPr>
            <p:grpSpPr>
              <a:xfrm>
                <a:off x="1752840" y="2514240"/>
                <a:ext cx="1675800" cy="1450080"/>
                <a:chOff x="1752840" y="2514240"/>
                <a:chExt cx="1675800" cy="14500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981080" y="27428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752840" y="2514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09680" y="29714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438280" y="32000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666880" y="34286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895480" y="3657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3530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10240" y="2514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840" y="2742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10240" y="3200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246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246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390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32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76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104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962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960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33720" y="24382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34120" y="15238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91320" y="12952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676520" y="26668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05120" y="28954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33720" y="3124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62320" y="33526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90920" y="3581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19520" y="38098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48120" y="4038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505320" y="3809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2520" y="3581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339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48320" y="2895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05520" y="2666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19720" y="19810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8320" y="22096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91120" y="17524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5320" y="17524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76720" y="22096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197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505320" y="24382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33920" y="26668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62520" y="2895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22096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627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4120" y="15238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48320" y="15238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85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05720" y="2209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6920" y="2438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62720" y="1752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91320" y="1981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19920" y="22096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048120" y="41904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048120" y="45712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048120" y="49525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3962520" y="3733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3962520" y="4114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962520" y="4495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105520" y="28188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105520" y="31996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105520" y="35809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48520" y="2590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48520" y="2971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48520" y="3352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24440" y="47242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24440" y="4343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24440" y="39621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38840" y="4267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38840" y="3885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38840" y="3504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81840" y="3352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1840" y="29714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1840" y="25905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24840" y="3124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24840" y="2742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24840" y="2361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67440" y="3047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419720" y="327636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4419720" y="365724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4419720" y="4038120"/>
                <a:ext cx="22860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76520" y="312408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76520" y="350496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76520" y="3885840"/>
                <a:ext cx="1371600" cy="129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8320" y="3047760"/>
                <a:ext cx="4572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76720" y="2666880"/>
                <a:ext cx="6094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33920" y="449568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33920" y="41144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733920" y="373356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720" y="304776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76720" y="342864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48320" y="335268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62720" y="2971440"/>
                <a:ext cx="68580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34120" y="190476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62720" y="2514240"/>
                <a:ext cx="6858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19720" y="2438280"/>
                <a:ext cx="6858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5120" y="22096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362320" y="3352680"/>
              <a:ext cx="228600" cy="685800"/>
              <a:chOff x="2362320" y="3352680"/>
              <a:chExt cx="228600" cy="685800"/>
            </a:xfrm>
          </p:grpSpPr>
          <p:sp>
            <p:nvSpPr>
              <p:cNvPr id="669" name=""/>
              <p:cNvSpPr/>
              <p:nvPr/>
            </p:nvSpPr>
            <p:spPr>
              <a:xfrm>
                <a:off x="23623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3623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590920" y="3581280"/>
              <a:ext cx="228600" cy="685800"/>
              <a:chOff x="2590920" y="3581280"/>
              <a:chExt cx="228600" cy="685800"/>
            </a:xfrm>
          </p:grpSpPr>
          <p:sp>
            <p:nvSpPr>
              <p:cNvPr id="672" name=""/>
              <p:cNvSpPr/>
              <p:nvPr/>
            </p:nvSpPr>
            <p:spPr>
              <a:xfrm>
                <a:off x="2590920" y="3581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90920" y="3809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819520" y="3809880"/>
              <a:ext cx="228600" cy="685800"/>
              <a:chOff x="2819520" y="3809880"/>
              <a:chExt cx="228600" cy="685800"/>
            </a:xfrm>
          </p:grpSpPr>
          <p:sp>
            <p:nvSpPr>
              <p:cNvPr id="675" name=""/>
              <p:cNvSpPr/>
              <p:nvPr/>
            </p:nvSpPr>
            <p:spPr>
              <a:xfrm>
                <a:off x="2819520" y="38098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2819520" y="40381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2590920" y="3962520"/>
              <a:ext cx="228600" cy="685800"/>
              <a:chOff x="2590920" y="3962520"/>
              <a:chExt cx="228600" cy="685800"/>
            </a:xfrm>
          </p:grpSpPr>
          <p:sp>
            <p:nvSpPr>
              <p:cNvPr id="678" name=""/>
              <p:cNvSpPr/>
              <p:nvPr/>
            </p:nvSpPr>
            <p:spPr>
              <a:xfrm>
                <a:off x="2590920" y="39625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590920" y="41907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819520" y="4191120"/>
              <a:ext cx="228600" cy="685800"/>
              <a:chOff x="2819520" y="4191120"/>
              <a:chExt cx="228600" cy="685800"/>
            </a:xfrm>
          </p:grpSpPr>
          <p:sp>
            <p:nvSpPr>
              <p:cNvPr id="681" name=""/>
              <p:cNvSpPr/>
              <p:nvPr/>
            </p:nvSpPr>
            <p:spPr>
              <a:xfrm>
                <a:off x="2819520" y="41911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2819520" y="44193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562720" y="1752480"/>
              <a:ext cx="228600" cy="685800"/>
              <a:chOff x="5562720" y="1752480"/>
              <a:chExt cx="228600" cy="685800"/>
            </a:xfrm>
          </p:grpSpPr>
          <p:sp>
            <p:nvSpPr>
              <p:cNvPr id="684" name=""/>
              <p:cNvSpPr/>
              <p:nvPr/>
            </p:nvSpPr>
            <p:spPr>
              <a:xfrm>
                <a:off x="5562720" y="1752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62720" y="1980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019920" y="2209680"/>
              <a:ext cx="228600" cy="685800"/>
              <a:chOff x="6019920" y="2209680"/>
              <a:chExt cx="228600" cy="685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0199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60199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019920" y="2590920"/>
              <a:ext cx="228600" cy="685800"/>
              <a:chOff x="6019920" y="2590920"/>
              <a:chExt cx="228600" cy="685800"/>
            </a:xfrm>
          </p:grpSpPr>
          <p:sp>
            <p:nvSpPr>
              <p:cNvPr id="690" name=""/>
              <p:cNvSpPr/>
              <p:nvPr/>
            </p:nvSpPr>
            <p:spPr>
              <a:xfrm>
                <a:off x="6019920" y="2590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019920" y="2819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1320" y="1981080"/>
              <a:ext cx="228600" cy="685800"/>
              <a:chOff x="5791320" y="1981080"/>
              <a:chExt cx="228600" cy="685800"/>
            </a:xfrm>
          </p:grpSpPr>
          <p:sp>
            <p:nvSpPr>
              <p:cNvPr id="693" name=""/>
              <p:cNvSpPr/>
              <p:nvPr/>
            </p:nvSpPr>
            <p:spPr>
              <a:xfrm>
                <a:off x="5791320" y="19810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1320" y="22093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791320" y="2362320"/>
              <a:ext cx="228600" cy="685800"/>
              <a:chOff x="5791320" y="2362320"/>
              <a:chExt cx="228600" cy="685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791320" y="23623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791320" y="25905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648320" y="2209680"/>
              <a:ext cx="228600" cy="685800"/>
              <a:chOff x="4648320" y="2209680"/>
              <a:chExt cx="228600" cy="685800"/>
            </a:xfrm>
          </p:grpSpPr>
          <p:sp>
            <p:nvSpPr>
              <p:cNvPr id="699" name=""/>
              <p:cNvSpPr/>
              <p:nvPr/>
            </p:nvSpPr>
            <p:spPr>
              <a:xfrm>
                <a:off x="46483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46483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2438280"/>
              <a:ext cx="228600" cy="685800"/>
              <a:chOff x="4876920" y="2438280"/>
              <a:chExt cx="228600" cy="685800"/>
            </a:xfrm>
          </p:grpSpPr>
          <p:sp>
            <p:nvSpPr>
              <p:cNvPr id="702" name=""/>
              <p:cNvSpPr/>
              <p:nvPr/>
            </p:nvSpPr>
            <p:spPr>
              <a:xfrm>
                <a:off x="4876920" y="2438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876920" y="2666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876920" y="2743200"/>
              <a:ext cx="228600" cy="685800"/>
              <a:chOff x="4876920" y="2743200"/>
              <a:chExt cx="228600" cy="685800"/>
            </a:xfrm>
          </p:grpSpPr>
          <p:sp>
            <p:nvSpPr>
              <p:cNvPr id="705" name=""/>
              <p:cNvSpPr/>
              <p:nvPr/>
            </p:nvSpPr>
            <p:spPr>
              <a:xfrm>
                <a:off x="4876920" y="274320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876920" y="297144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733920" y="3352680"/>
              <a:ext cx="228600" cy="685800"/>
              <a:chOff x="3733920" y="3352680"/>
              <a:chExt cx="228600" cy="685800"/>
            </a:xfrm>
          </p:grpSpPr>
          <p:sp>
            <p:nvSpPr>
              <p:cNvPr id="708" name=""/>
              <p:cNvSpPr/>
              <p:nvPr/>
            </p:nvSpPr>
            <p:spPr>
              <a:xfrm>
                <a:off x="37339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7339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3733920" y="3733920"/>
              <a:ext cx="228600" cy="685800"/>
              <a:chOff x="3733920" y="3733920"/>
              <a:chExt cx="228600" cy="685800"/>
            </a:xfrm>
          </p:grpSpPr>
          <p:sp>
            <p:nvSpPr>
              <p:cNvPr id="711" name=""/>
              <p:cNvSpPr/>
              <p:nvPr/>
            </p:nvSpPr>
            <p:spPr>
              <a:xfrm>
                <a:off x="3733920" y="3733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733920" y="3962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3733920" y="2743200"/>
              <a:ext cx="228600" cy="533520"/>
              <a:chOff x="3733920" y="2743200"/>
              <a:chExt cx="22860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3733920" y="2743200"/>
                <a:ext cx="228600" cy="533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733920" y="2921040"/>
                <a:ext cx="228600" cy="1778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4038480"/>
              <a:ext cx="228600" cy="685800"/>
              <a:chOff x="5486400" y="4038480"/>
              <a:chExt cx="228600" cy="68580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4038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486400" y="4266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791320" y="4267080"/>
              <a:ext cx="23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éduction des calculs (p=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67280" y="495288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nches coupé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5400000">
              <a:off x="5307840" y="4978080"/>
              <a:ext cx="533160" cy="328680"/>
            </a:xfrm>
            <a:prstGeom prst="parallelogram">
              <a:avLst>
                <a:gd name="adj" fmla="val 3813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2" name=""/>
          <p:cNvCxnSpPr>
            <a:stCxn id="614" idx="0"/>
            <a:endCxn id="608" idx="0"/>
          </p:cNvCxnSpPr>
          <p:nvPr/>
        </p:nvCxnSpPr>
        <p:spPr>
          <a:xfrm flipV="1">
            <a:off x="2590920" y="1742760"/>
            <a:ext cx="915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07" idx="0"/>
            <a:endCxn id="617" idx="0"/>
          </p:cNvCxnSpPr>
          <p:nvPr/>
        </p:nvCxnSpPr>
        <p:spPr>
          <a:xfrm flipV="1">
            <a:off x="4191120" y="151380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4191120" y="3505320"/>
          <a:ext cx="14666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05320"/>
                    <a:ext cx="1466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28800" y="2971800"/>
          <a:ext cx="1467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971800"/>
                    <a:ext cx="1467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3429000" y="3429000"/>
          <a:ext cx="446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429000"/>
                    <a:ext cx="446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1295280" y="2133720"/>
            <a:ext cx="4724640" cy="2590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35053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609480" y="3048120"/>
          <a:ext cx="58104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3048120"/>
                    <a:ext cx="581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6095880" y="3200400"/>
          <a:ext cx="60012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2004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3429000" y="2133720"/>
            <a:ext cx="0" cy="25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514240" y="3962520"/>
            <a:ext cx="152640" cy="152280"/>
            <a:chOff x="2514240" y="3962520"/>
            <a:chExt cx="152640" cy="152280"/>
          </a:xfrm>
        </p:grpSpPr>
        <p:sp>
          <p:nvSpPr>
            <p:cNvPr id="739" name=""/>
            <p:cNvSpPr/>
            <p:nvPr/>
          </p:nvSpPr>
          <p:spPr>
            <a:xfrm>
              <a:off x="2514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514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828440" y="3809880"/>
            <a:ext cx="152640" cy="152280"/>
            <a:chOff x="1828440" y="3809880"/>
            <a:chExt cx="152640" cy="152280"/>
          </a:xfrm>
        </p:grpSpPr>
        <p:sp>
          <p:nvSpPr>
            <p:cNvPr id="742" name=""/>
            <p:cNvSpPr/>
            <p:nvPr/>
          </p:nvSpPr>
          <p:spPr>
            <a:xfrm>
              <a:off x="182880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82844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666520" y="2590920"/>
            <a:ext cx="152640" cy="152280"/>
            <a:chOff x="2666520" y="2590920"/>
            <a:chExt cx="152640" cy="152280"/>
          </a:xfrm>
        </p:grpSpPr>
        <p:sp>
          <p:nvSpPr>
            <p:cNvPr id="745" name=""/>
            <p:cNvSpPr/>
            <p:nvPr/>
          </p:nvSpPr>
          <p:spPr>
            <a:xfrm>
              <a:off x="266688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66652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047760" y="3581280"/>
            <a:ext cx="152640" cy="152280"/>
            <a:chOff x="3047760" y="3581280"/>
            <a:chExt cx="152640" cy="152280"/>
          </a:xfrm>
        </p:grpSpPr>
        <p:sp>
          <p:nvSpPr>
            <p:cNvPr id="748" name=""/>
            <p:cNvSpPr/>
            <p:nvPr/>
          </p:nvSpPr>
          <p:spPr>
            <a:xfrm>
              <a:off x="304812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04776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885840" y="2590920"/>
            <a:ext cx="152640" cy="152280"/>
            <a:chOff x="3885840" y="2590920"/>
            <a:chExt cx="152640" cy="152280"/>
          </a:xfrm>
        </p:grpSpPr>
        <p:sp>
          <p:nvSpPr>
            <p:cNvPr id="751" name=""/>
            <p:cNvSpPr/>
            <p:nvPr/>
          </p:nvSpPr>
          <p:spPr>
            <a:xfrm>
              <a:off x="388620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88584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657240" y="3962520"/>
            <a:ext cx="152640" cy="152280"/>
            <a:chOff x="3657240" y="3962520"/>
            <a:chExt cx="152640" cy="152280"/>
          </a:xfrm>
        </p:grpSpPr>
        <p:sp>
          <p:nvSpPr>
            <p:cNvPr id="754" name=""/>
            <p:cNvSpPr/>
            <p:nvPr/>
          </p:nvSpPr>
          <p:spPr>
            <a:xfrm>
              <a:off x="3657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3657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419360" y="2819520"/>
            <a:ext cx="152640" cy="152280"/>
            <a:chOff x="4419360" y="2819520"/>
            <a:chExt cx="152640" cy="152280"/>
          </a:xfrm>
        </p:grpSpPr>
        <p:sp>
          <p:nvSpPr>
            <p:cNvPr id="757" name=""/>
            <p:cNvSpPr/>
            <p:nvPr/>
          </p:nvSpPr>
          <p:spPr>
            <a:xfrm>
              <a:off x="441972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1936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028840" y="3124080"/>
            <a:ext cx="152640" cy="152280"/>
            <a:chOff x="5028840" y="3124080"/>
            <a:chExt cx="152640" cy="152280"/>
          </a:xfrm>
        </p:grpSpPr>
        <p:sp>
          <p:nvSpPr>
            <p:cNvPr id="760" name=""/>
            <p:cNvSpPr/>
            <p:nvPr/>
          </p:nvSpPr>
          <p:spPr>
            <a:xfrm>
              <a:off x="502920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02884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943240" y="3429000"/>
            <a:ext cx="152640" cy="152280"/>
            <a:chOff x="5943240" y="3429000"/>
            <a:chExt cx="152640" cy="152280"/>
          </a:xfrm>
        </p:grpSpPr>
        <p:sp>
          <p:nvSpPr>
            <p:cNvPr id="763" name=""/>
            <p:cNvSpPr/>
            <p:nvPr/>
          </p:nvSpPr>
          <p:spPr>
            <a:xfrm>
              <a:off x="594360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324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218960" y="3429000"/>
            <a:ext cx="152640" cy="152280"/>
            <a:chOff x="1218960" y="3429000"/>
            <a:chExt cx="152640" cy="152280"/>
          </a:xfrm>
        </p:grpSpPr>
        <p:sp>
          <p:nvSpPr>
            <p:cNvPr id="766" name=""/>
            <p:cNvSpPr/>
            <p:nvPr/>
          </p:nvSpPr>
          <p:spPr>
            <a:xfrm>
              <a:off x="121932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21896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419360" y="4114800"/>
            <a:ext cx="152640" cy="152280"/>
            <a:chOff x="4419360" y="4114800"/>
            <a:chExt cx="152640" cy="152280"/>
          </a:xfrm>
        </p:grpSpPr>
        <p:sp>
          <p:nvSpPr>
            <p:cNvPr id="769" name=""/>
            <p:cNvSpPr/>
            <p:nvPr/>
          </p:nvSpPr>
          <p:spPr>
            <a:xfrm>
              <a:off x="441972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41936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752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09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384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410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53352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81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160020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668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524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90720" y="1600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90720" y="106668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533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9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10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2514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09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5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67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35053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09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95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7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44197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3733560" y="2209320"/>
            <a:ext cx="75960" cy="76320"/>
            <a:chOff x="3733560" y="2209320"/>
            <a:chExt cx="75960" cy="76320"/>
          </a:xfrm>
        </p:grpSpPr>
        <p:sp>
          <p:nvSpPr>
            <p:cNvPr id="838" name=""/>
            <p:cNvSpPr/>
            <p:nvPr/>
          </p:nvSpPr>
          <p:spPr>
            <a:xfrm flipH="1">
              <a:off x="3733560" y="22096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3733560" y="2209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809880" y="2590560"/>
            <a:ext cx="76320" cy="76320"/>
            <a:chOff x="3809880" y="2590560"/>
            <a:chExt cx="76320" cy="76320"/>
          </a:xfrm>
        </p:grpSpPr>
        <p:sp>
          <p:nvSpPr>
            <p:cNvPr id="841" name=""/>
            <p:cNvSpPr/>
            <p:nvPr/>
          </p:nvSpPr>
          <p:spPr>
            <a:xfrm flipH="1">
              <a:off x="38098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38098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809880" y="2971440"/>
            <a:ext cx="76320" cy="76320"/>
            <a:chOff x="3809880" y="2971440"/>
            <a:chExt cx="76320" cy="76320"/>
          </a:xfrm>
        </p:grpSpPr>
        <p:sp>
          <p:nvSpPr>
            <p:cNvPr id="844" name=""/>
            <p:cNvSpPr/>
            <p:nvPr/>
          </p:nvSpPr>
          <p:spPr>
            <a:xfrm flipH="1">
              <a:off x="38098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38098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657600" y="2437920"/>
            <a:ext cx="76320" cy="76320"/>
            <a:chOff x="3657600" y="2437920"/>
            <a:chExt cx="76320" cy="76320"/>
          </a:xfrm>
        </p:grpSpPr>
        <p:sp>
          <p:nvSpPr>
            <p:cNvPr id="847" name=""/>
            <p:cNvSpPr/>
            <p:nvPr/>
          </p:nvSpPr>
          <p:spPr>
            <a:xfrm flipH="1">
              <a:off x="36576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36576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733560" y="2819160"/>
            <a:ext cx="75960" cy="76320"/>
            <a:chOff x="3733560" y="2819160"/>
            <a:chExt cx="75960" cy="76320"/>
          </a:xfrm>
        </p:grpSpPr>
        <p:sp>
          <p:nvSpPr>
            <p:cNvPr id="850" name=""/>
            <p:cNvSpPr/>
            <p:nvPr/>
          </p:nvSpPr>
          <p:spPr>
            <a:xfrm flipH="1">
              <a:off x="3733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3733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590560" y="2361960"/>
            <a:ext cx="75960" cy="76320"/>
            <a:chOff x="2590560" y="2361960"/>
            <a:chExt cx="75960" cy="76320"/>
          </a:xfrm>
        </p:grpSpPr>
        <p:sp>
          <p:nvSpPr>
            <p:cNvPr id="853" name=""/>
            <p:cNvSpPr/>
            <p:nvPr/>
          </p:nvSpPr>
          <p:spPr>
            <a:xfrm flipH="1">
              <a:off x="25905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25905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743200" y="2514240"/>
            <a:ext cx="76320" cy="76320"/>
            <a:chOff x="2743200" y="2514240"/>
            <a:chExt cx="76320" cy="76320"/>
          </a:xfrm>
        </p:grpSpPr>
        <p:sp>
          <p:nvSpPr>
            <p:cNvPr id="856" name=""/>
            <p:cNvSpPr/>
            <p:nvPr/>
          </p:nvSpPr>
          <p:spPr>
            <a:xfrm flipH="1">
              <a:off x="27432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27432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895480" y="2666520"/>
            <a:ext cx="76320" cy="76320"/>
            <a:chOff x="2895480" y="2666520"/>
            <a:chExt cx="76320" cy="76320"/>
          </a:xfrm>
        </p:grpSpPr>
        <p:sp>
          <p:nvSpPr>
            <p:cNvPr id="859" name=""/>
            <p:cNvSpPr/>
            <p:nvPr/>
          </p:nvSpPr>
          <p:spPr>
            <a:xfrm flipH="1">
              <a:off x="28954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28954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2819160" y="2285640"/>
            <a:ext cx="75960" cy="76320"/>
            <a:chOff x="2819160" y="2285640"/>
            <a:chExt cx="75960" cy="76320"/>
          </a:xfrm>
        </p:grpSpPr>
        <p:sp>
          <p:nvSpPr>
            <p:cNvPr id="862" name=""/>
            <p:cNvSpPr/>
            <p:nvPr/>
          </p:nvSpPr>
          <p:spPr>
            <a:xfrm flipH="1">
              <a:off x="2819160" y="22860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2819160" y="22856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895480" y="2514240"/>
            <a:ext cx="76320" cy="76320"/>
            <a:chOff x="2895480" y="2514240"/>
            <a:chExt cx="76320" cy="76320"/>
          </a:xfrm>
        </p:grpSpPr>
        <p:sp>
          <p:nvSpPr>
            <p:cNvPr id="865" name=""/>
            <p:cNvSpPr/>
            <p:nvPr/>
          </p:nvSpPr>
          <p:spPr>
            <a:xfrm flipH="1">
              <a:off x="28954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28954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047760" y="2666520"/>
            <a:ext cx="75960" cy="76320"/>
            <a:chOff x="3047760" y="2666520"/>
            <a:chExt cx="75960" cy="76320"/>
          </a:xfrm>
        </p:grpSpPr>
        <p:sp>
          <p:nvSpPr>
            <p:cNvPr id="868" name=""/>
            <p:cNvSpPr/>
            <p:nvPr/>
          </p:nvSpPr>
          <p:spPr>
            <a:xfrm flipH="1">
              <a:off x="30477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30477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3047760" y="2361960"/>
            <a:ext cx="75960" cy="76320"/>
            <a:chOff x="3047760" y="2361960"/>
            <a:chExt cx="75960" cy="76320"/>
          </a:xfrm>
        </p:grpSpPr>
        <p:sp>
          <p:nvSpPr>
            <p:cNvPr id="871" name=""/>
            <p:cNvSpPr/>
            <p:nvPr/>
          </p:nvSpPr>
          <p:spPr>
            <a:xfrm flipH="1">
              <a:off x="30477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30477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874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124080" y="3123720"/>
            <a:ext cx="76320" cy="76320"/>
            <a:chOff x="3124080" y="3123720"/>
            <a:chExt cx="76320" cy="76320"/>
          </a:xfrm>
        </p:grpSpPr>
        <p:sp>
          <p:nvSpPr>
            <p:cNvPr id="877" name=""/>
            <p:cNvSpPr/>
            <p:nvPr/>
          </p:nvSpPr>
          <p:spPr>
            <a:xfrm flipH="1">
              <a:off x="31240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31240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971800" y="2590560"/>
            <a:ext cx="76320" cy="76320"/>
            <a:chOff x="2971800" y="2590560"/>
            <a:chExt cx="76320" cy="76320"/>
          </a:xfrm>
        </p:grpSpPr>
        <p:sp>
          <p:nvSpPr>
            <p:cNvPr id="880" name=""/>
            <p:cNvSpPr/>
            <p:nvPr/>
          </p:nvSpPr>
          <p:spPr>
            <a:xfrm flipH="1">
              <a:off x="29718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29718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047760" y="2971440"/>
            <a:ext cx="75960" cy="76320"/>
            <a:chOff x="3047760" y="2971440"/>
            <a:chExt cx="75960" cy="76320"/>
          </a:xfrm>
        </p:grpSpPr>
        <p:sp>
          <p:nvSpPr>
            <p:cNvPr id="883" name=""/>
            <p:cNvSpPr/>
            <p:nvPr/>
          </p:nvSpPr>
          <p:spPr>
            <a:xfrm flipH="1">
              <a:off x="3047760" y="29718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047760" y="29714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200400" y="3123720"/>
            <a:ext cx="76320" cy="76320"/>
            <a:chOff x="3200400" y="3123720"/>
            <a:chExt cx="76320" cy="76320"/>
          </a:xfrm>
        </p:grpSpPr>
        <p:sp>
          <p:nvSpPr>
            <p:cNvPr id="886" name=""/>
            <p:cNvSpPr/>
            <p:nvPr/>
          </p:nvSpPr>
          <p:spPr>
            <a:xfrm flipH="1">
              <a:off x="320040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320040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276360" y="3047760"/>
            <a:ext cx="75960" cy="76320"/>
            <a:chOff x="3276360" y="3047760"/>
            <a:chExt cx="75960" cy="76320"/>
          </a:xfrm>
        </p:grpSpPr>
        <p:sp>
          <p:nvSpPr>
            <p:cNvPr id="889" name=""/>
            <p:cNvSpPr/>
            <p:nvPr/>
          </p:nvSpPr>
          <p:spPr>
            <a:xfrm flipH="1">
              <a:off x="32763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2763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29000" y="3200040"/>
            <a:ext cx="76320" cy="76320"/>
            <a:chOff x="3429000" y="3200040"/>
            <a:chExt cx="76320" cy="76320"/>
          </a:xfrm>
        </p:grpSpPr>
        <p:sp>
          <p:nvSpPr>
            <p:cNvPr id="892" name=""/>
            <p:cNvSpPr/>
            <p:nvPr/>
          </p:nvSpPr>
          <p:spPr>
            <a:xfrm flipH="1">
              <a:off x="342900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42900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52680" y="3047760"/>
            <a:ext cx="76320" cy="76320"/>
            <a:chOff x="3352680" y="3047760"/>
            <a:chExt cx="76320" cy="76320"/>
          </a:xfrm>
        </p:grpSpPr>
        <p:sp>
          <p:nvSpPr>
            <p:cNvPr id="895" name=""/>
            <p:cNvSpPr/>
            <p:nvPr/>
          </p:nvSpPr>
          <p:spPr>
            <a:xfrm flipH="1">
              <a:off x="335268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335268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504960" y="3123720"/>
            <a:ext cx="75960" cy="76320"/>
            <a:chOff x="3504960" y="3123720"/>
            <a:chExt cx="75960" cy="76320"/>
          </a:xfrm>
        </p:grpSpPr>
        <p:sp>
          <p:nvSpPr>
            <p:cNvPr id="898" name=""/>
            <p:cNvSpPr/>
            <p:nvPr/>
          </p:nvSpPr>
          <p:spPr>
            <a:xfrm flipH="1">
              <a:off x="3504960" y="3124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3504960" y="312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657600" y="3276360"/>
            <a:ext cx="76320" cy="76320"/>
            <a:chOff x="3657600" y="3276360"/>
            <a:chExt cx="76320" cy="76320"/>
          </a:xfrm>
        </p:grpSpPr>
        <p:sp>
          <p:nvSpPr>
            <p:cNvPr id="901" name=""/>
            <p:cNvSpPr/>
            <p:nvPr/>
          </p:nvSpPr>
          <p:spPr>
            <a:xfrm flipH="1">
              <a:off x="3657600" y="3276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657600" y="3276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581280" y="3123720"/>
            <a:ext cx="76320" cy="76320"/>
            <a:chOff x="3581280" y="3123720"/>
            <a:chExt cx="76320" cy="76320"/>
          </a:xfrm>
        </p:grpSpPr>
        <p:sp>
          <p:nvSpPr>
            <p:cNvPr id="904" name=""/>
            <p:cNvSpPr/>
            <p:nvPr/>
          </p:nvSpPr>
          <p:spPr>
            <a:xfrm flipH="1">
              <a:off x="35812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35812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657600" y="3047760"/>
            <a:ext cx="76320" cy="76320"/>
            <a:chOff x="3657600" y="3047760"/>
            <a:chExt cx="76320" cy="76320"/>
          </a:xfrm>
        </p:grpSpPr>
        <p:sp>
          <p:nvSpPr>
            <p:cNvPr id="907" name=""/>
            <p:cNvSpPr/>
            <p:nvPr/>
          </p:nvSpPr>
          <p:spPr>
            <a:xfrm flipH="1">
              <a:off x="36576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36576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09880" y="3200040"/>
            <a:ext cx="76320" cy="76320"/>
            <a:chOff x="3809880" y="3200040"/>
            <a:chExt cx="76320" cy="76320"/>
          </a:xfrm>
        </p:grpSpPr>
        <p:sp>
          <p:nvSpPr>
            <p:cNvPr id="910" name=""/>
            <p:cNvSpPr/>
            <p:nvPr/>
          </p:nvSpPr>
          <p:spPr>
            <a:xfrm flipH="1">
              <a:off x="380988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80988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733560" y="3047760"/>
            <a:ext cx="75960" cy="76320"/>
            <a:chOff x="3733560" y="3047760"/>
            <a:chExt cx="75960" cy="76320"/>
          </a:xfrm>
        </p:grpSpPr>
        <p:sp>
          <p:nvSpPr>
            <p:cNvPr id="913" name=""/>
            <p:cNvSpPr/>
            <p:nvPr/>
          </p:nvSpPr>
          <p:spPr>
            <a:xfrm flipH="1">
              <a:off x="3733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3733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733560" y="1904760"/>
            <a:ext cx="75960" cy="76320"/>
            <a:chOff x="3733560" y="1904760"/>
            <a:chExt cx="75960" cy="76320"/>
          </a:xfrm>
        </p:grpSpPr>
        <p:sp>
          <p:nvSpPr>
            <p:cNvPr id="916" name=""/>
            <p:cNvSpPr/>
            <p:nvPr/>
          </p:nvSpPr>
          <p:spPr>
            <a:xfrm flipH="1">
              <a:off x="3733560" y="190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733560" y="1904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047760" y="2057040"/>
            <a:ext cx="75960" cy="76320"/>
            <a:chOff x="3047760" y="2057040"/>
            <a:chExt cx="75960" cy="76320"/>
          </a:xfrm>
        </p:grpSpPr>
        <p:sp>
          <p:nvSpPr>
            <p:cNvPr id="919" name=""/>
            <p:cNvSpPr/>
            <p:nvPr/>
          </p:nvSpPr>
          <p:spPr>
            <a:xfrm flipH="1">
              <a:off x="30477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30477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971800" y="1904760"/>
            <a:ext cx="76320" cy="76320"/>
            <a:chOff x="2971800" y="1904760"/>
            <a:chExt cx="76320" cy="76320"/>
          </a:xfrm>
        </p:grpSpPr>
        <p:sp>
          <p:nvSpPr>
            <p:cNvPr id="922" name=""/>
            <p:cNvSpPr/>
            <p:nvPr/>
          </p:nvSpPr>
          <p:spPr>
            <a:xfrm flipH="1">
              <a:off x="2971800" y="190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2971800" y="1904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200400" y="2209320"/>
            <a:ext cx="76320" cy="76320"/>
            <a:chOff x="3200400" y="2209320"/>
            <a:chExt cx="76320" cy="76320"/>
          </a:xfrm>
        </p:grpSpPr>
        <p:sp>
          <p:nvSpPr>
            <p:cNvPr id="925" name=""/>
            <p:cNvSpPr/>
            <p:nvPr/>
          </p:nvSpPr>
          <p:spPr>
            <a:xfrm flipH="1">
              <a:off x="320040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20040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124080" y="2057040"/>
            <a:ext cx="76320" cy="76320"/>
            <a:chOff x="3124080" y="2057040"/>
            <a:chExt cx="76320" cy="76320"/>
          </a:xfrm>
        </p:grpSpPr>
        <p:sp>
          <p:nvSpPr>
            <p:cNvPr id="928" name=""/>
            <p:cNvSpPr/>
            <p:nvPr/>
          </p:nvSpPr>
          <p:spPr>
            <a:xfrm flipH="1">
              <a:off x="312408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12408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200400" y="1980720"/>
            <a:ext cx="76320" cy="76320"/>
            <a:chOff x="3200400" y="1980720"/>
            <a:chExt cx="76320" cy="76320"/>
          </a:xfrm>
        </p:grpSpPr>
        <p:sp>
          <p:nvSpPr>
            <p:cNvPr id="931" name=""/>
            <p:cNvSpPr/>
            <p:nvPr/>
          </p:nvSpPr>
          <p:spPr>
            <a:xfrm flipH="1">
              <a:off x="32004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32004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352680" y="2133360"/>
            <a:ext cx="76320" cy="76320"/>
            <a:chOff x="3352680" y="2133360"/>
            <a:chExt cx="76320" cy="76320"/>
          </a:xfrm>
        </p:grpSpPr>
        <p:sp>
          <p:nvSpPr>
            <p:cNvPr id="934" name=""/>
            <p:cNvSpPr/>
            <p:nvPr/>
          </p:nvSpPr>
          <p:spPr>
            <a:xfrm flipH="1">
              <a:off x="3352680" y="213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352680" y="2133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276360" y="1980720"/>
            <a:ext cx="75960" cy="76320"/>
            <a:chOff x="3276360" y="1980720"/>
            <a:chExt cx="75960" cy="76320"/>
          </a:xfrm>
        </p:grpSpPr>
        <p:sp>
          <p:nvSpPr>
            <p:cNvPr id="937" name=""/>
            <p:cNvSpPr/>
            <p:nvPr/>
          </p:nvSpPr>
          <p:spPr>
            <a:xfrm flipH="1">
              <a:off x="3276360" y="1981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276360" y="1980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429000" y="2057040"/>
            <a:ext cx="76320" cy="76320"/>
            <a:chOff x="3429000" y="2057040"/>
            <a:chExt cx="76320" cy="76320"/>
          </a:xfrm>
        </p:grpSpPr>
        <p:sp>
          <p:nvSpPr>
            <p:cNvPr id="940" name=""/>
            <p:cNvSpPr/>
            <p:nvPr/>
          </p:nvSpPr>
          <p:spPr>
            <a:xfrm flipH="1">
              <a:off x="342900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342900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81280" y="2209320"/>
            <a:ext cx="76320" cy="76320"/>
            <a:chOff x="3581280" y="2209320"/>
            <a:chExt cx="76320" cy="76320"/>
          </a:xfrm>
        </p:grpSpPr>
        <p:sp>
          <p:nvSpPr>
            <p:cNvPr id="943" name=""/>
            <p:cNvSpPr/>
            <p:nvPr/>
          </p:nvSpPr>
          <p:spPr>
            <a:xfrm flipH="1">
              <a:off x="358128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flipV="1">
              <a:off x="358128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3504960" y="2057040"/>
            <a:ext cx="75960" cy="76320"/>
            <a:chOff x="3504960" y="2057040"/>
            <a:chExt cx="75960" cy="76320"/>
          </a:xfrm>
        </p:grpSpPr>
        <p:sp>
          <p:nvSpPr>
            <p:cNvPr id="946" name=""/>
            <p:cNvSpPr/>
            <p:nvPr/>
          </p:nvSpPr>
          <p:spPr>
            <a:xfrm flipH="1">
              <a:off x="35049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35049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1980720"/>
            <a:ext cx="76320" cy="76320"/>
            <a:chOff x="3581280" y="1980720"/>
            <a:chExt cx="76320" cy="76320"/>
          </a:xfrm>
        </p:grpSpPr>
        <p:sp>
          <p:nvSpPr>
            <p:cNvPr id="949" name=""/>
            <p:cNvSpPr/>
            <p:nvPr/>
          </p:nvSpPr>
          <p:spPr>
            <a:xfrm flipH="1">
              <a:off x="358128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358128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733560" y="2133360"/>
            <a:ext cx="75960" cy="76320"/>
            <a:chOff x="3733560" y="2133360"/>
            <a:chExt cx="75960" cy="76320"/>
          </a:xfrm>
        </p:grpSpPr>
        <p:sp>
          <p:nvSpPr>
            <p:cNvPr id="952" name=""/>
            <p:cNvSpPr/>
            <p:nvPr/>
          </p:nvSpPr>
          <p:spPr>
            <a:xfrm flipH="1">
              <a:off x="373356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73356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57600" y="1980720"/>
            <a:ext cx="76320" cy="76320"/>
            <a:chOff x="3657600" y="1980720"/>
            <a:chExt cx="76320" cy="76320"/>
          </a:xfrm>
        </p:grpSpPr>
        <p:sp>
          <p:nvSpPr>
            <p:cNvPr id="955" name=""/>
            <p:cNvSpPr/>
            <p:nvPr/>
          </p:nvSpPr>
          <p:spPr>
            <a:xfrm flipH="1">
              <a:off x="36576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36576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958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438280" y="2895120"/>
            <a:ext cx="76320" cy="76320"/>
            <a:chOff x="2438280" y="2895120"/>
            <a:chExt cx="76320" cy="76320"/>
          </a:xfrm>
        </p:grpSpPr>
        <p:sp>
          <p:nvSpPr>
            <p:cNvPr id="961" name=""/>
            <p:cNvSpPr/>
            <p:nvPr/>
          </p:nvSpPr>
          <p:spPr>
            <a:xfrm flipH="1">
              <a:off x="24382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24382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361960" y="2742840"/>
            <a:ext cx="75960" cy="76320"/>
            <a:chOff x="2361960" y="2742840"/>
            <a:chExt cx="75960" cy="76320"/>
          </a:xfrm>
        </p:grpSpPr>
        <p:sp>
          <p:nvSpPr>
            <p:cNvPr id="964" name=""/>
            <p:cNvSpPr/>
            <p:nvPr/>
          </p:nvSpPr>
          <p:spPr>
            <a:xfrm flipH="1">
              <a:off x="23619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23619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590560" y="3047760"/>
            <a:ext cx="75960" cy="76320"/>
            <a:chOff x="2590560" y="3047760"/>
            <a:chExt cx="75960" cy="76320"/>
          </a:xfrm>
        </p:grpSpPr>
        <p:sp>
          <p:nvSpPr>
            <p:cNvPr id="967" name=""/>
            <p:cNvSpPr/>
            <p:nvPr/>
          </p:nvSpPr>
          <p:spPr>
            <a:xfrm flipH="1">
              <a:off x="2590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590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514600" y="2895120"/>
            <a:ext cx="76320" cy="76320"/>
            <a:chOff x="2514600" y="2895120"/>
            <a:chExt cx="76320" cy="76320"/>
          </a:xfrm>
        </p:grpSpPr>
        <p:sp>
          <p:nvSpPr>
            <p:cNvPr id="970" name=""/>
            <p:cNvSpPr/>
            <p:nvPr/>
          </p:nvSpPr>
          <p:spPr>
            <a:xfrm flipH="1">
              <a:off x="251460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251460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590560" y="2819160"/>
            <a:ext cx="75960" cy="76320"/>
            <a:chOff x="2590560" y="2819160"/>
            <a:chExt cx="75960" cy="76320"/>
          </a:xfrm>
        </p:grpSpPr>
        <p:sp>
          <p:nvSpPr>
            <p:cNvPr id="973" name=""/>
            <p:cNvSpPr/>
            <p:nvPr/>
          </p:nvSpPr>
          <p:spPr>
            <a:xfrm flipH="1">
              <a:off x="2590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590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743200" y="2971440"/>
            <a:ext cx="76320" cy="76320"/>
            <a:chOff x="2743200" y="2971440"/>
            <a:chExt cx="76320" cy="76320"/>
          </a:xfrm>
        </p:grpSpPr>
        <p:sp>
          <p:nvSpPr>
            <p:cNvPr id="976" name=""/>
            <p:cNvSpPr/>
            <p:nvPr/>
          </p:nvSpPr>
          <p:spPr>
            <a:xfrm flipH="1">
              <a:off x="274320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74320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666880" y="2819160"/>
            <a:ext cx="76320" cy="76320"/>
            <a:chOff x="2666880" y="2819160"/>
            <a:chExt cx="76320" cy="76320"/>
          </a:xfrm>
        </p:grpSpPr>
        <p:sp>
          <p:nvSpPr>
            <p:cNvPr id="979" name=""/>
            <p:cNvSpPr/>
            <p:nvPr/>
          </p:nvSpPr>
          <p:spPr>
            <a:xfrm flipH="1">
              <a:off x="26668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6668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819160" y="2895120"/>
            <a:ext cx="75960" cy="76320"/>
            <a:chOff x="2819160" y="2895120"/>
            <a:chExt cx="75960" cy="76320"/>
          </a:xfrm>
        </p:grpSpPr>
        <p:sp>
          <p:nvSpPr>
            <p:cNvPr id="982" name=""/>
            <p:cNvSpPr/>
            <p:nvPr/>
          </p:nvSpPr>
          <p:spPr>
            <a:xfrm flipH="1">
              <a:off x="2819160" y="28954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2819160" y="289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971800" y="3047760"/>
            <a:ext cx="76320" cy="76320"/>
            <a:chOff x="2971800" y="3047760"/>
            <a:chExt cx="76320" cy="76320"/>
          </a:xfrm>
        </p:grpSpPr>
        <p:sp>
          <p:nvSpPr>
            <p:cNvPr id="985" name=""/>
            <p:cNvSpPr/>
            <p:nvPr/>
          </p:nvSpPr>
          <p:spPr>
            <a:xfrm flipH="1">
              <a:off x="29718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29718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2895480" y="2895120"/>
            <a:ext cx="76320" cy="76320"/>
            <a:chOff x="2895480" y="2895120"/>
            <a:chExt cx="76320" cy="76320"/>
          </a:xfrm>
        </p:grpSpPr>
        <p:sp>
          <p:nvSpPr>
            <p:cNvPr id="988" name=""/>
            <p:cNvSpPr/>
            <p:nvPr/>
          </p:nvSpPr>
          <p:spPr>
            <a:xfrm flipH="1">
              <a:off x="28954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28954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971800" y="2819160"/>
            <a:ext cx="76320" cy="76320"/>
            <a:chOff x="2971800" y="2819160"/>
            <a:chExt cx="76320" cy="76320"/>
          </a:xfrm>
        </p:grpSpPr>
        <p:sp>
          <p:nvSpPr>
            <p:cNvPr id="991" name=""/>
            <p:cNvSpPr/>
            <p:nvPr/>
          </p:nvSpPr>
          <p:spPr>
            <a:xfrm flipH="1">
              <a:off x="297180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297180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124080" y="2971440"/>
            <a:ext cx="76320" cy="76320"/>
            <a:chOff x="3124080" y="2971440"/>
            <a:chExt cx="76320" cy="76320"/>
          </a:xfrm>
        </p:grpSpPr>
        <p:sp>
          <p:nvSpPr>
            <p:cNvPr id="994" name=""/>
            <p:cNvSpPr/>
            <p:nvPr/>
          </p:nvSpPr>
          <p:spPr>
            <a:xfrm flipH="1">
              <a:off x="31240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31240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047760" y="2819160"/>
            <a:ext cx="75960" cy="76320"/>
            <a:chOff x="3047760" y="2819160"/>
            <a:chExt cx="75960" cy="76320"/>
          </a:xfrm>
        </p:grpSpPr>
        <p:sp>
          <p:nvSpPr>
            <p:cNvPr id="997" name=""/>
            <p:cNvSpPr/>
            <p:nvPr/>
          </p:nvSpPr>
          <p:spPr>
            <a:xfrm flipH="1">
              <a:off x="30477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 flipV="1">
              <a:off x="30477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971800" y="2285640"/>
            <a:ext cx="76320" cy="76320"/>
            <a:chOff x="2971800" y="2285640"/>
            <a:chExt cx="76320" cy="76320"/>
          </a:xfrm>
        </p:grpSpPr>
        <p:sp>
          <p:nvSpPr>
            <p:cNvPr id="1000" name=""/>
            <p:cNvSpPr/>
            <p:nvPr/>
          </p:nvSpPr>
          <p:spPr>
            <a:xfrm flipH="1">
              <a:off x="29718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29718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286000" y="2437920"/>
            <a:ext cx="76320" cy="76320"/>
            <a:chOff x="2286000" y="2437920"/>
            <a:chExt cx="76320" cy="76320"/>
          </a:xfrm>
        </p:grpSpPr>
        <p:sp>
          <p:nvSpPr>
            <p:cNvPr id="1003" name=""/>
            <p:cNvSpPr/>
            <p:nvPr/>
          </p:nvSpPr>
          <p:spPr>
            <a:xfrm flipH="1">
              <a:off x="22860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22860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209680" y="2285640"/>
            <a:ext cx="76320" cy="76320"/>
            <a:chOff x="2209680" y="2285640"/>
            <a:chExt cx="76320" cy="76320"/>
          </a:xfrm>
        </p:grpSpPr>
        <p:sp>
          <p:nvSpPr>
            <p:cNvPr id="1006" name=""/>
            <p:cNvSpPr/>
            <p:nvPr/>
          </p:nvSpPr>
          <p:spPr>
            <a:xfrm flipH="1">
              <a:off x="220968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20968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09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361960" y="2437920"/>
            <a:ext cx="75960" cy="76320"/>
            <a:chOff x="2361960" y="2437920"/>
            <a:chExt cx="75960" cy="76320"/>
          </a:xfrm>
        </p:grpSpPr>
        <p:sp>
          <p:nvSpPr>
            <p:cNvPr id="1012" name=""/>
            <p:cNvSpPr/>
            <p:nvPr/>
          </p:nvSpPr>
          <p:spPr>
            <a:xfrm flipH="1">
              <a:off x="2361960" y="24382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2361960" y="2437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438280" y="2361960"/>
            <a:ext cx="76320" cy="76320"/>
            <a:chOff x="2438280" y="2361960"/>
            <a:chExt cx="76320" cy="76320"/>
          </a:xfrm>
        </p:grpSpPr>
        <p:sp>
          <p:nvSpPr>
            <p:cNvPr id="1015" name=""/>
            <p:cNvSpPr/>
            <p:nvPr/>
          </p:nvSpPr>
          <p:spPr>
            <a:xfrm flipH="1">
              <a:off x="24382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24382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590560" y="2514240"/>
            <a:ext cx="75960" cy="76320"/>
            <a:chOff x="2590560" y="2514240"/>
            <a:chExt cx="75960" cy="76320"/>
          </a:xfrm>
        </p:grpSpPr>
        <p:sp>
          <p:nvSpPr>
            <p:cNvPr id="1018" name=""/>
            <p:cNvSpPr/>
            <p:nvPr/>
          </p:nvSpPr>
          <p:spPr>
            <a:xfrm flipH="1">
              <a:off x="2590560" y="25146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2590560" y="25142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14600" y="2361960"/>
            <a:ext cx="76320" cy="76320"/>
            <a:chOff x="2514600" y="2361960"/>
            <a:chExt cx="76320" cy="76320"/>
          </a:xfrm>
        </p:grpSpPr>
        <p:sp>
          <p:nvSpPr>
            <p:cNvPr id="1021" name=""/>
            <p:cNvSpPr/>
            <p:nvPr/>
          </p:nvSpPr>
          <p:spPr>
            <a:xfrm flipH="1">
              <a:off x="251460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251460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666880" y="2437920"/>
            <a:ext cx="76320" cy="76320"/>
            <a:chOff x="2666880" y="2437920"/>
            <a:chExt cx="76320" cy="76320"/>
          </a:xfrm>
        </p:grpSpPr>
        <p:sp>
          <p:nvSpPr>
            <p:cNvPr id="1024" name=""/>
            <p:cNvSpPr/>
            <p:nvPr/>
          </p:nvSpPr>
          <p:spPr>
            <a:xfrm flipH="1">
              <a:off x="2666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2666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27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743200" y="2437920"/>
            <a:ext cx="76320" cy="76320"/>
            <a:chOff x="2743200" y="2437920"/>
            <a:chExt cx="76320" cy="76320"/>
          </a:xfrm>
        </p:grpSpPr>
        <p:sp>
          <p:nvSpPr>
            <p:cNvPr id="1030" name=""/>
            <p:cNvSpPr/>
            <p:nvPr/>
          </p:nvSpPr>
          <p:spPr>
            <a:xfrm flipH="1">
              <a:off x="27432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7432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819160" y="2361960"/>
            <a:ext cx="75960" cy="76320"/>
            <a:chOff x="2819160" y="2361960"/>
            <a:chExt cx="75960" cy="76320"/>
          </a:xfrm>
        </p:grpSpPr>
        <p:sp>
          <p:nvSpPr>
            <p:cNvPr id="1033" name=""/>
            <p:cNvSpPr/>
            <p:nvPr/>
          </p:nvSpPr>
          <p:spPr>
            <a:xfrm flipH="1">
              <a:off x="28191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28191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36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1039" name=""/>
            <p:cNvSpPr/>
            <p:nvPr/>
          </p:nvSpPr>
          <p:spPr>
            <a:xfrm flipH="1"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42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286000" y="2666520"/>
            <a:ext cx="76320" cy="76320"/>
            <a:chOff x="2286000" y="2666520"/>
            <a:chExt cx="76320" cy="76320"/>
          </a:xfrm>
        </p:grpSpPr>
        <p:sp>
          <p:nvSpPr>
            <p:cNvPr id="1045" name=""/>
            <p:cNvSpPr/>
            <p:nvPr/>
          </p:nvSpPr>
          <p:spPr>
            <a:xfrm flipH="1">
              <a:off x="22860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22860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2209680" y="2514240"/>
            <a:ext cx="76320" cy="76320"/>
            <a:chOff x="2209680" y="2514240"/>
            <a:chExt cx="76320" cy="76320"/>
          </a:xfrm>
        </p:grpSpPr>
        <p:sp>
          <p:nvSpPr>
            <p:cNvPr id="1048" name=""/>
            <p:cNvSpPr/>
            <p:nvPr/>
          </p:nvSpPr>
          <p:spPr>
            <a:xfrm flipH="1">
              <a:off x="22096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22096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38280" y="2819160"/>
            <a:ext cx="76320" cy="76320"/>
            <a:chOff x="2438280" y="2819160"/>
            <a:chExt cx="76320" cy="76320"/>
          </a:xfrm>
        </p:grpSpPr>
        <p:sp>
          <p:nvSpPr>
            <p:cNvPr id="1051" name=""/>
            <p:cNvSpPr/>
            <p:nvPr/>
          </p:nvSpPr>
          <p:spPr>
            <a:xfrm flipH="1">
              <a:off x="24382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24382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2361960" y="2666520"/>
            <a:ext cx="75960" cy="76320"/>
            <a:chOff x="2361960" y="2666520"/>
            <a:chExt cx="75960" cy="76320"/>
          </a:xfrm>
        </p:grpSpPr>
        <p:sp>
          <p:nvSpPr>
            <p:cNvPr id="1054" name=""/>
            <p:cNvSpPr/>
            <p:nvPr/>
          </p:nvSpPr>
          <p:spPr>
            <a:xfrm flipH="1">
              <a:off x="23619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23619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57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590560" y="2742840"/>
            <a:ext cx="75960" cy="76320"/>
            <a:chOff x="2590560" y="2742840"/>
            <a:chExt cx="75960" cy="76320"/>
          </a:xfrm>
        </p:grpSpPr>
        <p:sp>
          <p:nvSpPr>
            <p:cNvPr id="1060" name=""/>
            <p:cNvSpPr/>
            <p:nvPr/>
          </p:nvSpPr>
          <p:spPr>
            <a:xfrm flipH="1">
              <a:off x="25905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25905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2514600" y="2590560"/>
            <a:ext cx="76320" cy="76320"/>
            <a:chOff x="2514600" y="2590560"/>
            <a:chExt cx="76320" cy="76320"/>
          </a:xfrm>
        </p:grpSpPr>
        <p:sp>
          <p:nvSpPr>
            <p:cNvPr id="1063" name=""/>
            <p:cNvSpPr/>
            <p:nvPr/>
          </p:nvSpPr>
          <p:spPr>
            <a:xfrm flipH="1">
              <a:off x="25146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25146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666880" y="2666520"/>
            <a:ext cx="76320" cy="76320"/>
            <a:chOff x="2666880" y="2666520"/>
            <a:chExt cx="76320" cy="76320"/>
          </a:xfrm>
        </p:grpSpPr>
        <p:sp>
          <p:nvSpPr>
            <p:cNvPr id="1066" name=""/>
            <p:cNvSpPr/>
            <p:nvPr/>
          </p:nvSpPr>
          <p:spPr>
            <a:xfrm flipH="1">
              <a:off x="26668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flipV="1">
              <a:off x="26668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2819160" y="2819160"/>
            <a:ext cx="75960" cy="76320"/>
            <a:chOff x="2819160" y="2819160"/>
            <a:chExt cx="75960" cy="76320"/>
          </a:xfrm>
        </p:grpSpPr>
        <p:sp>
          <p:nvSpPr>
            <p:cNvPr id="1069" name=""/>
            <p:cNvSpPr/>
            <p:nvPr/>
          </p:nvSpPr>
          <p:spPr>
            <a:xfrm flipH="1">
              <a:off x="28191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28191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743200" y="2666520"/>
            <a:ext cx="76320" cy="76320"/>
            <a:chOff x="2743200" y="2666520"/>
            <a:chExt cx="76320" cy="76320"/>
          </a:xfrm>
        </p:grpSpPr>
        <p:sp>
          <p:nvSpPr>
            <p:cNvPr id="1072" name=""/>
            <p:cNvSpPr/>
            <p:nvPr/>
          </p:nvSpPr>
          <p:spPr>
            <a:xfrm flipH="1">
              <a:off x="27432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flipV="1">
              <a:off x="27432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75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971800" y="2742840"/>
            <a:ext cx="76320" cy="76320"/>
            <a:chOff x="2971800" y="2742840"/>
            <a:chExt cx="76320" cy="76320"/>
          </a:xfrm>
        </p:grpSpPr>
        <p:sp>
          <p:nvSpPr>
            <p:cNvPr id="1078" name=""/>
            <p:cNvSpPr/>
            <p:nvPr/>
          </p:nvSpPr>
          <p:spPr>
            <a:xfrm flipH="1">
              <a:off x="297180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297180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895480" y="2590560"/>
            <a:ext cx="76320" cy="76320"/>
            <a:chOff x="2895480" y="2590560"/>
            <a:chExt cx="76320" cy="76320"/>
          </a:xfrm>
        </p:grpSpPr>
        <p:sp>
          <p:nvSpPr>
            <p:cNvPr id="1081" name=""/>
            <p:cNvSpPr/>
            <p:nvPr/>
          </p:nvSpPr>
          <p:spPr>
            <a:xfrm flipH="1">
              <a:off x="28954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28954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809880" y="2437920"/>
            <a:ext cx="76320" cy="76320"/>
            <a:chOff x="3809880" y="2437920"/>
            <a:chExt cx="76320" cy="76320"/>
          </a:xfrm>
        </p:grpSpPr>
        <p:sp>
          <p:nvSpPr>
            <p:cNvPr id="1084" name=""/>
            <p:cNvSpPr/>
            <p:nvPr/>
          </p:nvSpPr>
          <p:spPr>
            <a:xfrm flipH="1">
              <a:off x="3809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809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657600" y="2285640"/>
            <a:ext cx="76320" cy="76320"/>
            <a:chOff x="3657600" y="2285640"/>
            <a:chExt cx="76320" cy="76320"/>
          </a:xfrm>
        </p:grpSpPr>
        <p:sp>
          <p:nvSpPr>
            <p:cNvPr id="1087" name=""/>
            <p:cNvSpPr/>
            <p:nvPr/>
          </p:nvSpPr>
          <p:spPr>
            <a:xfrm flipH="1">
              <a:off x="36576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6576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733560" y="2666520"/>
            <a:ext cx="75960" cy="76320"/>
            <a:chOff x="3733560" y="2666520"/>
            <a:chExt cx="75960" cy="76320"/>
          </a:xfrm>
        </p:grpSpPr>
        <p:sp>
          <p:nvSpPr>
            <p:cNvPr id="1090" name=""/>
            <p:cNvSpPr/>
            <p:nvPr/>
          </p:nvSpPr>
          <p:spPr>
            <a:xfrm flipH="1">
              <a:off x="37335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>
              <a:off x="37335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2590920"/>
            <a:ext cx="228600" cy="228600"/>
          </a:xfrm>
          <a:prstGeom prst="ellipse">
            <a:avLst/>
          </a:prstGeom>
          <a:solidFill>
            <a:srgbClr val="3333cc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43400" y="228600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"/>
          <p:cNvCxnSpPr>
            <a:stCxn id="1094" idx="1"/>
            <a:endCxn id="1092" idx="6"/>
          </p:cNvCxnSpPr>
          <p:nvPr/>
        </p:nvCxnSpPr>
        <p:spPr>
          <a:xfrm flipH="1">
            <a:off x="3971520" y="2488680"/>
            <a:ext cx="372240" cy="64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6" name=""/>
          <p:cNvSpPr/>
          <p:nvPr/>
        </p:nvSpPr>
        <p:spPr>
          <a:xfrm>
            <a:off x="2514600" y="3429000"/>
            <a:ext cx="6858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"/>
          <p:cNvCxnSpPr>
            <a:stCxn id="1096" idx="0"/>
            <a:endCxn id="1093" idx="4"/>
          </p:cNvCxnSpPr>
          <p:nvPr/>
        </p:nvCxnSpPr>
        <p:spPr>
          <a:xfrm flipV="1">
            <a:off x="2857320" y="2828160"/>
            <a:ext cx="229320" cy="6008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8280" y="22096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62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812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1295280"/>
            <a:ext cx="2819520" cy="838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666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14400" y="1143000"/>
            <a:ext cx="320040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2438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600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62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408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48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90920" y="4572000"/>
            <a:ext cx="7617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0"/>
            <a:endCxn id="1113" idx="2"/>
          </p:cNvCxnSpPr>
          <p:nvPr/>
        </p:nvCxnSpPr>
        <p:spPr>
          <a:xfrm flipV="1">
            <a:off x="2629080" y="4947480"/>
            <a:ext cx="34344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0"/>
            <a:endCxn id="1113" idx="2"/>
          </p:cNvCxnSpPr>
          <p:nvPr/>
        </p:nvCxnSpPr>
        <p:spPr>
          <a:xfrm flipH="1" flipV="1">
            <a:off x="2971440" y="4947480"/>
            <a:ext cx="41976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6" name=""/>
          <p:cNvSpPr/>
          <p:nvPr/>
        </p:nvSpPr>
        <p:spPr>
          <a:xfrm>
            <a:off x="4114800" y="3962520"/>
            <a:ext cx="7621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7" name=""/>
          <p:cNvCxnSpPr>
            <a:stCxn id="1111" idx="0"/>
            <a:endCxn id="1116" idx="2"/>
          </p:cNvCxnSpPr>
          <p:nvPr/>
        </p:nvCxnSpPr>
        <p:spPr>
          <a:xfrm flipV="1">
            <a:off x="4152960" y="4338360"/>
            <a:ext cx="34344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"/>
          <p:cNvCxnSpPr>
            <a:stCxn id="1112" idx="0"/>
            <a:endCxn id="1116" idx="2"/>
          </p:cNvCxnSpPr>
          <p:nvPr/>
        </p:nvCxnSpPr>
        <p:spPr>
          <a:xfrm flipH="1" flipV="1">
            <a:off x="4494960" y="4338360"/>
            <a:ext cx="42012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"/>
          <p:cNvSpPr/>
          <p:nvPr/>
        </p:nvSpPr>
        <p:spPr>
          <a:xfrm>
            <a:off x="1905120" y="3200400"/>
            <a:ext cx="10666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0" name=""/>
          <p:cNvCxnSpPr>
            <a:stCxn id="1108" idx="0"/>
            <a:endCxn id="1119" idx="2"/>
          </p:cNvCxnSpPr>
          <p:nvPr/>
        </p:nvCxnSpPr>
        <p:spPr>
          <a:xfrm flipV="1">
            <a:off x="1866600" y="3575880"/>
            <a:ext cx="572040" cy="183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3" idx="0"/>
            <a:endCxn id="1119" idx="2"/>
          </p:cNvCxnSpPr>
          <p:nvPr/>
        </p:nvCxnSpPr>
        <p:spPr>
          <a:xfrm flipH="1" flipV="1">
            <a:off x="2437920" y="3575880"/>
            <a:ext cx="534240" cy="996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2819520" y="2286000"/>
            <a:ext cx="17524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9" idx="0"/>
            <a:endCxn id="1122" idx="2"/>
          </p:cNvCxnSpPr>
          <p:nvPr/>
        </p:nvCxnSpPr>
        <p:spPr>
          <a:xfrm flipV="1">
            <a:off x="2437920" y="2661480"/>
            <a:ext cx="1258200" cy="53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4" name=""/>
          <p:cNvCxnSpPr>
            <a:stCxn id="1116" idx="0"/>
            <a:endCxn id="1122" idx="2"/>
          </p:cNvCxnSpPr>
          <p:nvPr/>
        </p:nvCxnSpPr>
        <p:spPr>
          <a:xfrm flipH="1" flipV="1">
            <a:off x="3695400" y="2661840"/>
            <a:ext cx="800640" cy="1301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715000" y="541008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15000" y="4572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39625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32767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2286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2:46:09Z</dcterms:created>
  <dc:creator>Dupré Xavier</dc:creator>
  <dc:description/>
  <dc:language>en-US</dc:language>
  <cp:lastModifiedBy>dupre</cp:lastModifiedBy>
  <dcterms:modified xsi:type="dcterms:W3CDTF">2002-01-21T10:15:57Z</dcterms:modified>
  <cp:revision>17</cp:revision>
  <dc:subject/>
  <dc:title>Aucun titre de diapositive</dc:title>
</cp:coreProperties>
</file>