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65B-36A7-451E-825D-47FEA56F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DF4-1F59-49C5-B3F9-D1273E2A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142-642A-47D1-B451-8D6C12AB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008-D612-4F87-9D09-588EDD06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FE2-822D-4BB3-9E21-D02597E5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76B-D604-488B-A194-A98A4722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42B-A7FA-4846-BC30-F5EBA79A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659-698D-479D-854F-A8A062FF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51A-DFCF-465D-9ED6-7B4B6DBC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091-CE5A-4E0B-968F-0743A124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0E4-5616-487A-BC44-E1F6DDD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DC8-AA56-4D83-9CAD-223712A6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1358-E08E-40A9-93F7-9A49136C9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8380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1143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5335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447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1752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20574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23623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447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1447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1143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335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5335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0574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3623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3623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20574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20574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0574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438280" y="990720"/>
            <a:ext cx="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37920" y="99072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828800"/>
            <a:ext cx="190512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343040" y="2362320"/>
            <a:ext cx="106668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410080" y="1752480"/>
            <a:ext cx="106704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990720"/>
            <a:ext cx="91440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114800" y="685800"/>
            <a:ext cx="1447920" cy="99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685800"/>
            <a:ext cx="91440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876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181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4572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876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5181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4572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876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4876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4876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4648320"/>
            <a:ext cx="304776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720" y="3505320"/>
            <a:ext cx="3962160" cy="1143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267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33526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81480" y="3505320"/>
            <a:ext cx="914400" cy="18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4724280"/>
            <a:ext cx="91440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3505320"/>
            <a:ext cx="0" cy="1218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886200"/>
            <a:ext cx="457200" cy="144792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4419720"/>
            <a:ext cx="457200" cy="3045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vier dupre</cp:lastModifiedBy>
  <dcterms:modified xsi:type="dcterms:W3CDTF">2003-01-23T15:05:39Z</dcterms:modified>
  <cp:revision>2</cp:revision>
  <dc:subject/>
  <dc:title>PowerPoint Presentation</dc:title>
</cp:coreProperties>
</file>