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B75D-266E-4E3C-8646-CD046EF04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1E08-5D60-4F27-94E9-AA11C7F8C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EA71-18A5-4913-B019-6CE44F31A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B198-F1F3-4877-BC7E-98CC7EE54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32A5-0B16-4AAE-ACF6-54AC18FC3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12BF-FD45-4CEB-B895-AF1178FD4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D4C8-F7C6-4FCD-BDD4-CBB9395B2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7D3C-338E-447F-AED7-EC10D461A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A19D-354C-4C20-8A5A-DD8A26B9F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74CB-5153-4216-9B48-FB8CD2125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D4E5-3F81-4776-A295-CEE516499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1816-4545-4548-AC7C-47776EB6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2C196-0CCE-4CCF-92DD-956C1120D5E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895480" y="1600200"/>
          <a:ext cx="2752920" cy="26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1600200"/>
                    <a:ext cx="2752920" cy="26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3886200" y="2590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95480" y="26668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i="1" lang="fr-FR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24382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i="1" lang="fr-FR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9880" y="18288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fr-FR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86200" y="36576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fr-FR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685800" y="609480"/>
          <a:ext cx="8153280" cy="152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09480"/>
                    <a:ext cx="8153280" cy="15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0" name=""/>
          <p:cNvGrpSpPr/>
          <p:nvPr/>
        </p:nvGrpSpPr>
        <p:grpSpPr>
          <a:xfrm>
            <a:off x="1295280" y="266040"/>
            <a:ext cx="2110320" cy="3045600"/>
            <a:chOff x="1295280" y="266040"/>
            <a:chExt cx="2110320" cy="3045600"/>
          </a:xfrm>
        </p:grpSpPr>
        <p:sp>
          <p:nvSpPr>
            <p:cNvPr id="51" name=""/>
            <p:cNvSpPr/>
            <p:nvPr/>
          </p:nvSpPr>
          <p:spPr>
            <a:xfrm flipH="1" flipV="1">
              <a:off x="2184120" y="265680"/>
              <a:ext cx="1220760" cy="297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44207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4420794"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1981080" y="2743200"/>
              <a:ext cx="38124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295280" y="2439360"/>
              <a:ext cx="1066680" cy="87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660" y="2459"/>
                  </a:moveTo>
                  <a:arcTo wR="10800" hR="10800" stAng="-3033861" swAng="393971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660" y="2459"/>
                  </a:moveTo>
                  <a:arcTo wR="10800" hR="10800" stAng="-3033861" swAng="3939713"/>
                </a:path>
              </a:pathLst>
            </a:custGeom>
            <a:noFill/>
            <a:ln w="158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5832000" y="2135160"/>
            <a:ext cx="2494080" cy="3123000"/>
            <a:chOff x="5832000" y="2135160"/>
            <a:chExt cx="2494080" cy="3123000"/>
          </a:xfrm>
        </p:grpSpPr>
        <p:sp>
          <p:nvSpPr>
            <p:cNvPr id="55" name=""/>
            <p:cNvSpPr/>
            <p:nvPr/>
          </p:nvSpPr>
          <p:spPr>
            <a:xfrm>
              <a:off x="5832000" y="2210760"/>
              <a:ext cx="1442160" cy="304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44207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4420794"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7065360" y="2405880"/>
              <a:ext cx="450000" cy="31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 flipV="1">
              <a:off x="7065360" y="2134800"/>
              <a:ext cx="1260360" cy="8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660" y="2459"/>
                  </a:moveTo>
                  <a:arcTo wR="10800" hR="10800" stAng="-3033861" swAng="393971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660" y="2459"/>
                  </a:moveTo>
                  <a:arcTo wR="10800" hR="10800" stAng="-3033861" swAng="3939713"/>
                </a:path>
              </a:pathLst>
            </a:custGeom>
            <a:noFill/>
            <a:ln w="158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3574440" y="621720"/>
            <a:ext cx="1121040" cy="3190320"/>
            <a:chOff x="3574440" y="621720"/>
            <a:chExt cx="1121040" cy="3190320"/>
          </a:xfrm>
        </p:grpSpPr>
        <p:sp>
          <p:nvSpPr>
            <p:cNvPr id="59" name=""/>
            <p:cNvSpPr/>
            <p:nvPr/>
          </p:nvSpPr>
          <p:spPr>
            <a:xfrm flipH="1" flipV="1">
              <a:off x="3868920" y="621360"/>
              <a:ext cx="826200" cy="256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25" y="7801"/>
                  </a:moveTo>
                  <a:arcTo wR="10800" hR="10800" stAng="-9832729" swAng="8853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425" y="7801"/>
                  </a:moveTo>
                  <a:arcTo wR="10800" hR="10800" stAng="-9832729" swAng="8853523"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574440" y="2568960"/>
              <a:ext cx="721800" cy="124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275" y="5617"/>
                  </a:moveTo>
                  <a:arcTo wR="10800" hR="10800" stAng="-1720785" swAng="26266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275" y="5617"/>
                  </a:moveTo>
                  <a:arcTo wR="10800" hR="10800" stAng="-1720785" swAng="2626637"/>
                </a:path>
              </a:pathLst>
            </a:custGeom>
            <a:noFill/>
            <a:ln w="158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 flipV="1">
            <a:off x="182880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243828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4648320" y="1752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267080" y="1752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6553080" y="1752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198108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876560" y="987120"/>
            <a:ext cx="1971360" cy="3743640"/>
            <a:chOff x="4876560" y="987120"/>
            <a:chExt cx="1971360" cy="3743640"/>
          </a:xfrm>
        </p:grpSpPr>
        <p:sp>
          <p:nvSpPr>
            <p:cNvPr id="68" name=""/>
            <p:cNvSpPr/>
            <p:nvPr/>
          </p:nvSpPr>
          <p:spPr>
            <a:xfrm flipV="1">
              <a:off x="5112000" y="2157840"/>
              <a:ext cx="843840" cy="111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03925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039255"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876560" y="987120"/>
              <a:ext cx="1066680" cy="374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57" y="6616"/>
                  </a:moveTo>
                  <a:arcTo wR="10800" hR="10800" stAng="-1367494" swAng="2273346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57" y="6616"/>
                  </a:moveTo>
                  <a:arcTo wR="10800" hR="10800" stAng="-1367494" swAng="2273346"/>
                </a:path>
              </a:pathLst>
            </a:custGeom>
            <a:noFill/>
            <a:ln w="158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flipV="1">
              <a:off x="5934240" y="2293920"/>
              <a:ext cx="913680" cy="72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528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528924"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 flipV="1">
            <a:off x="6324480" y="1752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14:21:20Z</dcterms:created>
  <dc:creator>xavier dupre</dc:creator>
  <dc:description/>
  <dc:language>en-US</dc:language>
  <cp:lastModifiedBy>xavier dupre</cp:lastModifiedBy>
  <dcterms:modified xsi:type="dcterms:W3CDTF">2003-01-06T16:58:33Z</dcterms:modified>
  <cp:revision>3</cp:revision>
  <dc:subject/>
  <dc:title>PowerPoint Presentation</dc:title>
</cp:coreProperties>
</file>