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2D57-2D66-468E-B750-58951040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8989-522F-4FE9-A186-A70317D6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738-53A1-4FB8-BE40-F1CEEF99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36E-C395-4609-86F2-E8709871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23C-9AD7-41A7-974C-2A9384BE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1CD-1748-4AF2-A5CA-1FEAB1A2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94F-4223-4484-BE55-71BEEBEA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EB3-CB11-49F6-A114-D744C179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0E8-7300-4478-B371-85098DB6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35DF-48CF-48B9-9A61-130557C8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831-5487-4B9E-83B0-2E1E56AB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6C3-B163-4E24-A802-C6861D68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2E69-5003-484F-BDD3-6CF03FF07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5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png"/><Relationship Id="rId2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png"/><Relationship Id="rId2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png"/><Relationship Id="rId1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2"/>
          </p:cNvCxnSpPr>
          <p:nvPr/>
        </p:nvCxnSpPr>
        <p:spPr>
          <a:xfrm rot="10800000">
            <a:off x="1790640" y="4389120"/>
            <a:ext cx="419400" cy="10134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2"/>
            <a:endCxn id="42" idx="1"/>
          </p:cNvCxnSpPr>
          <p:nvPr/>
        </p:nvCxnSpPr>
        <p:spPr>
          <a:xfrm rot="5400000">
            <a:off x="2046960" y="4708080"/>
            <a:ext cx="824760" cy="186840"/>
          </a:xfrm>
          <a:prstGeom prst="curvedConnector3">
            <a:avLst>
              <a:gd name="adj1" fmla="val 1786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7" idx="2"/>
            <a:endCxn id="48" idx="6"/>
          </p:cNvCxnSpPr>
          <p:nvPr/>
        </p:nvCxnSpPr>
        <p:spPr>
          <a:xfrm rot="5400000">
            <a:off x="5836680" y="3657240"/>
            <a:ext cx="708480" cy="27817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50" idx="2"/>
            <a:endCxn id="48" idx="7"/>
          </p:cNvCxnSpPr>
          <p:nvPr/>
        </p:nvCxnSpPr>
        <p:spPr>
          <a:xfrm rot="5400000">
            <a:off x="5472000" y="3865680"/>
            <a:ext cx="519840" cy="2176200"/>
          </a:xfrm>
          <a:prstGeom prst="curvedConnector3">
            <a:avLst>
              <a:gd name="adj1" fmla="val 13721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" name=""/>
          <p:cNvCxnSpPr>
            <a:endCxn id="52" idx="2"/>
          </p:cNvCxnSpPr>
          <p:nvPr/>
        </p:nvCxnSpPr>
        <p:spPr>
          <a:xfrm>
            <a:off x="684720" y="2209680"/>
            <a:ext cx="230040" cy="1105200"/>
          </a:xfrm>
          <a:prstGeom prst="curvedConnector3">
            <a:avLst>
              <a:gd name="adj1" fmla="val 23354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3" name=""/>
          <p:cNvCxnSpPr>
            <a:stCxn id="54" idx="2"/>
            <a:endCxn id="52" idx="7"/>
          </p:cNvCxnSpPr>
          <p:nvPr/>
        </p:nvCxnSpPr>
        <p:spPr>
          <a:xfrm rot="5400000">
            <a:off x="1372320" y="2631600"/>
            <a:ext cx="946800" cy="42120"/>
          </a:xfrm>
          <a:prstGeom prst="curvedConnector3">
            <a:avLst>
              <a:gd name="adj1" fmla="val 1882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2"/>
            <a:endCxn id="57" idx="7"/>
          </p:cNvCxnSpPr>
          <p:nvPr/>
        </p:nvCxnSpPr>
        <p:spPr>
          <a:xfrm rot="5400000">
            <a:off x="3277440" y="2250360"/>
            <a:ext cx="946800" cy="804600"/>
          </a:xfrm>
          <a:prstGeom prst="curvedConnector3">
            <a:avLst>
              <a:gd name="adj1" fmla="val 18828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8" name=""/>
          <p:cNvCxnSpPr>
            <a:stCxn id="59" idx="2"/>
            <a:endCxn id="57" idx="6"/>
          </p:cNvCxnSpPr>
          <p:nvPr/>
        </p:nvCxnSpPr>
        <p:spPr>
          <a:xfrm rot="5400000">
            <a:off x="3642120" y="2041920"/>
            <a:ext cx="1135440" cy="14101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0" name=""/>
          <p:cNvGrpSpPr/>
          <p:nvPr/>
        </p:nvGrpSpPr>
        <p:grpSpPr>
          <a:xfrm>
            <a:off x="139680" y="100080"/>
            <a:ext cx="3060720" cy="2209680"/>
            <a:chOff x="139680" y="100080"/>
            <a:chExt cx="3060720" cy="2209680"/>
          </a:xfrm>
        </p:grpSpPr>
        <p:grpSp>
          <p:nvGrpSpPr>
            <p:cNvPr id="61" name=""/>
            <p:cNvGrpSpPr/>
            <p:nvPr/>
          </p:nvGrpSpPr>
          <p:grpSpPr>
            <a:xfrm>
              <a:off x="228600" y="152280"/>
              <a:ext cx="2895480" cy="2027160"/>
              <a:chOff x="228600" y="152280"/>
              <a:chExt cx="2895480" cy="20271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228600" y="457200"/>
                <a:ext cx="2590560" cy="1722240"/>
                <a:chOff x="228600" y="457200"/>
                <a:chExt cx="2590560" cy="1722240"/>
              </a:xfrm>
            </p:grpSpPr>
            <p:grpSp>
              <p:nvGrpSpPr>
                <p:cNvPr id="63" name=""/>
                <p:cNvGrpSpPr/>
                <p:nvPr/>
              </p:nvGrpSpPr>
              <p:grpSpPr>
                <a:xfrm>
                  <a:off x="228600" y="838080"/>
                  <a:ext cx="2590560" cy="1341360"/>
                  <a:chOff x="228600" y="838080"/>
                  <a:chExt cx="2590560" cy="134136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1600200" y="1904760"/>
                    <a:ext cx="53316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,1,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38080" y="1904760"/>
                    <a:ext cx="53352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,1,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" name=""/>
                  <p:cNvGrpSpPr/>
                  <p:nvPr/>
                </p:nvGrpSpPr>
                <p:grpSpPr>
                  <a:xfrm>
                    <a:off x="1752480" y="838080"/>
                    <a:ext cx="1066680" cy="533160"/>
                    <a:chOff x="1752480" y="838080"/>
                    <a:chExt cx="1066680" cy="53316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1752480" y="8380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057040" y="990360"/>
                      <a:ext cx="5335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" name=""/>
                  <p:cNvGrpSpPr/>
                  <p:nvPr/>
                </p:nvGrpSpPr>
                <p:grpSpPr>
                  <a:xfrm>
                    <a:off x="228600" y="838080"/>
                    <a:ext cx="1066680" cy="533160"/>
                    <a:chOff x="228600" y="838080"/>
                    <a:chExt cx="1066680" cy="533160"/>
                  </a:xfrm>
                </p:grpSpPr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228600" y="8380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533160" y="990360"/>
                      <a:ext cx="5331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1" name=""/>
                <p:cNvSpPr/>
                <p:nvPr/>
              </p:nvSpPr>
              <p:spPr>
                <a:xfrm flipV="1">
                  <a:off x="1245960" y="608400"/>
                  <a:ext cx="632520" cy="76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245960" y="761760"/>
                  <a:ext cx="63252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33160" y="4572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057400" y="4572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685800" y="1371240"/>
                <a:ext cx="1523520" cy="533520"/>
                <a:chOff x="685800" y="1371240"/>
                <a:chExt cx="1523520" cy="533520"/>
              </a:xfrm>
            </p:grpSpPr>
            <p:sp>
              <p:nvSpPr>
                <p:cNvPr id="76" name=""/>
                <p:cNvSpPr/>
                <p:nvPr/>
              </p:nvSpPr>
              <p:spPr>
                <a:xfrm flipH="1" flipV="1">
                  <a:off x="685800" y="137124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990360" y="137124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85800" y="137160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>
                  <a:off x="1904760" y="137160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85800" y="152280"/>
                <a:ext cx="990720" cy="685080"/>
                <a:chOff x="685800" y="152280"/>
                <a:chExt cx="990720" cy="685080"/>
              </a:xfrm>
            </p:grpSpPr>
            <p:sp>
              <p:nvSpPr>
                <p:cNvPr id="81" name=""/>
                <p:cNvSpPr/>
                <p:nvPr/>
              </p:nvSpPr>
              <p:spPr>
                <a:xfrm flipV="1">
                  <a:off x="1143000" y="380520"/>
                  <a:ext cx="0" cy="456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85800" y="152280"/>
                  <a:ext cx="99072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133720" y="152280"/>
                <a:ext cx="990360" cy="685080"/>
                <a:chOff x="2133720" y="152280"/>
                <a:chExt cx="990360" cy="685080"/>
              </a:xfrm>
            </p:grpSpPr>
            <p:sp>
              <p:nvSpPr>
                <p:cNvPr id="84" name=""/>
                <p:cNvSpPr/>
                <p:nvPr/>
              </p:nvSpPr>
              <p:spPr>
                <a:xfrm flipV="1">
                  <a:off x="2590560" y="380520"/>
                  <a:ext cx="0" cy="456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133720" y="152280"/>
                  <a:ext cx="99036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" name=""/>
            <p:cNvSpPr/>
            <p:nvPr/>
          </p:nvSpPr>
          <p:spPr>
            <a:xfrm>
              <a:off x="139680" y="100080"/>
              <a:ext cx="30607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244680" y="100080"/>
            <a:ext cx="3156120" cy="2209680"/>
            <a:chOff x="3244680" y="100080"/>
            <a:chExt cx="3156120" cy="2209680"/>
          </a:xfrm>
        </p:grpSpPr>
        <p:grpSp>
          <p:nvGrpSpPr>
            <p:cNvPr id="88" name=""/>
            <p:cNvGrpSpPr/>
            <p:nvPr/>
          </p:nvGrpSpPr>
          <p:grpSpPr>
            <a:xfrm>
              <a:off x="3276720" y="152280"/>
              <a:ext cx="3047760" cy="2027160"/>
              <a:chOff x="3276720" y="152280"/>
              <a:chExt cx="3047760" cy="202716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3276720" y="457200"/>
                <a:ext cx="2590560" cy="1722240"/>
                <a:chOff x="3276720" y="457200"/>
                <a:chExt cx="2590560" cy="172224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3276720" y="838080"/>
                  <a:ext cx="2590560" cy="1341360"/>
                  <a:chOff x="3276720" y="838080"/>
                  <a:chExt cx="2590560" cy="134136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4648320" y="1904760"/>
                    <a:ext cx="53316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,1,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3886200" y="1904760"/>
                    <a:ext cx="53352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,1,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4800600" y="838080"/>
                    <a:ext cx="1066680" cy="533160"/>
                    <a:chOff x="4800600" y="838080"/>
                    <a:chExt cx="1066680" cy="53316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4800600" y="8380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5105160" y="990360"/>
                      <a:ext cx="5335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3276720" y="838080"/>
                    <a:ext cx="1066680" cy="533160"/>
                    <a:chOff x="3276720" y="838080"/>
                    <a:chExt cx="1066680" cy="53316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3276720" y="8380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3581280" y="990360"/>
                      <a:ext cx="5331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7" name=""/>
                <p:cNvSpPr/>
                <p:nvPr/>
              </p:nvSpPr>
              <p:spPr>
                <a:xfrm flipV="1">
                  <a:off x="4294080" y="608400"/>
                  <a:ext cx="632520" cy="76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294080" y="761760"/>
                  <a:ext cx="63252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581280" y="4572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105520" y="4572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733920" y="1371240"/>
                <a:ext cx="1523520" cy="533520"/>
                <a:chOff x="3733920" y="1371240"/>
                <a:chExt cx="1523520" cy="533520"/>
              </a:xfrm>
            </p:grpSpPr>
            <p:sp>
              <p:nvSpPr>
                <p:cNvPr id="102" name=""/>
                <p:cNvSpPr/>
                <p:nvPr/>
              </p:nvSpPr>
              <p:spPr>
                <a:xfrm flipH="1" flipV="1">
                  <a:off x="3733920" y="137124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4038480" y="137124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33920" y="137160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4952880" y="137160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657600" y="152280"/>
                <a:ext cx="990720" cy="685080"/>
                <a:chOff x="3657600" y="152280"/>
                <a:chExt cx="990720" cy="685080"/>
              </a:xfrm>
            </p:grpSpPr>
            <p:sp>
              <p:nvSpPr>
                <p:cNvPr id="107" name=""/>
                <p:cNvSpPr/>
                <p:nvPr/>
              </p:nvSpPr>
              <p:spPr>
                <a:xfrm flipV="1">
                  <a:off x="4114800" y="380520"/>
                  <a:ext cx="0" cy="456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657600" y="152280"/>
                  <a:ext cx="99072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334120" y="152280"/>
                <a:ext cx="990360" cy="761760"/>
                <a:chOff x="5334120" y="152280"/>
                <a:chExt cx="990360" cy="761760"/>
              </a:xfrm>
            </p:grpSpPr>
            <p:sp>
              <p:nvSpPr>
                <p:cNvPr id="110" name=""/>
                <p:cNvSpPr/>
                <p:nvPr/>
              </p:nvSpPr>
              <p:spPr>
                <a:xfrm flipV="1">
                  <a:off x="5790960" y="406080"/>
                  <a:ext cx="0" cy="5079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334120" y="152280"/>
                  <a:ext cx="99036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3244680" y="100080"/>
              <a:ext cx="31561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737320" y="2384280"/>
            <a:ext cx="3155760" cy="2416320"/>
            <a:chOff x="5737320" y="2384280"/>
            <a:chExt cx="3155760" cy="2416320"/>
          </a:xfrm>
        </p:grpSpPr>
        <p:grpSp>
          <p:nvGrpSpPr>
            <p:cNvPr id="114" name=""/>
            <p:cNvGrpSpPr/>
            <p:nvPr/>
          </p:nvGrpSpPr>
          <p:grpSpPr>
            <a:xfrm>
              <a:off x="5943600" y="2438280"/>
              <a:ext cx="2895120" cy="2255760"/>
              <a:chOff x="5943600" y="2438280"/>
              <a:chExt cx="2895120" cy="225576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5943600" y="2971800"/>
                <a:ext cx="2590560" cy="1722240"/>
                <a:chOff x="5943600" y="2971800"/>
                <a:chExt cx="2590560" cy="172224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5943600" y="3352680"/>
                  <a:ext cx="2590560" cy="1341360"/>
                  <a:chOff x="5943600" y="3352680"/>
                  <a:chExt cx="2590560" cy="1341360"/>
                </a:xfrm>
              </p:grpSpPr>
              <p:sp>
                <p:nvSpPr>
                  <p:cNvPr id="47" name=""/>
                  <p:cNvSpPr/>
                  <p:nvPr/>
                </p:nvSpPr>
                <p:spPr>
                  <a:xfrm>
                    <a:off x="7315200" y="4419360"/>
                    <a:ext cx="53316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,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6553080" y="4419360"/>
                    <a:ext cx="53352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,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7467480" y="3352680"/>
                    <a:ext cx="1066680" cy="533160"/>
                    <a:chOff x="7467480" y="3352680"/>
                    <a:chExt cx="1066680" cy="53316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7467480" y="33526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7772040" y="3504960"/>
                      <a:ext cx="5335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5943600" y="3352680"/>
                    <a:ext cx="1066680" cy="533160"/>
                    <a:chOff x="5943600" y="3352680"/>
                    <a:chExt cx="1066680" cy="53316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5943600" y="33526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248160" y="3504960"/>
                      <a:ext cx="5331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3" name=""/>
                <p:cNvSpPr/>
                <p:nvPr/>
              </p:nvSpPr>
              <p:spPr>
                <a:xfrm flipV="1">
                  <a:off x="6960960" y="3123000"/>
                  <a:ext cx="632520" cy="76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960960" y="3276360"/>
                  <a:ext cx="63252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248160" y="29718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772400" y="29718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324480" y="2438280"/>
                <a:ext cx="990000" cy="914040"/>
                <a:chOff x="6324480" y="2438280"/>
                <a:chExt cx="990000" cy="914040"/>
              </a:xfrm>
            </p:grpSpPr>
            <p:sp>
              <p:nvSpPr>
                <p:cNvPr id="128" name=""/>
                <p:cNvSpPr/>
                <p:nvPr/>
              </p:nvSpPr>
              <p:spPr>
                <a:xfrm flipV="1">
                  <a:off x="6781320" y="2742840"/>
                  <a:ext cx="0" cy="609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324480" y="2438280"/>
                  <a:ext cx="99000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476760" y="3885840"/>
                <a:ext cx="1523160" cy="533520"/>
                <a:chOff x="6476760" y="3885840"/>
                <a:chExt cx="1523160" cy="533520"/>
              </a:xfrm>
            </p:grpSpPr>
            <p:sp>
              <p:nvSpPr>
                <p:cNvPr id="131" name=""/>
                <p:cNvSpPr/>
                <p:nvPr/>
              </p:nvSpPr>
              <p:spPr>
                <a:xfrm flipH="1" flipV="1">
                  <a:off x="6476760" y="388584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6781320" y="3885840"/>
                  <a:ext cx="121860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476760" y="3886200"/>
                  <a:ext cx="121860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7695360" y="388620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848360" y="2438280"/>
                <a:ext cx="990360" cy="914040"/>
                <a:chOff x="7848360" y="2438280"/>
                <a:chExt cx="990360" cy="914040"/>
              </a:xfrm>
            </p:grpSpPr>
            <p:sp>
              <p:nvSpPr>
                <p:cNvPr id="136" name=""/>
                <p:cNvSpPr/>
                <p:nvPr/>
              </p:nvSpPr>
              <p:spPr>
                <a:xfrm flipV="1">
                  <a:off x="8305200" y="2742840"/>
                  <a:ext cx="0" cy="609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848360" y="2438280"/>
                  <a:ext cx="99036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5737320" y="2384280"/>
              <a:ext cx="3155760" cy="241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838080" y="2590920"/>
            <a:ext cx="2819520" cy="1981080"/>
            <a:chOff x="838080" y="2590920"/>
            <a:chExt cx="2819520" cy="1981080"/>
          </a:xfrm>
        </p:grpSpPr>
        <p:grpSp>
          <p:nvGrpSpPr>
            <p:cNvPr id="140" name=""/>
            <p:cNvGrpSpPr/>
            <p:nvPr/>
          </p:nvGrpSpPr>
          <p:grpSpPr>
            <a:xfrm>
              <a:off x="914400" y="2666880"/>
              <a:ext cx="2590560" cy="1722240"/>
              <a:chOff x="914400" y="2666880"/>
              <a:chExt cx="2590560" cy="17222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914400" y="2666880"/>
                <a:ext cx="2590560" cy="1722240"/>
                <a:chOff x="914400" y="2666880"/>
                <a:chExt cx="2590560" cy="1722240"/>
              </a:xfrm>
            </p:grpSpPr>
            <p:grpSp>
              <p:nvGrpSpPr>
                <p:cNvPr id="142" name=""/>
                <p:cNvGrpSpPr/>
                <p:nvPr/>
              </p:nvGrpSpPr>
              <p:grpSpPr>
                <a:xfrm>
                  <a:off x="914400" y="3047760"/>
                  <a:ext cx="2590560" cy="1341360"/>
                  <a:chOff x="914400" y="3047760"/>
                  <a:chExt cx="2590560" cy="134136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2286000" y="4114440"/>
                    <a:ext cx="53316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,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1523880" y="4114440"/>
                    <a:ext cx="53352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,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2438280" y="3047760"/>
                    <a:ext cx="1066680" cy="533160"/>
                    <a:chOff x="2438280" y="3047760"/>
                    <a:chExt cx="1066680" cy="533160"/>
                  </a:xfrm>
                </p:grpSpPr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438280" y="304776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742840" y="3200040"/>
                      <a:ext cx="5335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914400" y="3047760"/>
                    <a:ext cx="1066680" cy="533160"/>
                    <a:chOff x="914400" y="3047760"/>
                    <a:chExt cx="1066680" cy="533160"/>
                  </a:xfrm>
                </p:grpSpPr>
                <p:sp>
                  <p:nvSpPr>
                    <p:cNvPr id="52" name=""/>
                    <p:cNvSpPr/>
                    <p:nvPr/>
                  </p:nvSpPr>
                  <p:spPr>
                    <a:xfrm>
                      <a:off x="914400" y="304776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1218960" y="3200040"/>
                      <a:ext cx="5331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7" name=""/>
                <p:cNvSpPr/>
                <p:nvPr/>
              </p:nvSpPr>
              <p:spPr>
                <a:xfrm flipV="1">
                  <a:off x="1931760" y="2818080"/>
                  <a:ext cx="632520" cy="76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31760" y="2971440"/>
                  <a:ext cx="63252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18960" y="266688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743200" y="266688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447920" y="3580920"/>
                <a:ext cx="1523520" cy="533520"/>
                <a:chOff x="1447920" y="3580920"/>
                <a:chExt cx="1523520" cy="533520"/>
              </a:xfrm>
            </p:grpSpPr>
            <p:sp>
              <p:nvSpPr>
                <p:cNvPr id="152" name=""/>
                <p:cNvSpPr/>
                <p:nvPr/>
              </p:nvSpPr>
              <p:spPr>
                <a:xfrm flipH="1" flipV="1">
                  <a:off x="1447920" y="358092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1752480" y="358092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447920" y="358128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2666880" y="358128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6" name=""/>
            <p:cNvSpPr/>
            <p:nvPr/>
          </p:nvSpPr>
          <p:spPr>
            <a:xfrm>
              <a:off x="838080" y="2590920"/>
              <a:ext cx="281952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133720" y="4724280"/>
            <a:ext cx="2819160" cy="1859040"/>
            <a:chOff x="2133720" y="4724280"/>
            <a:chExt cx="2819160" cy="1859040"/>
          </a:xfrm>
        </p:grpSpPr>
        <p:grpSp>
          <p:nvGrpSpPr>
            <p:cNvPr id="158" name=""/>
            <p:cNvGrpSpPr/>
            <p:nvPr/>
          </p:nvGrpSpPr>
          <p:grpSpPr>
            <a:xfrm>
              <a:off x="2209680" y="4754520"/>
              <a:ext cx="2590560" cy="1722240"/>
              <a:chOff x="2209680" y="4754520"/>
              <a:chExt cx="2590560" cy="17222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742480" y="5668560"/>
                <a:ext cx="1524600" cy="533520"/>
                <a:chOff x="2742480" y="5668560"/>
                <a:chExt cx="1524600" cy="533520"/>
              </a:xfrm>
            </p:grpSpPr>
            <p:sp>
              <p:nvSpPr>
                <p:cNvPr id="160" name=""/>
                <p:cNvSpPr/>
                <p:nvPr/>
              </p:nvSpPr>
              <p:spPr>
                <a:xfrm flipH="1" flipV="1">
                  <a:off x="2742480" y="5668560"/>
                  <a:ext cx="30492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3047760" y="5668560"/>
                  <a:ext cx="121932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742840" y="5668920"/>
                  <a:ext cx="121932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3961800" y="5668920"/>
                  <a:ext cx="30492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209680" y="4754520"/>
                <a:ext cx="2590560" cy="1722240"/>
                <a:chOff x="2209680" y="4754520"/>
                <a:chExt cx="2590560" cy="172224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2209680" y="5135400"/>
                  <a:ext cx="2590560" cy="1341360"/>
                  <a:chOff x="2209680" y="5135400"/>
                  <a:chExt cx="2590560" cy="134136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3581280" y="6202080"/>
                    <a:ext cx="53316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2819160" y="6202080"/>
                    <a:ext cx="53352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3733560" y="5135400"/>
                    <a:ext cx="1066680" cy="533160"/>
                    <a:chOff x="3733560" y="5135400"/>
                    <a:chExt cx="1066680" cy="533160"/>
                  </a:xfrm>
                </p:grpSpPr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3733560" y="513540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4038120" y="5287680"/>
                      <a:ext cx="5335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2209680" y="5135400"/>
                    <a:ext cx="1066680" cy="533160"/>
                    <a:chOff x="2209680" y="5135400"/>
                    <a:chExt cx="1066680" cy="533160"/>
                  </a:xfrm>
                </p:grpSpPr>
                <p:sp>
                  <p:nvSpPr>
                    <p:cNvPr id="42" name=""/>
                    <p:cNvSpPr/>
                    <p:nvPr/>
                  </p:nvSpPr>
                  <p:spPr>
                    <a:xfrm>
                      <a:off x="2209680" y="513540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2514240" y="5287680"/>
                      <a:ext cx="5331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2" name=""/>
                <p:cNvSpPr/>
                <p:nvPr/>
              </p:nvSpPr>
              <p:spPr>
                <a:xfrm flipV="1">
                  <a:off x="3227040" y="4905720"/>
                  <a:ext cx="632520" cy="76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227040" y="5059080"/>
                  <a:ext cx="63252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514240" y="475452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38480" y="475452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2133720" y="4724280"/>
              <a:ext cx="2819160" cy="185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172200" y="5410080"/>
            <a:ext cx="2743200" cy="1295640"/>
            <a:chOff x="6172200" y="5410080"/>
            <a:chExt cx="2743200" cy="1295640"/>
          </a:xfrm>
        </p:grpSpPr>
        <p:grpSp>
          <p:nvGrpSpPr>
            <p:cNvPr id="178" name=""/>
            <p:cNvGrpSpPr/>
            <p:nvPr/>
          </p:nvGrpSpPr>
          <p:grpSpPr>
            <a:xfrm>
              <a:off x="6248520" y="5486400"/>
              <a:ext cx="609480" cy="418680"/>
              <a:chOff x="6248520" y="5486400"/>
              <a:chExt cx="609480" cy="4186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6264720" y="5501160"/>
                <a:ext cx="560160" cy="403920"/>
                <a:chOff x="6264720" y="5501160"/>
                <a:chExt cx="560160" cy="403920"/>
              </a:xfrm>
            </p:grpSpPr>
            <p:grpSp>
              <p:nvGrpSpPr>
                <p:cNvPr id="180" name=""/>
                <p:cNvGrpSpPr/>
                <p:nvPr/>
              </p:nvGrpSpPr>
              <p:grpSpPr>
                <a:xfrm>
                  <a:off x="6264720" y="5501160"/>
                  <a:ext cx="560160" cy="403920"/>
                  <a:chOff x="6264720" y="5501160"/>
                  <a:chExt cx="560160" cy="403920"/>
                </a:xfrm>
              </p:grpSpPr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6264720" y="5575320"/>
                    <a:ext cx="560160" cy="329760"/>
                    <a:chOff x="6264720" y="5575320"/>
                    <a:chExt cx="560160" cy="32976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6561720" y="5783040"/>
                      <a:ext cx="115560" cy="122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6397920" y="5783040"/>
                      <a:ext cx="114120" cy="122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6594120" y="5575320"/>
                      <a:ext cx="230760" cy="273240"/>
                      <a:chOff x="6594120" y="5575320"/>
                      <a:chExt cx="230760" cy="27324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6594120" y="5575320"/>
                        <a:ext cx="230760" cy="1040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000" bIns="27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6659280" y="5604840"/>
                        <a:ext cx="115920" cy="243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 algn="ctr"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,2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7" name=""/>
                    <p:cNvGrpSpPr/>
                    <p:nvPr/>
                  </p:nvGrpSpPr>
                  <p:grpSpPr>
                    <a:xfrm>
                      <a:off x="6264720" y="5575320"/>
                      <a:ext cx="230760" cy="273240"/>
                      <a:chOff x="6264720" y="5575320"/>
                      <a:chExt cx="230760" cy="273240"/>
                    </a:xfrm>
                  </p:grpSpPr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6264720" y="5575320"/>
                        <a:ext cx="230760" cy="1040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000" bIns="27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6329160" y="5604840"/>
                        <a:ext cx="115920" cy="243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 algn="ctr"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,1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90" name=""/>
                  <p:cNvSpPr/>
                  <p:nvPr/>
                </p:nvSpPr>
                <p:spPr>
                  <a:xfrm flipV="1">
                    <a:off x="6485040" y="5530320"/>
                    <a:ext cx="13608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7"/>
                        </a:moveTo>
                        <a:arcTo wR="10800" hR="10800" stAng="-8853615" swAng="68943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7"/>
                        </a:moveTo>
                        <a:arcTo wR="10800" hR="10800" stAng="-8853615" swAng="6894383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485040" y="5560560"/>
                    <a:ext cx="13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7"/>
                        </a:moveTo>
                        <a:arcTo wR="10800" hR="10800" stAng="-8853615" swAng="68943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7"/>
                        </a:moveTo>
                        <a:arcTo wR="10800" hR="10800" stAng="-8853615" swAng="6894383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330600" y="5501160"/>
                    <a:ext cx="9252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2" y="14683"/>
                        </a:moveTo>
                        <a:arcTo wR="10800" hR="10800" stAng="9535641" swAng="1328738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2" y="14683"/>
                        </a:moveTo>
                        <a:arcTo wR="10800" hR="10800" stAng="9535641" swAng="13287381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660360" y="5501160"/>
                    <a:ext cx="9252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2" y="14683"/>
                        </a:moveTo>
                        <a:arcTo wR="10800" hR="10800" stAng="9535641" swAng="1328738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2" y="14683"/>
                        </a:moveTo>
                        <a:arcTo wR="10800" hR="10800" stAng="9535641" swAng="13287381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6379560" y="5679360"/>
                  <a:ext cx="329760" cy="104400"/>
                  <a:chOff x="6379560" y="5679360"/>
                  <a:chExt cx="329760" cy="1044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flipV="1">
                    <a:off x="6379560" y="5679360"/>
                    <a:ext cx="65880" cy="10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V="1">
                    <a:off x="6445800" y="5679360"/>
                    <a:ext cx="263520" cy="10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379920" y="5679720"/>
                    <a:ext cx="263520" cy="10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>
                    <a:off x="6643080" y="5679720"/>
                    <a:ext cx="65880" cy="10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9" name=""/>
              <p:cNvSpPr/>
              <p:nvPr/>
            </p:nvSpPr>
            <p:spPr>
              <a:xfrm>
                <a:off x="6248520" y="5486400"/>
                <a:ext cx="609480" cy="386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248520" y="6019920"/>
              <a:ext cx="609480" cy="551880"/>
              <a:chOff x="6248520" y="6019920"/>
              <a:chExt cx="609480" cy="5518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6288120" y="6030720"/>
                <a:ext cx="558720" cy="541080"/>
                <a:chOff x="6288120" y="6030720"/>
                <a:chExt cx="558720" cy="54108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6288120" y="6143760"/>
                  <a:ext cx="500400" cy="428040"/>
                  <a:chOff x="6288120" y="6143760"/>
                  <a:chExt cx="500400" cy="428040"/>
                </a:xfrm>
              </p:grpSpPr>
              <p:grpSp>
                <p:nvGrpSpPr>
                  <p:cNvPr id="203" name=""/>
                  <p:cNvGrpSpPr/>
                  <p:nvPr/>
                </p:nvGrpSpPr>
                <p:grpSpPr>
                  <a:xfrm>
                    <a:off x="6288120" y="6224400"/>
                    <a:ext cx="500400" cy="347400"/>
                    <a:chOff x="6288120" y="6224400"/>
                    <a:chExt cx="500400" cy="347400"/>
                  </a:xfrm>
                </p:grpSpPr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6553080" y="6449760"/>
                      <a:ext cx="103320" cy="122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6405480" y="6449760"/>
                      <a:ext cx="102960" cy="122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6" name=""/>
                    <p:cNvGrpSpPr/>
                    <p:nvPr/>
                  </p:nvGrpSpPr>
                  <p:grpSpPr>
                    <a:xfrm>
                      <a:off x="6582600" y="6224400"/>
                      <a:ext cx="205920" cy="275040"/>
                      <a:chOff x="6582600" y="6224400"/>
                      <a:chExt cx="205920" cy="275040"/>
                    </a:xfrm>
                  </p:grpSpPr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6582600" y="6224400"/>
                        <a:ext cx="205920" cy="112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3480" bIns="33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6640560" y="6255720"/>
                        <a:ext cx="102960" cy="243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 algn="ctr"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2,2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9" name=""/>
                    <p:cNvGrpSpPr/>
                    <p:nvPr/>
                  </p:nvGrpSpPr>
                  <p:grpSpPr>
                    <a:xfrm>
                      <a:off x="6288120" y="6224400"/>
                      <a:ext cx="205920" cy="275040"/>
                      <a:chOff x="6288120" y="6224400"/>
                      <a:chExt cx="205920" cy="275040"/>
                    </a:xfrm>
                  </p:grpSpPr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6288120" y="6224400"/>
                        <a:ext cx="205920" cy="112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3480" bIns="33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6346440" y="6255720"/>
                        <a:ext cx="102960" cy="243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 algn="ctr"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2,1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2" name=""/>
                  <p:cNvSpPr/>
                  <p:nvPr/>
                </p:nvSpPr>
                <p:spPr>
                  <a:xfrm flipV="1">
                    <a:off x="6484680" y="6175080"/>
                    <a:ext cx="121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7"/>
                        </a:moveTo>
                        <a:arcTo wR="10800" hR="10800" stAng="-8853615" swAng="68943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7"/>
                        </a:moveTo>
                        <a:arcTo wR="10800" hR="10800" stAng="-8853615" swAng="6894383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484680" y="6208200"/>
                    <a:ext cx="12168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7"/>
                        </a:moveTo>
                        <a:arcTo wR="10800" hR="10800" stAng="-8853615" swAng="68943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7"/>
                        </a:moveTo>
                        <a:arcTo wR="10800" hR="10800" stAng="-8853615" swAng="6894383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346800" y="6143760"/>
                    <a:ext cx="8244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2" y="14683"/>
                        </a:moveTo>
                        <a:arcTo wR="10800" hR="10800" stAng="9535641" swAng="1328738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2" y="14683"/>
                        </a:moveTo>
                        <a:arcTo wR="10800" hR="10800" stAng="9535641" swAng="13287381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641280" y="6143760"/>
                    <a:ext cx="8244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2" y="14683"/>
                        </a:moveTo>
                        <a:arcTo wR="10800" hR="10800" stAng="9535641" swAng="1328738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2" y="14683"/>
                        </a:moveTo>
                        <a:arcTo wR="10800" hR="10800" stAng="9535641" swAng="13287381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6360840" y="6030720"/>
                  <a:ext cx="191880" cy="365400"/>
                  <a:chOff x="6360840" y="6030720"/>
                  <a:chExt cx="191880" cy="3654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flipV="1">
                    <a:off x="6449760" y="6095520"/>
                    <a:ext cx="0" cy="128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360840" y="6030720"/>
                    <a:ext cx="191880" cy="365400"/>
                  </a:xfrm>
                  <a:prstGeom prst="rect">
                    <a:avLst/>
                  </a:prstGeom>
                  <a:noFill/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émis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6390720" y="6337080"/>
                  <a:ext cx="294840" cy="113040"/>
                  <a:chOff x="6390720" y="6337080"/>
                  <a:chExt cx="294840" cy="1130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H="1" flipV="1">
                    <a:off x="6390720" y="6337080"/>
                    <a:ext cx="58680" cy="11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V="1">
                    <a:off x="6449760" y="6337080"/>
                    <a:ext cx="235800" cy="11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391080" y="6337440"/>
                    <a:ext cx="235800" cy="11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>
                    <a:off x="6626520" y="6337440"/>
                    <a:ext cx="58680" cy="11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656400" y="6030720"/>
                  <a:ext cx="190440" cy="365400"/>
                  <a:chOff x="6656400" y="6030720"/>
                  <a:chExt cx="190440" cy="3654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V="1">
                    <a:off x="6744240" y="6095520"/>
                    <a:ext cx="0" cy="128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6656400" y="6030720"/>
                    <a:ext cx="190440" cy="365400"/>
                  </a:xfrm>
                  <a:prstGeom prst="rect">
                    <a:avLst/>
                  </a:prstGeom>
                  <a:noFill/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émis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7" name=""/>
              <p:cNvSpPr/>
              <p:nvPr/>
            </p:nvSpPr>
            <p:spPr>
              <a:xfrm>
                <a:off x="6248520" y="6019920"/>
                <a:ext cx="609480" cy="511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172200" y="5410080"/>
              <a:ext cx="274320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10280" y="5562720"/>
              <a:ext cx="1905120" cy="9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èles H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,S entrée et sortie des modè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"/>
          <p:cNvGrpSpPr/>
          <p:nvPr/>
        </p:nvGrpSpPr>
        <p:grpSpPr>
          <a:xfrm>
            <a:off x="838080" y="1905120"/>
            <a:ext cx="7162920" cy="2593080"/>
            <a:chOff x="838080" y="1905120"/>
            <a:chExt cx="7162920" cy="2593080"/>
          </a:xfrm>
        </p:grpSpPr>
        <p:grpSp>
          <p:nvGrpSpPr>
            <p:cNvPr id="765" name=""/>
            <p:cNvGrpSpPr/>
            <p:nvPr/>
          </p:nvGrpSpPr>
          <p:grpSpPr>
            <a:xfrm>
              <a:off x="838080" y="3124080"/>
              <a:ext cx="609480" cy="609480"/>
              <a:chOff x="838080" y="3124080"/>
              <a:chExt cx="609480" cy="609480"/>
            </a:xfrm>
          </p:grpSpPr>
          <p:sp>
            <p:nvSpPr>
              <p:cNvPr id="766" name=""/>
              <p:cNvSpPr/>
              <p:nvPr/>
            </p:nvSpPr>
            <p:spPr>
              <a:xfrm>
                <a:off x="83808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91440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68" name=""/>
            <p:cNvCxnSpPr>
              <a:stCxn id="766" idx="6"/>
              <a:endCxn id="769" idx="2"/>
            </p:cNvCxnSpPr>
            <p:nvPr/>
          </p:nvCxnSpPr>
          <p:spPr>
            <a:xfrm>
              <a:off x="1456920" y="342864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70" name=""/>
            <p:cNvGrpSpPr/>
            <p:nvPr/>
          </p:nvGrpSpPr>
          <p:grpSpPr>
            <a:xfrm>
              <a:off x="1981080" y="3124080"/>
              <a:ext cx="609480" cy="609480"/>
              <a:chOff x="1981080" y="3124080"/>
              <a:chExt cx="609480" cy="609480"/>
            </a:xfrm>
          </p:grpSpPr>
          <p:sp>
            <p:nvSpPr>
              <p:cNvPr id="769" name=""/>
              <p:cNvSpPr/>
              <p:nvPr/>
            </p:nvSpPr>
            <p:spPr>
              <a:xfrm>
                <a:off x="198108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05740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2895480" y="3124080"/>
              <a:ext cx="609480" cy="609480"/>
              <a:chOff x="2895480" y="3124080"/>
              <a:chExt cx="609480" cy="609480"/>
            </a:xfrm>
          </p:grpSpPr>
          <p:sp>
            <p:nvSpPr>
              <p:cNvPr id="773" name=""/>
              <p:cNvSpPr/>
              <p:nvPr/>
            </p:nvSpPr>
            <p:spPr>
              <a:xfrm>
                <a:off x="289548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97180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3809880" y="3124080"/>
              <a:ext cx="609480" cy="609480"/>
              <a:chOff x="3809880" y="3124080"/>
              <a:chExt cx="609480" cy="609480"/>
            </a:xfrm>
          </p:grpSpPr>
          <p:sp>
            <p:nvSpPr>
              <p:cNvPr id="776" name=""/>
              <p:cNvSpPr/>
              <p:nvPr/>
            </p:nvSpPr>
            <p:spPr>
              <a:xfrm>
                <a:off x="380988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8620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4648320" y="3124080"/>
              <a:ext cx="609480" cy="609480"/>
              <a:chOff x="4648320" y="3124080"/>
              <a:chExt cx="609480" cy="609480"/>
            </a:xfrm>
          </p:grpSpPr>
          <p:sp>
            <p:nvSpPr>
              <p:cNvPr id="779" name=""/>
              <p:cNvSpPr/>
              <p:nvPr/>
            </p:nvSpPr>
            <p:spPr>
              <a:xfrm>
                <a:off x="464832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2464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5486400" y="3124080"/>
              <a:ext cx="609480" cy="609480"/>
              <a:chOff x="5486400" y="3124080"/>
              <a:chExt cx="609480" cy="609480"/>
            </a:xfrm>
          </p:grpSpPr>
          <p:sp>
            <p:nvSpPr>
              <p:cNvPr id="782" name=""/>
              <p:cNvSpPr/>
              <p:nvPr/>
            </p:nvSpPr>
            <p:spPr>
              <a:xfrm>
                <a:off x="548640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56272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6324480" y="3124080"/>
              <a:ext cx="609480" cy="609480"/>
              <a:chOff x="6324480" y="3124080"/>
              <a:chExt cx="609480" cy="609480"/>
            </a:xfrm>
          </p:grpSpPr>
          <p:sp>
            <p:nvSpPr>
              <p:cNvPr id="785" name=""/>
              <p:cNvSpPr/>
              <p:nvPr/>
            </p:nvSpPr>
            <p:spPr>
              <a:xfrm>
                <a:off x="632448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40080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7391520" y="3124080"/>
              <a:ext cx="609480" cy="609480"/>
              <a:chOff x="7391520" y="3124080"/>
              <a:chExt cx="609480" cy="609480"/>
            </a:xfrm>
          </p:grpSpPr>
          <p:sp>
            <p:nvSpPr>
              <p:cNvPr id="788" name=""/>
              <p:cNvSpPr/>
              <p:nvPr/>
            </p:nvSpPr>
            <p:spPr>
              <a:xfrm>
                <a:off x="739152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46784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0" name=""/>
            <p:cNvCxnSpPr>
              <a:stCxn id="769" idx="6"/>
              <a:endCxn id="773" idx="2"/>
            </p:cNvCxnSpPr>
            <p:nvPr/>
          </p:nvCxnSpPr>
          <p:spPr>
            <a:xfrm>
              <a:off x="2600280" y="342864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1" name=""/>
            <p:cNvCxnSpPr>
              <a:stCxn id="773" idx="6"/>
              <a:endCxn id="776" idx="2"/>
            </p:cNvCxnSpPr>
            <p:nvPr/>
          </p:nvCxnSpPr>
          <p:spPr>
            <a:xfrm>
              <a:off x="3514680" y="342864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2" name=""/>
            <p:cNvCxnSpPr>
              <a:stCxn id="776" idx="6"/>
              <a:endCxn id="779" idx="2"/>
            </p:cNvCxnSpPr>
            <p:nvPr/>
          </p:nvCxnSpPr>
          <p:spPr>
            <a:xfrm>
              <a:off x="4429080" y="3428640"/>
              <a:ext cx="210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3" name=""/>
            <p:cNvCxnSpPr>
              <a:stCxn id="779" idx="6"/>
              <a:endCxn id="782" idx="2"/>
            </p:cNvCxnSpPr>
            <p:nvPr/>
          </p:nvCxnSpPr>
          <p:spPr>
            <a:xfrm>
              <a:off x="5266800" y="3428640"/>
              <a:ext cx="210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"/>
            <p:cNvCxnSpPr>
              <a:stCxn id="782" idx="6"/>
              <a:endCxn id="785" idx="2"/>
            </p:cNvCxnSpPr>
            <p:nvPr/>
          </p:nvCxnSpPr>
          <p:spPr>
            <a:xfrm>
              <a:off x="6105600" y="3428640"/>
              <a:ext cx="210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5" name=""/>
            <p:cNvCxnSpPr>
              <a:stCxn id="785" idx="6"/>
              <a:endCxn id="788" idx="2"/>
            </p:cNvCxnSpPr>
            <p:nvPr/>
          </p:nvCxnSpPr>
          <p:spPr>
            <a:xfrm>
              <a:off x="6943320" y="342864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96" name=""/>
            <p:cNvGrpSpPr/>
            <p:nvPr/>
          </p:nvGrpSpPr>
          <p:grpSpPr>
            <a:xfrm>
              <a:off x="1981080" y="1905120"/>
              <a:ext cx="609480" cy="609480"/>
              <a:chOff x="1981080" y="1905120"/>
              <a:chExt cx="609480" cy="609480"/>
            </a:xfrm>
          </p:grpSpPr>
          <p:sp>
            <p:nvSpPr>
              <p:cNvPr id="797" name=""/>
              <p:cNvSpPr/>
              <p:nvPr/>
            </p:nvSpPr>
            <p:spPr>
              <a:xfrm>
                <a:off x="198108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05740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2895480" y="1905120"/>
              <a:ext cx="609480" cy="609480"/>
              <a:chOff x="2895480" y="1905120"/>
              <a:chExt cx="609480" cy="609480"/>
            </a:xfrm>
          </p:grpSpPr>
          <p:sp>
            <p:nvSpPr>
              <p:cNvPr id="800" name=""/>
              <p:cNvSpPr/>
              <p:nvPr/>
            </p:nvSpPr>
            <p:spPr>
              <a:xfrm>
                <a:off x="289548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97180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3809880" y="1905120"/>
              <a:ext cx="609480" cy="609480"/>
              <a:chOff x="3809880" y="1905120"/>
              <a:chExt cx="609480" cy="609480"/>
            </a:xfrm>
          </p:grpSpPr>
          <p:sp>
            <p:nvSpPr>
              <p:cNvPr id="803" name=""/>
              <p:cNvSpPr/>
              <p:nvPr/>
            </p:nvSpPr>
            <p:spPr>
              <a:xfrm>
                <a:off x="380988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88620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4648320" y="1905120"/>
              <a:ext cx="609480" cy="609480"/>
              <a:chOff x="4648320" y="1905120"/>
              <a:chExt cx="609480" cy="609480"/>
            </a:xfrm>
          </p:grpSpPr>
          <p:sp>
            <p:nvSpPr>
              <p:cNvPr id="806" name=""/>
              <p:cNvSpPr/>
              <p:nvPr/>
            </p:nvSpPr>
            <p:spPr>
              <a:xfrm>
                <a:off x="464832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72464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486400" y="1905120"/>
              <a:ext cx="609480" cy="609480"/>
              <a:chOff x="5486400" y="1905120"/>
              <a:chExt cx="609480" cy="609480"/>
            </a:xfrm>
          </p:grpSpPr>
          <p:sp>
            <p:nvSpPr>
              <p:cNvPr id="809" name=""/>
              <p:cNvSpPr/>
              <p:nvPr/>
            </p:nvSpPr>
            <p:spPr>
              <a:xfrm>
                <a:off x="548640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56272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6324480" y="1905120"/>
              <a:ext cx="609480" cy="609480"/>
              <a:chOff x="6324480" y="1905120"/>
              <a:chExt cx="609480" cy="609480"/>
            </a:xfrm>
          </p:grpSpPr>
          <p:sp>
            <p:nvSpPr>
              <p:cNvPr id="812" name=""/>
              <p:cNvSpPr/>
              <p:nvPr/>
            </p:nvSpPr>
            <p:spPr>
              <a:xfrm>
                <a:off x="632448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40080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14" name=""/>
            <p:cNvCxnSpPr>
              <a:stCxn id="769" idx="1"/>
              <a:endCxn id="797" idx="3"/>
            </p:cNvCxnSpPr>
            <p:nvPr/>
          </p:nvCxnSpPr>
          <p:spPr>
            <a:xfrm flipV="1">
              <a:off x="206964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5" name=""/>
            <p:cNvCxnSpPr>
              <a:stCxn id="812" idx="5"/>
              <a:endCxn id="785" idx="7"/>
            </p:cNvCxnSpPr>
            <p:nvPr/>
          </p:nvCxnSpPr>
          <p:spPr>
            <a:xfrm>
              <a:off x="684504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6" name=""/>
            <p:cNvCxnSpPr>
              <a:stCxn id="800" idx="5"/>
              <a:endCxn id="773" idx="7"/>
            </p:cNvCxnSpPr>
            <p:nvPr/>
          </p:nvCxnSpPr>
          <p:spPr>
            <a:xfrm>
              <a:off x="341604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7" name=""/>
            <p:cNvCxnSpPr>
              <a:stCxn id="803" idx="5"/>
              <a:endCxn id="776" idx="7"/>
            </p:cNvCxnSpPr>
            <p:nvPr/>
          </p:nvCxnSpPr>
          <p:spPr>
            <a:xfrm>
              <a:off x="433044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8" name=""/>
            <p:cNvCxnSpPr>
              <a:stCxn id="806" idx="5"/>
              <a:endCxn id="779" idx="7"/>
            </p:cNvCxnSpPr>
            <p:nvPr/>
          </p:nvCxnSpPr>
          <p:spPr>
            <a:xfrm>
              <a:off x="516852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9" name=""/>
            <p:cNvCxnSpPr>
              <a:stCxn id="809" idx="5"/>
              <a:endCxn id="782" idx="7"/>
            </p:cNvCxnSpPr>
            <p:nvPr/>
          </p:nvCxnSpPr>
          <p:spPr>
            <a:xfrm>
              <a:off x="600660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0" name=""/>
            <p:cNvCxnSpPr>
              <a:stCxn id="785" idx="1"/>
              <a:endCxn id="812" idx="3"/>
            </p:cNvCxnSpPr>
            <p:nvPr/>
          </p:nvCxnSpPr>
          <p:spPr>
            <a:xfrm flipV="1">
              <a:off x="641304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1" name=""/>
            <p:cNvCxnSpPr>
              <a:stCxn id="782" idx="1"/>
              <a:endCxn id="809" idx="3"/>
            </p:cNvCxnSpPr>
            <p:nvPr/>
          </p:nvCxnSpPr>
          <p:spPr>
            <a:xfrm flipV="1">
              <a:off x="557496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2" name=""/>
            <p:cNvCxnSpPr>
              <a:stCxn id="779" idx="1"/>
              <a:endCxn id="806" idx="3"/>
            </p:cNvCxnSpPr>
            <p:nvPr/>
          </p:nvCxnSpPr>
          <p:spPr>
            <a:xfrm flipV="1">
              <a:off x="473688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3" name=""/>
            <p:cNvCxnSpPr>
              <a:stCxn id="776" idx="1"/>
              <a:endCxn id="803" idx="3"/>
            </p:cNvCxnSpPr>
            <p:nvPr/>
          </p:nvCxnSpPr>
          <p:spPr>
            <a:xfrm flipV="1">
              <a:off x="389844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4" name=""/>
            <p:cNvCxnSpPr>
              <a:stCxn id="773" idx="1"/>
              <a:endCxn id="800" idx="3"/>
            </p:cNvCxnSpPr>
            <p:nvPr/>
          </p:nvCxnSpPr>
          <p:spPr>
            <a:xfrm flipV="1">
              <a:off x="298404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5" name=""/>
            <p:cNvCxnSpPr>
              <a:stCxn id="797" idx="5"/>
              <a:endCxn id="769" idx="7"/>
            </p:cNvCxnSpPr>
            <p:nvPr/>
          </p:nvCxnSpPr>
          <p:spPr>
            <a:xfrm>
              <a:off x="250164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6" name=""/>
            <p:cNvSpPr/>
            <p:nvPr/>
          </p:nvSpPr>
          <p:spPr>
            <a:xfrm>
              <a:off x="1752480" y="4191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7" name=""/>
            <p:cNvCxnSpPr>
              <a:stCxn id="766" idx="4"/>
              <a:endCxn id="773" idx="4"/>
            </p:cNvCxnSpPr>
            <p:nvPr/>
          </p:nvCxnSpPr>
          <p:spPr>
            <a:xfrm flipH="1" rot="16200000">
              <a:off x="2169360" y="2715120"/>
              <a:ext cx="2520" cy="2057760"/>
            </a:xfrm>
            <a:prstGeom prst="curvedConnector5">
              <a:avLst>
                <a:gd name="adj1" fmla="val 32083333"/>
                <a:gd name="adj2" fmla="val 49991"/>
                <a:gd name="adj3" fmla="val 320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8" name=""/>
            <p:cNvCxnSpPr>
              <a:stCxn id="769" idx="4"/>
              <a:endCxn id="776" idx="4"/>
            </p:cNvCxnSpPr>
            <p:nvPr/>
          </p:nvCxnSpPr>
          <p:spPr>
            <a:xfrm flipH="1" rot="16200000">
              <a:off x="3199320" y="2829240"/>
              <a:ext cx="2520" cy="1829520"/>
            </a:xfrm>
            <a:prstGeom prst="curvedConnector5">
              <a:avLst>
                <a:gd name="adj1" fmla="val 29183333"/>
                <a:gd name="adj2" fmla="val 49990"/>
                <a:gd name="adj3" fmla="val 291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9" name=""/>
            <p:cNvCxnSpPr>
              <a:stCxn id="782" idx="4"/>
              <a:endCxn id="788" idx="4"/>
            </p:cNvCxnSpPr>
            <p:nvPr/>
          </p:nvCxnSpPr>
          <p:spPr>
            <a:xfrm flipH="1" rot="16200000">
              <a:off x="6741720" y="2791440"/>
              <a:ext cx="2520" cy="1905480"/>
            </a:xfrm>
            <a:prstGeom prst="curvedConnector5">
              <a:avLst>
                <a:gd name="adj1" fmla="val 29283333"/>
                <a:gd name="adj2" fmla="val 50000"/>
                <a:gd name="adj3" fmla="val 292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0" name=""/>
            <p:cNvCxnSpPr>
              <a:stCxn id="779" idx="4"/>
              <a:endCxn id="785" idx="4"/>
            </p:cNvCxnSpPr>
            <p:nvPr/>
          </p:nvCxnSpPr>
          <p:spPr>
            <a:xfrm flipH="1" rot="16200000">
              <a:off x="5789160" y="2905560"/>
              <a:ext cx="2520" cy="1677240"/>
            </a:xfrm>
            <a:prstGeom prst="curvedConnector5">
              <a:avLst>
                <a:gd name="adj1" fmla="val 29883333"/>
                <a:gd name="adj2" fmla="val 50000"/>
                <a:gd name="adj3" fmla="val 298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1" name=""/>
            <p:cNvCxnSpPr>
              <a:stCxn id="773" idx="4"/>
              <a:endCxn id="779" idx="4"/>
            </p:cNvCxnSpPr>
            <p:nvPr/>
          </p:nvCxnSpPr>
          <p:spPr>
            <a:xfrm flipH="1" rot="16200000">
              <a:off x="4075560" y="2867400"/>
              <a:ext cx="2520" cy="1753200"/>
            </a:xfrm>
            <a:prstGeom prst="curvedConnector5">
              <a:avLst>
                <a:gd name="adj1" fmla="val 30483333"/>
                <a:gd name="adj2" fmla="val 49989"/>
                <a:gd name="adj3" fmla="val 304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2" name=""/>
            <p:cNvCxnSpPr>
              <a:stCxn id="776" idx="4"/>
              <a:endCxn id="782" idx="4"/>
            </p:cNvCxnSpPr>
            <p:nvPr/>
          </p:nvCxnSpPr>
          <p:spPr>
            <a:xfrm flipH="1" rot="16200000">
              <a:off x="4951080" y="2905560"/>
              <a:ext cx="2520" cy="1677240"/>
            </a:xfrm>
            <a:prstGeom prst="curvedConnector5">
              <a:avLst>
                <a:gd name="adj1" fmla="val 29883333"/>
                <a:gd name="adj2" fmla="val 50000"/>
                <a:gd name="adj3" fmla="val 298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33" name=""/>
            <p:cNvSpPr/>
            <p:nvPr/>
          </p:nvSpPr>
          <p:spPr>
            <a:xfrm>
              <a:off x="2895480" y="4191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09880" y="4191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724280" y="4191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62720" y="419112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629400" y="4191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"/>
          <p:cNvGrpSpPr/>
          <p:nvPr/>
        </p:nvGrpSpPr>
        <p:grpSpPr>
          <a:xfrm>
            <a:off x="990720" y="1752480"/>
            <a:ext cx="5790960" cy="4343400"/>
            <a:chOff x="990720" y="1752480"/>
            <a:chExt cx="5790960" cy="4343400"/>
          </a:xfrm>
        </p:grpSpPr>
        <p:sp>
          <p:nvSpPr>
            <p:cNvPr id="839" name=""/>
            <p:cNvSpPr/>
            <p:nvPr/>
          </p:nvSpPr>
          <p:spPr>
            <a:xfrm>
              <a:off x="1981080" y="4572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990720" y="3581280"/>
              <a:ext cx="609480" cy="609840"/>
              <a:chOff x="990720" y="3581280"/>
              <a:chExt cx="609480" cy="609840"/>
            </a:xfrm>
          </p:grpSpPr>
          <p:sp>
            <p:nvSpPr>
              <p:cNvPr id="841" name=""/>
              <p:cNvSpPr/>
              <p:nvPr/>
            </p:nvSpPr>
            <p:spPr>
              <a:xfrm>
                <a:off x="990720" y="3581280"/>
                <a:ext cx="609480" cy="609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066680" y="373392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43" name=""/>
            <p:cNvCxnSpPr>
              <a:stCxn id="841" idx="6"/>
              <a:endCxn id="844" idx="2"/>
            </p:cNvCxnSpPr>
            <p:nvPr/>
          </p:nvCxnSpPr>
          <p:spPr>
            <a:xfrm flipV="1">
              <a:off x="1609200" y="2208960"/>
              <a:ext cx="1429560" cy="1677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845" name=""/>
            <p:cNvGrpSpPr/>
            <p:nvPr/>
          </p:nvGrpSpPr>
          <p:grpSpPr>
            <a:xfrm>
              <a:off x="3048120" y="1905120"/>
              <a:ext cx="1142640" cy="609480"/>
              <a:chOff x="3048120" y="1905120"/>
              <a:chExt cx="1142640" cy="609480"/>
            </a:xfrm>
          </p:grpSpPr>
          <p:sp>
            <p:nvSpPr>
              <p:cNvPr id="844" name=""/>
              <p:cNvSpPr/>
              <p:nvPr/>
            </p:nvSpPr>
            <p:spPr>
              <a:xfrm>
                <a:off x="3048120" y="1905120"/>
                <a:ext cx="11426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191040" y="2057400"/>
                <a:ext cx="71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état 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2971800" y="3581280"/>
              <a:ext cx="1143000" cy="609840"/>
              <a:chOff x="2971800" y="3581280"/>
              <a:chExt cx="1143000" cy="609840"/>
            </a:xfrm>
          </p:grpSpPr>
          <p:sp>
            <p:nvSpPr>
              <p:cNvPr id="848" name=""/>
              <p:cNvSpPr/>
              <p:nvPr/>
            </p:nvSpPr>
            <p:spPr>
              <a:xfrm>
                <a:off x="2971800" y="3581280"/>
                <a:ext cx="1143000" cy="609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87080" y="3733920"/>
                <a:ext cx="714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état e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3048120" y="5105520"/>
              <a:ext cx="1142640" cy="609480"/>
              <a:chOff x="3048120" y="5105520"/>
              <a:chExt cx="1142640" cy="609480"/>
            </a:xfrm>
          </p:grpSpPr>
          <p:sp>
            <p:nvSpPr>
              <p:cNvPr id="851" name=""/>
              <p:cNvSpPr/>
              <p:nvPr/>
            </p:nvSpPr>
            <p:spPr>
              <a:xfrm>
                <a:off x="3048120" y="5105520"/>
                <a:ext cx="11426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191040" y="5257800"/>
                <a:ext cx="71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état e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53" name=""/>
            <p:cNvCxnSpPr>
              <a:stCxn id="841" idx="6"/>
              <a:endCxn id="848" idx="2"/>
            </p:cNvCxnSpPr>
            <p:nvPr/>
          </p:nvCxnSpPr>
          <p:spPr>
            <a:xfrm>
              <a:off x="1609560" y="3885840"/>
              <a:ext cx="1353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54" name=""/>
            <p:cNvCxnSpPr>
              <a:stCxn id="841" idx="6"/>
              <a:endCxn id="851" idx="2"/>
            </p:cNvCxnSpPr>
            <p:nvPr/>
          </p:nvCxnSpPr>
          <p:spPr>
            <a:xfrm>
              <a:off x="1609200" y="3885840"/>
              <a:ext cx="1429560" cy="1524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855" name=""/>
            <p:cNvGrpSpPr/>
            <p:nvPr/>
          </p:nvGrpSpPr>
          <p:grpSpPr>
            <a:xfrm>
              <a:off x="6172200" y="3581280"/>
              <a:ext cx="609480" cy="609840"/>
              <a:chOff x="6172200" y="3581280"/>
              <a:chExt cx="609480" cy="609840"/>
            </a:xfrm>
          </p:grpSpPr>
          <p:sp>
            <p:nvSpPr>
              <p:cNvPr id="856" name=""/>
              <p:cNvSpPr/>
              <p:nvPr/>
            </p:nvSpPr>
            <p:spPr>
              <a:xfrm>
                <a:off x="6172200" y="3581280"/>
                <a:ext cx="609480" cy="609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248160" y="373392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58" name=""/>
            <p:cNvCxnSpPr>
              <a:stCxn id="844" idx="6"/>
              <a:endCxn id="856" idx="2"/>
            </p:cNvCxnSpPr>
            <p:nvPr/>
          </p:nvCxnSpPr>
          <p:spPr>
            <a:xfrm>
              <a:off x="4200120" y="2209320"/>
              <a:ext cx="1963080" cy="1677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48" idx="6"/>
              <a:endCxn id="856" idx="2"/>
            </p:cNvCxnSpPr>
            <p:nvPr/>
          </p:nvCxnSpPr>
          <p:spPr>
            <a:xfrm>
              <a:off x="4123800" y="3885840"/>
              <a:ext cx="20394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1" idx="6"/>
              <a:endCxn id="856" idx="2"/>
            </p:cNvCxnSpPr>
            <p:nvPr/>
          </p:nvCxnSpPr>
          <p:spPr>
            <a:xfrm flipV="1">
              <a:off x="4200120" y="3885480"/>
              <a:ext cx="1963080" cy="1524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1" name=""/>
            <p:cNvSpPr/>
            <p:nvPr/>
          </p:nvSpPr>
          <p:spPr>
            <a:xfrm>
              <a:off x="2057400" y="2743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09680" y="35812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029200" y="28195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724280" y="4419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95288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572000" y="5486400"/>
              <a:ext cx="990360" cy="609480"/>
              <a:chOff x="4572000" y="5486400"/>
              <a:chExt cx="990360" cy="609480"/>
            </a:xfrm>
          </p:grpSpPr>
          <p:sp>
            <p:nvSpPr>
              <p:cNvPr id="867" name=""/>
              <p:cNvSpPr/>
              <p:nvPr/>
            </p:nvSpPr>
            <p:spPr>
              <a:xfrm>
                <a:off x="4572000" y="5486400"/>
                <a:ext cx="99036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695840" y="5638680"/>
                <a:ext cx="61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t 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4038480" y="3048120"/>
              <a:ext cx="99072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62320" y="3200400"/>
              <a:ext cx="61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t 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4495680" y="1752480"/>
              <a:ext cx="990360" cy="609480"/>
              <a:chOff x="4495680" y="1752480"/>
              <a:chExt cx="990360" cy="609480"/>
            </a:xfrm>
          </p:grpSpPr>
          <p:sp>
            <p:nvSpPr>
              <p:cNvPr id="872" name=""/>
              <p:cNvSpPr/>
              <p:nvPr/>
            </p:nvSpPr>
            <p:spPr>
              <a:xfrm>
                <a:off x="4495680" y="1752480"/>
                <a:ext cx="99036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619520" y="1904760"/>
                <a:ext cx="61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t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74" name=""/>
            <p:cNvCxnSpPr>
              <a:stCxn id="851" idx="5"/>
              <a:endCxn id="867" idx="2"/>
            </p:cNvCxnSpPr>
            <p:nvPr/>
          </p:nvCxnSpPr>
          <p:spPr>
            <a:xfrm>
              <a:off x="4024080" y="5635800"/>
              <a:ext cx="538920" cy="155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5" name=""/>
            <p:cNvCxnSpPr>
              <a:stCxn id="867" idx="3"/>
              <a:endCxn id="851" idx="4"/>
            </p:cNvCxnSpPr>
            <p:nvPr/>
          </p:nvCxnSpPr>
          <p:spPr>
            <a:xfrm flipH="1" flipV="1">
              <a:off x="3618720" y="5724000"/>
              <a:ext cx="1097640" cy="293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6" name=""/>
            <p:cNvCxnSpPr>
              <a:stCxn id="869" idx="2"/>
              <a:endCxn id="848" idx="0"/>
            </p:cNvCxnSpPr>
            <p:nvPr/>
          </p:nvCxnSpPr>
          <p:spPr>
            <a:xfrm flipH="1">
              <a:off x="3542760" y="3352320"/>
              <a:ext cx="486360" cy="2199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77" name=""/>
            <p:cNvCxnSpPr>
              <a:stCxn id="848" idx="7"/>
              <a:endCxn id="869" idx="3"/>
            </p:cNvCxnSpPr>
            <p:nvPr/>
          </p:nvCxnSpPr>
          <p:spPr>
            <a:xfrm flipV="1">
              <a:off x="3947760" y="3577680"/>
              <a:ext cx="235800" cy="83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78" name=""/>
            <p:cNvCxnSpPr>
              <a:stCxn id="844" idx="0"/>
              <a:endCxn id="872" idx="1"/>
            </p:cNvCxnSpPr>
            <p:nvPr/>
          </p:nvCxnSpPr>
          <p:spPr>
            <a:xfrm flipV="1">
              <a:off x="3619440" y="1831680"/>
              <a:ext cx="1021680" cy="64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9" name=""/>
            <p:cNvCxnSpPr>
              <a:stCxn id="872" idx="2"/>
              <a:endCxn id="844" idx="7"/>
            </p:cNvCxnSpPr>
            <p:nvPr/>
          </p:nvCxnSpPr>
          <p:spPr>
            <a:xfrm flipH="1" flipV="1">
              <a:off x="4023720" y="1983600"/>
              <a:ext cx="462600" cy="7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"/>
          <p:cNvGrpSpPr/>
          <p:nvPr/>
        </p:nvGrpSpPr>
        <p:grpSpPr>
          <a:xfrm>
            <a:off x="1362240" y="1898280"/>
            <a:ext cx="7172280" cy="4045320"/>
            <a:chOff x="1362240" y="1898280"/>
            <a:chExt cx="7172280" cy="4045320"/>
          </a:xfrm>
        </p:grpSpPr>
        <p:grpSp>
          <p:nvGrpSpPr>
            <p:cNvPr id="881" name=""/>
            <p:cNvGrpSpPr/>
            <p:nvPr/>
          </p:nvGrpSpPr>
          <p:grpSpPr>
            <a:xfrm>
              <a:off x="3114720" y="2590920"/>
              <a:ext cx="1523160" cy="1370880"/>
              <a:chOff x="3114720" y="2590920"/>
              <a:chExt cx="1523160" cy="1370880"/>
            </a:xfrm>
          </p:grpSpPr>
          <p:sp>
            <p:nvSpPr>
              <p:cNvPr id="882" name=""/>
              <p:cNvSpPr/>
              <p:nvPr/>
            </p:nvSpPr>
            <p:spPr>
              <a:xfrm>
                <a:off x="3114720" y="2590920"/>
                <a:ext cx="1523160" cy="137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305160" y="2934000"/>
                <a:ext cx="951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états  émetteu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1362240" y="3962520"/>
              <a:ext cx="685440" cy="685440"/>
              <a:chOff x="1362240" y="3962520"/>
              <a:chExt cx="685440" cy="685440"/>
            </a:xfrm>
          </p:grpSpPr>
          <p:sp>
            <p:nvSpPr>
              <p:cNvPr id="885" name=""/>
              <p:cNvSpPr/>
              <p:nvPr/>
            </p:nvSpPr>
            <p:spPr>
              <a:xfrm>
                <a:off x="1362240" y="3962520"/>
                <a:ext cx="685440" cy="685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447920" y="4133880"/>
                <a:ext cx="42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3114720" y="4572000"/>
              <a:ext cx="1523160" cy="1370880"/>
              <a:chOff x="3114720" y="4572000"/>
              <a:chExt cx="1523160" cy="1370880"/>
            </a:xfrm>
          </p:grpSpPr>
          <p:sp>
            <p:nvSpPr>
              <p:cNvPr id="888" name=""/>
              <p:cNvSpPr/>
              <p:nvPr/>
            </p:nvSpPr>
            <p:spPr>
              <a:xfrm>
                <a:off x="3114720" y="4572000"/>
                <a:ext cx="1523160" cy="137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305160" y="4915080"/>
                <a:ext cx="951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états non émetteu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90" name=""/>
            <p:cNvCxnSpPr>
              <a:stCxn id="885" idx="6"/>
              <a:endCxn id="882" idx="2"/>
            </p:cNvCxnSpPr>
            <p:nvPr/>
          </p:nvCxnSpPr>
          <p:spPr>
            <a:xfrm flipV="1">
              <a:off x="2057400" y="3276360"/>
              <a:ext cx="1048320" cy="1028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"/>
            <p:cNvCxnSpPr>
              <a:stCxn id="885" idx="6"/>
              <a:endCxn id="888" idx="2"/>
            </p:cNvCxnSpPr>
            <p:nvPr/>
          </p:nvCxnSpPr>
          <p:spPr>
            <a:xfrm>
              <a:off x="2057400" y="4305240"/>
              <a:ext cx="1048320" cy="953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2" name=""/>
            <p:cNvCxnSpPr>
              <a:stCxn id="882" idx="5"/>
              <a:endCxn id="888" idx="7"/>
            </p:cNvCxnSpPr>
            <p:nvPr/>
          </p:nvCxnSpPr>
          <p:spPr>
            <a:xfrm>
              <a:off x="4414320" y="3769920"/>
              <a:ext cx="1080" cy="994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3" name=""/>
            <p:cNvCxnSpPr>
              <a:stCxn id="888" idx="1"/>
              <a:endCxn id="882" idx="3"/>
            </p:cNvCxnSpPr>
            <p:nvPr/>
          </p:nvCxnSpPr>
          <p:spPr>
            <a:xfrm flipV="1">
              <a:off x="3338280" y="3769560"/>
              <a:ext cx="1080" cy="994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4" name=""/>
            <p:cNvCxnSpPr>
              <a:stCxn id="882" idx="6"/>
              <a:endCxn id="895" idx="2"/>
            </p:cNvCxnSpPr>
            <p:nvPr/>
          </p:nvCxnSpPr>
          <p:spPr>
            <a:xfrm>
              <a:off x="4648320" y="3276360"/>
              <a:ext cx="1429200" cy="1028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"/>
            <p:cNvCxnSpPr>
              <a:stCxn id="888" idx="6"/>
              <a:endCxn id="895" idx="2"/>
            </p:cNvCxnSpPr>
            <p:nvPr/>
          </p:nvCxnSpPr>
          <p:spPr>
            <a:xfrm flipV="1">
              <a:off x="4648320" y="4304880"/>
              <a:ext cx="1429200" cy="953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897" name=""/>
            <p:cNvGrpSpPr/>
            <p:nvPr/>
          </p:nvGrpSpPr>
          <p:grpSpPr>
            <a:xfrm>
              <a:off x="6086520" y="3962520"/>
              <a:ext cx="761760" cy="685440"/>
              <a:chOff x="6086520" y="3962520"/>
              <a:chExt cx="761760" cy="685440"/>
            </a:xfrm>
          </p:grpSpPr>
          <p:sp>
            <p:nvSpPr>
              <p:cNvPr id="895" name=""/>
              <p:cNvSpPr/>
              <p:nvPr/>
            </p:nvSpPr>
            <p:spPr>
              <a:xfrm>
                <a:off x="6086520" y="3962520"/>
                <a:ext cx="761760" cy="685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181560" y="4133880"/>
                <a:ext cx="47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99" name=""/>
            <p:cNvCxnSpPr>
              <a:stCxn id="882" idx="7"/>
              <a:endCxn id="882" idx="1"/>
            </p:cNvCxnSpPr>
            <p:nvPr/>
          </p:nvCxnSpPr>
          <p:spPr>
            <a:xfrm rot="5400000">
              <a:off x="3875040" y="2244600"/>
              <a:ext cx="2520" cy="1076760"/>
            </a:xfrm>
            <a:prstGeom prst="curvedConnector5">
              <a:avLst>
                <a:gd name="adj1" fmla="val -40900000"/>
                <a:gd name="adj2" fmla="val 50000"/>
                <a:gd name="adj3" fmla="val -409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0" name=""/>
            <p:cNvSpPr/>
            <p:nvPr/>
          </p:nvSpPr>
          <p:spPr>
            <a:xfrm>
              <a:off x="3581280" y="358128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81280" y="55627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2" name=""/>
            <p:cNvGrpSpPr/>
            <p:nvPr/>
          </p:nvGrpSpPr>
          <p:grpSpPr>
            <a:xfrm>
              <a:off x="5486400" y="5334120"/>
              <a:ext cx="3048120" cy="609480"/>
              <a:chOff x="5486400" y="5334120"/>
              <a:chExt cx="3048120" cy="609480"/>
            </a:xfrm>
          </p:grpSpPr>
          <p:sp>
            <p:nvSpPr>
              <p:cNvPr id="903" name=""/>
              <p:cNvSpPr/>
              <p:nvPr/>
            </p:nvSpPr>
            <p:spPr>
              <a:xfrm>
                <a:off x="5562720" y="5638680"/>
                <a:ext cx="53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486400" y="5334120"/>
                <a:ext cx="304812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172200" y="5486400"/>
                <a:ext cx="213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nexions non cycliqu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5181480" y="2590920"/>
              <a:ext cx="3048120" cy="609480"/>
              <a:chOff x="5181480" y="2590920"/>
              <a:chExt cx="3048120" cy="609480"/>
            </a:xfrm>
          </p:grpSpPr>
          <p:sp>
            <p:nvSpPr>
              <p:cNvPr id="907" name=""/>
              <p:cNvSpPr/>
              <p:nvPr/>
            </p:nvSpPr>
            <p:spPr>
              <a:xfrm>
                <a:off x="5181480" y="2590920"/>
                <a:ext cx="304812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867280" y="2743200"/>
                <a:ext cx="213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nexions cycliqu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9" name=""/>
              <p:cNvCxnSpPr>
                <a:stCxn id="910" idx="6"/>
                <a:endCxn id="910" idx="2"/>
              </p:cNvCxnSpPr>
              <p:nvPr/>
            </p:nvCxnSpPr>
            <p:spPr>
              <a:xfrm flipH="1">
                <a:off x="5333400" y="3009960"/>
                <a:ext cx="533880" cy="2160"/>
              </a:xfrm>
              <a:prstGeom prst="curvedConnector5">
                <a:avLst>
                  <a:gd name="adj1" fmla="val -3238"/>
                  <a:gd name="adj2" fmla="val -8400000"/>
                  <a:gd name="adj3" fmla="val -3238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0" name=""/>
              <p:cNvSpPr/>
              <p:nvPr/>
            </p:nvSpPr>
            <p:spPr>
              <a:xfrm>
                <a:off x="5334120" y="2971800"/>
                <a:ext cx="533160" cy="76320"/>
              </a:xfrm>
              <a:prstGeom prst="ellipse">
                <a:avLst/>
              </a:prstGeom>
              <a:noFill/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3048120" y="2057400"/>
            <a:ext cx="1600200" cy="15238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676520" y="1447920"/>
            <a:ext cx="761760" cy="533160"/>
            <a:chOff x="1676520" y="1447920"/>
            <a:chExt cx="761760" cy="533160"/>
          </a:xfrm>
        </p:grpSpPr>
        <p:sp>
          <p:nvSpPr>
            <p:cNvPr id="913" name=""/>
            <p:cNvSpPr/>
            <p:nvPr/>
          </p:nvSpPr>
          <p:spPr>
            <a:xfrm>
              <a:off x="1676520" y="14479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05120" y="15238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857920" y="2933640"/>
            <a:ext cx="761760" cy="533520"/>
            <a:chOff x="5857920" y="2933640"/>
            <a:chExt cx="761760" cy="533520"/>
          </a:xfrm>
        </p:grpSpPr>
        <p:sp>
          <p:nvSpPr>
            <p:cNvPr id="916" name=""/>
            <p:cNvSpPr/>
            <p:nvPr/>
          </p:nvSpPr>
          <p:spPr>
            <a:xfrm>
              <a:off x="5857920" y="293364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086520" y="30099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6"/>
          </p:cNvCxnSpPr>
          <p:nvPr/>
        </p:nvCxnSpPr>
        <p:spPr>
          <a:xfrm flipV="1">
            <a:off x="6629400" y="2628360"/>
            <a:ext cx="448560" cy="572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9" name=""/>
          <p:cNvCxnSpPr>
            <a:stCxn id="913" idx="6"/>
            <a:endCxn id="916" idx="0"/>
          </p:cNvCxnSpPr>
          <p:nvPr/>
        </p:nvCxnSpPr>
        <p:spPr>
          <a:xfrm>
            <a:off x="2448000" y="1714680"/>
            <a:ext cx="3791520" cy="12103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0" name=""/>
          <p:cNvCxnSpPr>
            <a:stCxn id="916" idx="6"/>
          </p:cNvCxnSpPr>
          <p:nvPr/>
        </p:nvCxnSpPr>
        <p:spPr>
          <a:xfrm>
            <a:off x="6629040" y="3200400"/>
            <a:ext cx="524160" cy="572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1" name=""/>
          <p:cNvCxnSpPr>
            <a:stCxn id="916" idx="6"/>
          </p:cNvCxnSpPr>
          <p:nvPr/>
        </p:nvCxnSpPr>
        <p:spPr>
          <a:xfrm flipV="1">
            <a:off x="6629040" y="3161880"/>
            <a:ext cx="677160" cy="388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922" name=""/>
          <p:cNvGrpSpPr/>
          <p:nvPr/>
        </p:nvGrpSpPr>
        <p:grpSpPr>
          <a:xfrm>
            <a:off x="1666800" y="3695760"/>
            <a:ext cx="761760" cy="533520"/>
            <a:chOff x="1666800" y="3695760"/>
            <a:chExt cx="761760" cy="533520"/>
          </a:xfrm>
        </p:grpSpPr>
        <p:sp>
          <p:nvSpPr>
            <p:cNvPr id="923" name=""/>
            <p:cNvSpPr/>
            <p:nvPr/>
          </p:nvSpPr>
          <p:spPr>
            <a:xfrm>
              <a:off x="1666800" y="369576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895400" y="37720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1676520" y="4648320"/>
            <a:ext cx="761760" cy="533160"/>
            <a:chOff x="1676520" y="4648320"/>
            <a:chExt cx="761760" cy="533160"/>
          </a:xfrm>
        </p:grpSpPr>
        <p:sp>
          <p:nvSpPr>
            <p:cNvPr id="926" name=""/>
            <p:cNvSpPr/>
            <p:nvPr/>
          </p:nvSpPr>
          <p:spPr>
            <a:xfrm>
              <a:off x="1676520" y="46483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905120" y="47242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3" idx="6"/>
            <a:endCxn id="916" idx="4"/>
          </p:cNvCxnSpPr>
          <p:nvPr/>
        </p:nvCxnSpPr>
        <p:spPr>
          <a:xfrm flipV="1">
            <a:off x="2437920" y="3476160"/>
            <a:ext cx="3801240" cy="48672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29" name=""/>
          <p:cNvCxnSpPr>
            <a:stCxn id="926" idx="6"/>
            <a:endCxn id="916" idx="4"/>
          </p:cNvCxnSpPr>
          <p:nvPr/>
        </p:nvCxnSpPr>
        <p:spPr>
          <a:xfrm flipV="1">
            <a:off x="2448000" y="3476160"/>
            <a:ext cx="3791520" cy="14392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30" name=""/>
          <p:cNvGrpSpPr/>
          <p:nvPr/>
        </p:nvGrpSpPr>
        <p:grpSpPr>
          <a:xfrm>
            <a:off x="3200400" y="2209680"/>
            <a:ext cx="609480" cy="381240"/>
            <a:chOff x="3200400" y="2209680"/>
            <a:chExt cx="609480" cy="381240"/>
          </a:xfrm>
        </p:grpSpPr>
        <p:sp>
          <p:nvSpPr>
            <p:cNvPr id="931" name=""/>
            <p:cNvSpPr/>
            <p:nvPr/>
          </p:nvSpPr>
          <p:spPr>
            <a:xfrm>
              <a:off x="3200400" y="2209680"/>
              <a:ext cx="6094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383280" y="2264040"/>
              <a:ext cx="28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505320" y="2666880"/>
            <a:ext cx="609480" cy="380880"/>
            <a:chOff x="3505320" y="2666880"/>
            <a:chExt cx="609480" cy="380880"/>
          </a:xfrm>
        </p:grpSpPr>
        <p:sp>
          <p:nvSpPr>
            <p:cNvPr id="934" name=""/>
            <p:cNvSpPr/>
            <p:nvPr/>
          </p:nvSpPr>
          <p:spPr>
            <a:xfrm>
              <a:off x="3505320" y="2666880"/>
              <a:ext cx="60948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687840" y="27208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3886200" y="3124080"/>
            <a:ext cx="609480" cy="381240"/>
            <a:chOff x="3886200" y="3124080"/>
            <a:chExt cx="609480" cy="381240"/>
          </a:xfrm>
        </p:grpSpPr>
        <p:sp>
          <p:nvSpPr>
            <p:cNvPr id="937" name=""/>
            <p:cNvSpPr/>
            <p:nvPr/>
          </p:nvSpPr>
          <p:spPr>
            <a:xfrm>
              <a:off x="3886200" y="3124080"/>
              <a:ext cx="6094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69080" y="3178440"/>
              <a:ext cx="28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23" idx="6"/>
            <a:endCxn id="931" idx="2"/>
          </p:cNvCxnSpPr>
          <p:nvPr/>
        </p:nvCxnSpPr>
        <p:spPr>
          <a:xfrm flipV="1">
            <a:off x="2437920" y="2399760"/>
            <a:ext cx="753480" cy="15627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40" name=""/>
          <p:cNvCxnSpPr>
            <a:stCxn id="923" idx="6"/>
            <a:endCxn id="934" idx="2"/>
          </p:cNvCxnSpPr>
          <p:nvPr/>
        </p:nvCxnSpPr>
        <p:spPr>
          <a:xfrm flipV="1">
            <a:off x="2437920" y="2856960"/>
            <a:ext cx="1058040" cy="11055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41" name=""/>
          <p:cNvCxnSpPr>
            <a:stCxn id="923" idx="6"/>
            <a:endCxn id="937" idx="2"/>
          </p:cNvCxnSpPr>
          <p:nvPr/>
        </p:nvCxnSpPr>
        <p:spPr>
          <a:xfrm flipV="1">
            <a:off x="2438280" y="3314160"/>
            <a:ext cx="1439280" cy="6483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42" name=""/>
          <p:cNvCxnSpPr>
            <a:stCxn id="913" idx="6"/>
            <a:endCxn id="931" idx="2"/>
          </p:cNvCxnSpPr>
          <p:nvPr/>
        </p:nvCxnSpPr>
        <p:spPr>
          <a:xfrm>
            <a:off x="2448000" y="1714320"/>
            <a:ext cx="743760" cy="68652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3" name=""/>
          <p:cNvCxnSpPr>
            <a:stCxn id="913" idx="4"/>
            <a:endCxn id="934" idx="2"/>
          </p:cNvCxnSpPr>
          <p:nvPr/>
        </p:nvCxnSpPr>
        <p:spPr>
          <a:xfrm flipH="1" rot="16200000">
            <a:off x="2342160" y="1704960"/>
            <a:ext cx="867600" cy="143892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44" name=""/>
          <p:cNvCxnSpPr>
            <a:stCxn id="913" idx="4"/>
            <a:endCxn id="937" idx="2"/>
          </p:cNvCxnSpPr>
          <p:nvPr/>
        </p:nvCxnSpPr>
        <p:spPr>
          <a:xfrm flipH="1" rot="16200000">
            <a:off x="2305080" y="1742760"/>
            <a:ext cx="1324800" cy="18201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26" idx="6"/>
            <a:endCxn id="931" idx="2"/>
          </p:cNvCxnSpPr>
          <p:nvPr/>
        </p:nvCxnSpPr>
        <p:spPr>
          <a:xfrm flipV="1">
            <a:off x="2448000" y="2399760"/>
            <a:ext cx="743760" cy="2515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6" name=""/>
          <p:cNvCxnSpPr>
            <a:stCxn id="926" idx="6"/>
            <a:endCxn id="934" idx="2"/>
          </p:cNvCxnSpPr>
          <p:nvPr/>
        </p:nvCxnSpPr>
        <p:spPr>
          <a:xfrm flipV="1">
            <a:off x="2448000" y="2857320"/>
            <a:ext cx="1048320" cy="20577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47" name=""/>
          <p:cNvCxnSpPr>
            <a:stCxn id="926" idx="6"/>
            <a:endCxn id="937" idx="2"/>
          </p:cNvCxnSpPr>
          <p:nvPr/>
        </p:nvCxnSpPr>
        <p:spPr>
          <a:xfrm flipV="1">
            <a:off x="2447640" y="3314160"/>
            <a:ext cx="1429560" cy="160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8" name=""/>
          <p:cNvCxnSpPr>
            <a:stCxn id="931" idx="6"/>
            <a:endCxn id="916" idx="2"/>
          </p:cNvCxnSpPr>
          <p:nvPr/>
        </p:nvCxnSpPr>
        <p:spPr>
          <a:xfrm>
            <a:off x="3819240" y="2400480"/>
            <a:ext cx="2029320" cy="800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9" name=""/>
          <p:cNvCxnSpPr>
            <a:stCxn id="934" idx="6"/>
            <a:endCxn id="916" idx="2"/>
          </p:cNvCxnSpPr>
          <p:nvPr/>
        </p:nvCxnSpPr>
        <p:spPr>
          <a:xfrm>
            <a:off x="4123800" y="2857680"/>
            <a:ext cx="1724760" cy="343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50" name=""/>
          <p:cNvCxnSpPr>
            <a:stCxn id="937" idx="6"/>
            <a:endCxn id="916" idx="2"/>
          </p:cNvCxnSpPr>
          <p:nvPr/>
        </p:nvCxnSpPr>
        <p:spPr>
          <a:xfrm flipV="1">
            <a:off x="4505400" y="3200040"/>
            <a:ext cx="134352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"/>
          <p:cNvCxnSpPr>
            <a:stCxn id="931" idx="6"/>
            <a:endCxn id="934" idx="7"/>
          </p:cNvCxnSpPr>
          <p:nvPr/>
        </p:nvCxnSpPr>
        <p:spPr>
          <a:xfrm>
            <a:off x="3819240" y="2400480"/>
            <a:ext cx="207000" cy="31320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52" name=""/>
          <p:cNvCxnSpPr>
            <a:stCxn id="934" idx="6"/>
            <a:endCxn id="937" idx="7"/>
          </p:cNvCxnSpPr>
          <p:nvPr/>
        </p:nvCxnSpPr>
        <p:spPr>
          <a:xfrm>
            <a:off x="4123800" y="2857680"/>
            <a:ext cx="283320" cy="31320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953" name=""/>
          <p:cNvSpPr/>
          <p:nvPr/>
        </p:nvSpPr>
        <p:spPr>
          <a:xfrm>
            <a:off x="4876920" y="1295280"/>
            <a:ext cx="1752480" cy="307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états non émet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4" name=""/>
          <p:cNvCxnSpPr>
            <a:stCxn id="953" idx="1"/>
            <a:endCxn id="911" idx="0"/>
          </p:cNvCxnSpPr>
          <p:nvPr/>
        </p:nvCxnSpPr>
        <p:spPr>
          <a:xfrm flipV="1" rot="10800000">
            <a:off x="3847320" y="1452240"/>
            <a:ext cx="1029600" cy="6055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838080" y="1981080"/>
            <a:ext cx="7162920" cy="2530800"/>
            <a:chOff x="838080" y="1981080"/>
            <a:chExt cx="7162920" cy="2530800"/>
          </a:xfrm>
        </p:grpSpPr>
        <p:grpSp>
          <p:nvGrpSpPr>
            <p:cNvPr id="956" name=""/>
            <p:cNvGrpSpPr/>
            <p:nvPr/>
          </p:nvGrpSpPr>
          <p:grpSpPr>
            <a:xfrm>
              <a:off x="838080" y="3200040"/>
              <a:ext cx="609480" cy="609480"/>
              <a:chOff x="838080" y="3200040"/>
              <a:chExt cx="609480" cy="609480"/>
            </a:xfrm>
          </p:grpSpPr>
          <p:sp>
            <p:nvSpPr>
              <p:cNvPr id="957" name=""/>
              <p:cNvSpPr/>
              <p:nvPr/>
            </p:nvSpPr>
            <p:spPr>
              <a:xfrm>
                <a:off x="83808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91440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59" name=""/>
            <p:cNvCxnSpPr>
              <a:stCxn id="957" idx="6"/>
              <a:endCxn id="960" idx="2"/>
            </p:cNvCxnSpPr>
            <p:nvPr/>
          </p:nvCxnSpPr>
          <p:spPr>
            <a:xfrm>
              <a:off x="1456920" y="350460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961" name=""/>
            <p:cNvGrpSpPr/>
            <p:nvPr/>
          </p:nvGrpSpPr>
          <p:grpSpPr>
            <a:xfrm>
              <a:off x="1981080" y="3200040"/>
              <a:ext cx="609480" cy="609480"/>
              <a:chOff x="1981080" y="3200040"/>
              <a:chExt cx="609480" cy="609480"/>
            </a:xfrm>
          </p:grpSpPr>
          <p:sp>
            <p:nvSpPr>
              <p:cNvPr id="960" name=""/>
              <p:cNvSpPr/>
              <p:nvPr/>
            </p:nvSpPr>
            <p:spPr>
              <a:xfrm>
                <a:off x="198108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05740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2895480" y="3200040"/>
              <a:ext cx="609480" cy="609480"/>
              <a:chOff x="2895480" y="3200040"/>
              <a:chExt cx="609480" cy="609480"/>
            </a:xfrm>
          </p:grpSpPr>
          <p:sp>
            <p:nvSpPr>
              <p:cNvPr id="964" name=""/>
              <p:cNvSpPr/>
              <p:nvPr/>
            </p:nvSpPr>
            <p:spPr>
              <a:xfrm>
                <a:off x="289548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97180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3809880" y="3200040"/>
              <a:ext cx="609480" cy="609480"/>
              <a:chOff x="3809880" y="3200040"/>
              <a:chExt cx="609480" cy="609480"/>
            </a:xfrm>
          </p:grpSpPr>
          <p:sp>
            <p:nvSpPr>
              <p:cNvPr id="967" name=""/>
              <p:cNvSpPr/>
              <p:nvPr/>
            </p:nvSpPr>
            <p:spPr>
              <a:xfrm>
                <a:off x="380988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88620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4648320" y="3200040"/>
              <a:ext cx="609480" cy="609480"/>
              <a:chOff x="4648320" y="3200040"/>
              <a:chExt cx="609480" cy="609480"/>
            </a:xfrm>
          </p:grpSpPr>
          <p:sp>
            <p:nvSpPr>
              <p:cNvPr id="970" name=""/>
              <p:cNvSpPr/>
              <p:nvPr/>
            </p:nvSpPr>
            <p:spPr>
              <a:xfrm>
                <a:off x="464832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72464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5486400" y="3200040"/>
              <a:ext cx="609480" cy="609480"/>
              <a:chOff x="5486400" y="3200040"/>
              <a:chExt cx="609480" cy="609480"/>
            </a:xfrm>
          </p:grpSpPr>
          <p:sp>
            <p:nvSpPr>
              <p:cNvPr id="973" name=""/>
              <p:cNvSpPr/>
              <p:nvPr/>
            </p:nvSpPr>
            <p:spPr>
              <a:xfrm>
                <a:off x="548640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56272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6324480" y="3200040"/>
              <a:ext cx="609480" cy="609480"/>
              <a:chOff x="6324480" y="3200040"/>
              <a:chExt cx="609480" cy="609480"/>
            </a:xfrm>
          </p:grpSpPr>
          <p:sp>
            <p:nvSpPr>
              <p:cNvPr id="976" name=""/>
              <p:cNvSpPr/>
              <p:nvPr/>
            </p:nvSpPr>
            <p:spPr>
              <a:xfrm>
                <a:off x="632448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40080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7391520" y="3200040"/>
              <a:ext cx="609480" cy="609480"/>
              <a:chOff x="7391520" y="3200040"/>
              <a:chExt cx="609480" cy="609480"/>
            </a:xfrm>
          </p:grpSpPr>
          <p:sp>
            <p:nvSpPr>
              <p:cNvPr id="979" name=""/>
              <p:cNvSpPr/>
              <p:nvPr/>
            </p:nvSpPr>
            <p:spPr>
              <a:xfrm>
                <a:off x="739152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46784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81" name=""/>
            <p:cNvCxnSpPr>
              <a:stCxn id="960" idx="6"/>
              <a:endCxn id="964" idx="2"/>
            </p:cNvCxnSpPr>
            <p:nvPr/>
          </p:nvCxnSpPr>
          <p:spPr>
            <a:xfrm>
              <a:off x="2600280" y="350460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2" name=""/>
            <p:cNvCxnSpPr>
              <a:stCxn id="964" idx="6"/>
              <a:endCxn id="967" idx="2"/>
            </p:cNvCxnSpPr>
            <p:nvPr/>
          </p:nvCxnSpPr>
          <p:spPr>
            <a:xfrm>
              <a:off x="3514680" y="350460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3" name=""/>
            <p:cNvCxnSpPr>
              <a:stCxn id="967" idx="6"/>
              <a:endCxn id="970" idx="2"/>
            </p:cNvCxnSpPr>
            <p:nvPr/>
          </p:nvCxnSpPr>
          <p:spPr>
            <a:xfrm>
              <a:off x="4429080" y="3504600"/>
              <a:ext cx="210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4" name=""/>
            <p:cNvCxnSpPr>
              <a:stCxn id="970" idx="6"/>
              <a:endCxn id="973" idx="2"/>
            </p:cNvCxnSpPr>
            <p:nvPr/>
          </p:nvCxnSpPr>
          <p:spPr>
            <a:xfrm>
              <a:off x="5266800" y="3504600"/>
              <a:ext cx="210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5" name=""/>
            <p:cNvCxnSpPr>
              <a:stCxn id="973" idx="6"/>
              <a:endCxn id="976" idx="2"/>
            </p:cNvCxnSpPr>
            <p:nvPr/>
          </p:nvCxnSpPr>
          <p:spPr>
            <a:xfrm>
              <a:off x="6105600" y="3504600"/>
              <a:ext cx="210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6" name=""/>
            <p:cNvCxnSpPr>
              <a:stCxn id="976" idx="6"/>
              <a:endCxn id="979" idx="2"/>
            </p:cNvCxnSpPr>
            <p:nvPr/>
          </p:nvCxnSpPr>
          <p:spPr>
            <a:xfrm>
              <a:off x="6943320" y="350460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987" name=""/>
            <p:cNvGrpSpPr/>
            <p:nvPr/>
          </p:nvGrpSpPr>
          <p:grpSpPr>
            <a:xfrm>
              <a:off x="1981080" y="1981080"/>
              <a:ext cx="609480" cy="609480"/>
              <a:chOff x="1981080" y="1981080"/>
              <a:chExt cx="609480" cy="609480"/>
            </a:xfrm>
          </p:grpSpPr>
          <p:sp>
            <p:nvSpPr>
              <p:cNvPr id="988" name=""/>
              <p:cNvSpPr/>
              <p:nvPr/>
            </p:nvSpPr>
            <p:spPr>
              <a:xfrm>
                <a:off x="198108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05740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2895480" y="1981080"/>
              <a:ext cx="609480" cy="609480"/>
              <a:chOff x="2895480" y="1981080"/>
              <a:chExt cx="609480" cy="609480"/>
            </a:xfrm>
          </p:grpSpPr>
          <p:sp>
            <p:nvSpPr>
              <p:cNvPr id="991" name=""/>
              <p:cNvSpPr/>
              <p:nvPr/>
            </p:nvSpPr>
            <p:spPr>
              <a:xfrm>
                <a:off x="289548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97180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3809880" y="1981080"/>
              <a:ext cx="609480" cy="609480"/>
              <a:chOff x="3809880" y="1981080"/>
              <a:chExt cx="609480" cy="609480"/>
            </a:xfrm>
          </p:grpSpPr>
          <p:sp>
            <p:nvSpPr>
              <p:cNvPr id="994" name=""/>
              <p:cNvSpPr/>
              <p:nvPr/>
            </p:nvSpPr>
            <p:spPr>
              <a:xfrm>
                <a:off x="380988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88620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4648320" y="1981080"/>
              <a:ext cx="609480" cy="609480"/>
              <a:chOff x="4648320" y="1981080"/>
              <a:chExt cx="609480" cy="609480"/>
            </a:xfrm>
          </p:grpSpPr>
          <p:sp>
            <p:nvSpPr>
              <p:cNvPr id="997" name=""/>
              <p:cNvSpPr/>
              <p:nvPr/>
            </p:nvSpPr>
            <p:spPr>
              <a:xfrm>
                <a:off x="464832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72464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5486400" y="1981080"/>
              <a:ext cx="609480" cy="609480"/>
              <a:chOff x="5486400" y="1981080"/>
              <a:chExt cx="609480" cy="609480"/>
            </a:xfrm>
          </p:grpSpPr>
          <p:sp>
            <p:nvSpPr>
              <p:cNvPr id="1000" name=""/>
              <p:cNvSpPr/>
              <p:nvPr/>
            </p:nvSpPr>
            <p:spPr>
              <a:xfrm>
                <a:off x="548640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56272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6324480" y="1981080"/>
              <a:ext cx="609480" cy="609480"/>
              <a:chOff x="6324480" y="1981080"/>
              <a:chExt cx="609480" cy="609480"/>
            </a:xfrm>
          </p:grpSpPr>
          <p:sp>
            <p:nvSpPr>
              <p:cNvPr id="1003" name=""/>
              <p:cNvSpPr/>
              <p:nvPr/>
            </p:nvSpPr>
            <p:spPr>
              <a:xfrm>
                <a:off x="632448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40080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05" name=""/>
            <p:cNvCxnSpPr>
              <a:stCxn id="960" idx="1"/>
              <a:endCxn id="988" idx="3"/>
            </p:cNvCxnSpPr>
            <p:nvPr/>
          </p:nvCxnSpPr>
          <p:spPr>
            <a:xfrm flipV="1">
              <a:off x="206964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6" name=""/>
            <p:cNvCxnSpPr>
              <a:stCxn id="1003" idx="5"/>
              <a:endCxn id="976" idx="7"/>
            </p:cNvCxnSpPr>
            <p:nvPr/>
          </p:nvCxnSpPr>
          <p:spPr>
            <a:xfrm>
              <a:off x="684504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7" name=""/>
            <p:cNvCxnSpPr>
              <a:stCxn id="991" idx="5"/>
              <a:endCxn id="964" idx="7"/>
            </p:cNvCxnSpPr>
            <p:nvPr/>
          </p:nvCxnSpPr>
          <p:spPr>
            <a:xfrm>
              <a:off x="341604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8" name=""/>
            <p:cNvCxnSpPr>
              <a:stCxn id="994" idx="5"/>
              <a:endCxn id="967" idx="7"/>
            </p:cNvCxnSpPr>
            <p:nvPr/>
          </p:nvCxnSpPr>
          <p:spPr>
            <a:xfrm>
              <a:off x="433044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9" name=""/>
            <p:cNvCxnSpPr>
              <a:stCxn id="997" idx="5"/>
              <a:endCxn id="970" idx="7"/>
            </p:cNvCxnSpPr>
            <p:nvPr/>
          </p:nvCxnSpPr>
          <p:spPr>
            <a:xfrm>
              <a:off x="516852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0" name=""/>
            <p:cNvCxnSpPr>
              <a:stCxn id="1000" idx="5"/>
              <a:endCxn id="973" idx="7"/>
            </p:cNvCxnSpPr>
            <p:nvPr/>
          </p:nvCxnSpPr>
          <p:spPr>
            <a:xfrm>
              <a:off x="600660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976" idx="1"/>
              <a:endCxn id="1003" idx="3"/>
            </p:cNvCxnSpPr>
            <p:nvPr/>
          </p:nvCxnSpPr>
          <p:spPr>
            <a:xfrm flipV="1">
              <a:off x="641304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973" idx="1"/>
              <a:endCxn id="1000" idx="3"/>
            </p:cNvCxnSpPr>
            <p:nvPr/>
          </p:nvCxnSpPr>
          <p:spPr>
            <a:xfrm flipV="1">
              <a:off x="557496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970" idx="1"/>
              <a:endCxn id="997" idx="3"/>
            </p:cNvCxnSpPr>
            <p:nvPr/>
          </p:nvCxnSpPr>
          <p:spPr>
            <a:xfrm flipV="1">
              <a:off x="473688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4" name=""/>
            <p:cNvCxnSpPr>
              <a:stCxn id="967" idx="1"/>
              <a:endCxn id="994" idx="3"/>
            </p:cNvCxnSpPr>
            <p:nvPr/>
          </p:nvCxnSpPr>
          <p:spPr>
            <a:xfrm flipV="1">
              <a:off x="389844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5" name=""/>
            <p:cNvCxnSpPr>
              <a:stCxn id="964" idx="1"/>
              <a:endCxn id="991" idx="3"/>
            </p:cNvCxnSpPr>
            <p:nvPr/>
          </p:nvCxnSpPr>
          <p:spPr>
            <a:xfrm flipV="1">
              <a:off x="298404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6" name=""/>
            <p:cNvCxnSpPr>
              <a:stCxn id="988" idx="5"/>
              <a:endCxn id="960" idx="7"/>
            </p:cNvCxnSpPr>
            <p:nvPr/>
          </p:nvCxnSpPr>
          <p:spPr>
            <a:xfrm>
              <a:off x="250164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957" idx="4"/>
              <a:endCxn id="964" idx="4"/>
            </p:cNvCxnSpPr>
            <p:nvPr/>
          </p:nvCxnSpPr>
          <p:spPr>
            <a:xfrm flipH="1" rot="16200000">
              <a:off x="2169360" y="2791080"/>
              <a:ext cx="2520" cy="2057760"/>
            </a:xfrm>
            <a:prstGeom prst="curvedConnector5">
              <a:avLst>
                <a:gd name="adj1" fmla="val 32083333"/>
                <a:gd name="adj2" fmla="val 49991"/>
                <a:gd name="adj3" fmla="val 320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8" name=""/>
            <p:cNvCxnSpPr>
              <a:stCxn id="973" idx="4"/>
              <a:endCxn id="979" idx="4"/>
            </p:cNvCxnSpPr>
            <p:nvPr/>
          </p:nvCxnSpPr>
          <p:spPr>
            <a:xfrm flipH="1" rot="16200000">
              <a:off x="6741720" y="2867400"/>
              <a:ext cx="2520" cy="1905480"/>
            </a:xfrm>
            <a:prstGeom prst="curvedConnector5">
              <a:avLst>
                <a:gd name="adj1" fmla="val 29283333"/>
                <a:gd name="adj2" fmla="val 50000"/>
                <a:gd name="adj3" fmla="val 292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9" name=""/>
            <p:cNvCxnSpPr>
              <a:stCxn id="970" idx="4"/>
              <a:endCxn id="976" idx="4"/>
            </p:cNvCxnSpPr>
            <p:nvPr/>
          </p:nvCxnSpPr>
          <p:spPr>
            <a:xfrm flipH="1" rot="16200000">
              <a:off x="5789160" y="2981520"/>
              <a:ext cx="2520" cy="1677240"/>
            </a:xfrm>
            <a:prstGeom prst="curvedConnector5">
              <a:avLst>
                <a:gd name="adj1" fmla="val 29883333"/>
                <a:gd name="adj2" fmla="val 50000"/>
                <a:gd name="adj3" fmla="val 298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0" name=""/>
          <p:cNvGrpSpPr/>
          <p:nvPr/>
        </p:nvGrpSpPr>
        <p:grpSpPr>
          <a:xfrm>
            <a:off x="609480" y="4876920"/>
            <a:ext cx="7848720" cy="990000"/>
            <a:chOff x="609480" y="4876920"/>
            <a:chExt cx="7848720" cy="990000"/>
          </a:xfrm>
        </p:grpSpPr>
        <p:grpSp>
          <p:nvGrpSpPr>
            <p:cNvPr id="1021" name=""/>
            <p:cNvGrpSpPr/>
            <p:nvPr/>
          </p:nvGrpSpPr>
          <p:grpSpPr>
            <a:xfrm>
              <a:off x="609480" y="4952880"/>
              <a:ext cx="609480" cy="609120"/>
              <a:chOff x="609480" y="4952880"/>
              <a:chExt cx="609480" cy="609120"/>
            </a:xfrm>
          </p:grpSpPr>
          <p:sp>
            <p:nvSpPr>
              <p:cNvPr id="1022" name=""/>
              <p:cNvSpPr/>
              <p:nvPr/>
            </p:nvSpPr>
            <p:spPr>
              <a:xfrm>
                <a:off x="609480" y="4952880"/>
                <a:ext cx="609480" cy="609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85800" y="51048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7848720" y="4876920"/>
              <a:ext cx="609480" cy="609480"/>
              <a:chOff x="7848720" y="4876920"/>
              <a:chExt cx="609480" cy="609480"/>
            </a:xfrm>
          </p:grpSpPr>
          <p:sp>
            <p:nvSpPr>
              <p:cNvPr id="1025" name=""/>
              <p:cNvSpPr/>
              <p:nvPr/>
            </p:nvSpPr>
            <p:spPr>
              <a:xfrm>
                <a:off x="784872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92504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1676520" y="4876920"/>
              <a:ext cx="609480" cy="609480"/>
              <a:chOff x="1676520" y="4876920"/>
              <a:chExt cx="609480" cy="609480"/>
            </a:xfrm>
          </p:grpSpPr>
          <p:sp>
            <p:nvSpPr>
              <p:cNvPr id="1028" name=""/>
              <p:cNvSpPr/>
              <p:nvPr/>
            </p:nvSpPr>
            <p:spPr>
              <a:xfrm>
                <a:off x="167652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75284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2666880" y="4876920"/>
              <a:ext cx="609480" cy="609480"/>
              <a:chOff x="2666880" y="4876920"/>
              <a:chExt cx="609480" cy="609480"/>
            </a:xfrm>
          </p:grpSpPr>
          <p:sp>
            <p:nvSpPr>
              <p:cNvPr id="1031" name=""/>
              <p:cNvSpPr/>
              <p:nvPr/>
            </p:nvSpPr>
            <p:spPr>
              <a:xfrm>
                <a:off x="266688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74320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3657600" y="4876920"/>
              <a:ext cx="609480" cy="609480"/>
              <a:chOff x="3657600" y="4876920"/>
              <a:chExt cx="609480" cy="609480"/>
            </a:xfrm>
          </p:grpSpPr>
          <p:sp>
            <p:nvSpPr>
              <p:cNvPr id="1034" name=""/>
              <p:cNvSpPr/>
              <p:nvPr/>
            </p:nvSpPr>
            <p:spPr>
              <a:xfrm>
                <a:off x="365760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73392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4648320" y="4876920"/>
              <a:ext cx="609480" cy="609480"/>
              <a:chOff x="4648320" y="4876920"/>
              <a:chExt cx="609480" cy="609480"/>
            </a:xfrm>
          </p:grpSpPr>
          <p:sp>
            <p:nvSpPr>
              <p:cNvPr id="1037" name=""/>
              <p:cNvSpPr/>
              <p:nvPr/>
            </p:nvSpPr>
            <p:spPr>
              <a:xfrm>
                <a:off x="464832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72464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5638680" y="4876920"/>
              <a:ext cx="609480" cy="609480"/>
              <a:chOff x="5638680" y="4876920"/>
              <a:chExt cx="609480" cy="609480"/>
            </a:xfrm>
          </p:grpSpPr>
          <p:sp>
            <p:nvSpPr>
              <p:cNvPr id="1040" name=""/>
              <p:cNvSpPr/>
              <p:nvPr/>
            </p:nvSpPr>
            <p:spPr>
              <a:xfrm>
                <a:off x="563868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71500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6705720" y="4876920"/>
              <a:ext cx="609480" cy="609480"/>
              <a:chOff x="6705720" y="4876920"/>
              <a:chExt cx="609480" cy="609480"/>
            </a:xfrm>
          </p:grpSpPr>
          <p:sp>
            <p:nvSpPr>
              <p:cNvPr id="1043" name=""/>
              <p:cNvSpPr/>
              <p:nvPr/>
            </p:nvSpPr>
            <p:spPr>
              <a:xfrm>
                <a:off x="670572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78204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45" name=""/>
            <p:cNvCxnSpPr>
              <a:stCxn id="1022" idx="6"/>
              <a:endCxn id="1046" idx="3"/>
            </p:cNvCxnSpPr>
            <p:nvPr/>
          </p:nvCxnSpPr>
          <p:spPr>
            <a:xfrm>
              <a:off x="1228680" y="5257800"/>
              <a:ext cx="241920" cy="587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7" name=""/>
            <p:cNvSpPr/>
            <p:nvPr/>
          </p:nvSpPr>
          <p:spPr>
            <a:xfrm>
              <a:off x="2362320" y="5715000"/>
              <a:ext cx="15228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447920" y="5715000"/>
              <a:ext cx="15228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52680" y="5715000"/>
              <a:ext cx="15264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343400" y="5715000"/>
              <a:ext cx="15228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34120" y="5715000"/>
              <a:ext cx="15228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400800" y="5715000"/>
              <a:ext cx="15228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2" name=""/>
            <p:cNvCxnSpPr>
              <a:stCxn id="1046" idx="6"/>
              <a:endCxn id="1028" idx="3"/>
            </p:cNvCxnSpPr>
            <p:nvPr/>
          </p:nvCxnSpPr>
          <p:spPr>
            <a:xfrm flipV="1">
              <a:off x="1599840" y="5406480"/>
              <a:ext cx="165960" cy="38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3" name=""/>
            <p:cNvCxnSpPr>
              <a:stCxn id="1046" idx="6"/>
              <a:endCxn id="1047" idx="2"/>
            </p:cNvCxnSpPr>
            <p:nvPr/>
          </p:nvCxnSpPr>
          <p:spPr>
            <a:xfrm>
              <a:off x="1599840" y="5790600"/>
              <a:ext cx="762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4" name=""/>
            <p:cNvCxnSpPr>
              <a:stCxn id="1028" idx="6"/>
              <a:endCxn id="1047" idx="0"/>
            </p:cNvCxnSpPr>
            <p:nvPr/>
          </p:nvCxnSpPr>
          <p:spPr>
            <a:xfrm>
              <a:off x="2295000" y="5181120"/>
              <a:ext cx="14364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5" name=""/>
            <p:cNvCxnSpPr>
              <a:stCxn id="1047" idx="6"/>
              <a:endCxn id="1031" idx="2"/>
            </p:cNvCxnSpPr>
            <p:nvPr/>
          </p:nvCxnSpPr>
          <p:spPr>
            <a:xfrm flipV="1">
              <a:off x="2514240" y="5181120"/>
              <a:ext cx="14364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6" name=""/>
            <p:cNvCxnSpPr>
              <a:stCxn id="1031" idx="5"/>
              <a:endCxn id="1048" idx="2"/>
            </p:cNvCxnSpPr>
            <p:nvPr/>
          </p:nvCxnSpPr>
          <p:spPr>
            <a:xfrm>
              <a:off x="3187800" y="5406840"/>
              <a:ext cx="165600" cy="38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7" name=""/>
            <p:cNvCxnSpPr>
              <a:stCxn id="1048" idx="6"/>
              <a:endCxn id="1034" idx="2"/>
            </p:cNvCxnSpPr>
            <p:nvPr/>
          </p:nvCxnSpPr>
          <p:spPr>
            <a:xfrm flipV="1">
              <a:off x="3504960" y="5181120"/>
              <a:ext cx="14364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8" name=""/>
            <p:cNvCxnSpPr>
              <a:stCxn id="1034" idx="5"/>
              <a:endCxn id="1049" idx="3"/>
            </p:cNvCxnSpPr>
            <p:nvPr/>
          </p:nvCxnSpPr>
          <p:spPr>
            <a:xfrm>
              <a:off x="4177800" y="5406840"/>
              <a:ext cx="188280" cy="438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9" name=""/>
            <p:cNvCxnSpPr>
              <a:stCxn id="1049" idx="6"/>
              <a:endCxn id="1037" idx="2"/>
            </p:cNvCxnSpPr>
            <p:nvPr/>
          </p:nvCxnSpPr>
          <p:spPr>
            <a:xfrm flipV="1">
              <a:off x="4495320" y="5181120"/>
              <a:ext cx="14364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0" name=""/>
            <p:cNvCxnSpPr>
              <a:stCxn id="1037" idx="5"/>
              <a:endCxn id="1050" idx="2"/>
            </p:cNvCxnSpPr>
            <p:nvPr/>
          </p:nvCxnSpPr>
          <p:spPr>
            <a:xfrm>
              <a:off x="5168520" y="5406840"/>
              <a:ext cx="165960" cy="38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1" name=""/>
            <p:cNvCxnSpPr>
              <a:stCxn id="1043" idx="6"/>
              <a:endCxn id="1062" idx="0"/>
            </p:cNvCxnSpPr>
            <p:nvPr/>
          </p:nvCxnSpPr>
          <p:spPr>
            <a:xfrm>
              <a:off x="7324200" y="5181120"/>
              <a:ext cx="21996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3" name=""/>
            <p:cNvCxnSpPr>
              <a:stCxn id="1051" idx="6"/>
              <a:endCxn id="1043" idx="2"/>
            </p:cNvCxnSpPr>
            <p:nvPr/>
          </p:nvCxnSpPr>
          <p:spPr>
            <a:xfrm flipV="1">
              <a:off x="6552720" y="5181120"/>
              <a:ext cx="14364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4" name=""/>
            <p:cNvCxnSpPr>
              <a:stCxn id="1040" idx="5"/>
              <a:endCxn id="1051" idx="2"/>
            </p:cNvCxnSpPr>
            <p:nvPr/>
          </p:nvCxnSpPr>
          <p:spPr>
            <a:xfrm>
              <a:off x="6159600" y="5406840"/>
              <a:ext cx="241920" cy="38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5" name=""/>
            <p:cNvCxnSpPr>
              <a:stCxn id="1050" idx="6"/>
              <a:endCxn id="1040" idx="2"/>
            </p:cNvCxnSpPr>
            <p:nvPr/>
          </p:nvCxnSpPr>
          <p:spPr>
            <a:xfrm flipV="1">
              <a:off x="5486040" y="5181120"/>
              <a:ext cx="14364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6" name=""/>
            <p:cNvCxnSpPr>
              <a:stCxn id="1051" idx="6"/>
              <a:endCxn id="1062" idx="2"/>
            </p:cNvCxnSpPr>
            <p:nvPr/>
          </p:nvCxnSpPr>
          <p:spPr>
            <a:xfrm>
              <a:off x="6553080" y="5790600"/>
              <a:ext cx="915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62" name=""/>
            <p:cNvSpPr/>
            <p:nvPr/>
          </p:nvSpPr>
          <p:spPr>
            <a:xfrm>
              <a:off x="7467480" y="5715000"/>
              <a:ext cx="15264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7" name=""/>
            <p:cNvCxnSpPr>
              <a:stCxn id="1062" idx="6"/>
              <a:endCxn id="1025" idx="2"/>
            </p:cNvCxnSpPr>
            <p:nvPr/>
          </p:nvCxnSpPr>
          <p:spPr>
            <a:xfrm flipV="1">
              <a:off x="7620120" y="5181120"/>
              <a:ext cx="21960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8" name=""/>
            <p:cNvCxnSpPr>
              <a:stCxn id="1050" idx="6"/>
              <a:endCxn id="1051" idx="2"/>
            </p:cNvCxnSpPr>
            <p:nvPr/>
          </p:nvCxnSpPr>
          <p:spPr>
            <a:xfrm>
              <a:off x="5486400" y="5790600"/>
              <a:ext cx="915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"/>
          <p:cNvGrpSpPr/>
          <p:nvPr/>
        </p:nvGrpSpPr>
        <p:grpSpPr>
          <a:xfrm>
            <a:off x="685800" y="2286000"/>
            <a:ext cx="3047760" cy="2438280"/>
            <a:chOff x="685800" y="2286000"/>
            <a:chExt cx="3047760" cy="2438280"/>
          </a:xfrm>
        </p:grpSpPr>
        <p:grpSp>
          <p:nvGrpSpPr>
            <p:cNvPr id="1070" name=""/>
            <p:cNvGrpSpPr/>
            <p:nvPr/>
          </p:nvGrpSpPr>
          <p:grpSpPr>
            <a:xfrm>
              <a:off x="685800" y="2286000"/>
              <a:ext cx="609480" cy="609480"/>
              <a:chOff x="685800" y="2286000"/>
              <a:chExt cx="609480" cy="609480"/>
            </a:xfrm>
          </p:grpSpPr>
          <p:sp>
            <p:nvSpPr>
              <p:cNvPr id="1071" name=""/>
              <p:cNvSpPr/>
              <p:nvPr/>
            </p:nvSpPr>
            <p:spPr>
              <a:xfrm>
                <a:off x="685800" y="22860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62120" y="24382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85800" y="3200400"/>
              <a:ext cx="609480" cy="609480"/>
              <a:chOff x="685800" y="3200400"/>
              <a:chExt cx="609480" cy="609480"/>
            </a:xfrm>
          </p:grpSpPr>
          <p:sp>
            <p:nvSpPr>
              <p:cNvPr id="1074" name=""/>
              <p:cNvSpPr/>
              <p:nvPr/>
            </p:nvSpPr>
            <p:spPr>
              <a:xfrm>
                <a:off x="68580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6212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85800" y="4114800"/>
              <a:ext cx="609480" cy="609480"/>
              <a:chOff x="685800" y="4114800"/>
              <a:chExt cx="609480" cy="609480"/>
            </a:xfrm>
          </p:grpSpPr>
          <p:sp>
            <p:nvSpPr>
              <p:cNvPr id="1077" name=""/>
              <p:cNvSpPr/>
              <p:nvPr/>
            </p:nvSpPr>
            <p:spPr>
              <a:xfrm>
                <a:off x="685800" y="41148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62120" y="42670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3124080" y="2286000"/>
              <a:ext cx="609480" cy="609480"/>
              <a:chOff x="3124080" y="2286000"/>
              <a:chExt cx="609480" cy="609480"/>
            </a:xfrm>
          </p:grpSpPr>
          <p:sp>
            <p:nvSpPr>
              <p:cNvPr id="1080" name=""/>
              <p:cNvSpPr/>
              <p:nvPr/>
            </p:nvSpPr>
            <p:spPr>
              <a:xfrm>
                <a:off x="3124080" y="22860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200400" y="24382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3124080" y="3200400"/>
              <a:ext cx="609480" cy="609480"/>
              <a:chOff x="3124080" y="3200400"/>
              <a:chExt cx="609480" cy="609480"/>
            </a:xfrm>
          </p:grpSpPr>
          <p:sp>
            <p:nvSpPr>
              <p:cNvPr id="1083" name=""/>
              <p:cNvSpPr/>
              <p:nvPr/>
            </p:nvSpPr>
            <p:spPr>
              <a:xfrm>
                <a:off x="312408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20040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3124080" y="4114800"/>
              <a:ext cx="609480" cy="609480"/>
              <a:chOff x="3124080" y="4114800"/>
              <a:chExt cx="609480" cy="609480"/>
            </a:xfrm>
          </p:grpSpPr>
          <p:sp>
            <p:nvSpPr>
              <p:cNvPr id="1086" name=""/>
              <p:cNvSpPr/>
              <p:nvPr/>
            </p:nvSpPr>
            <p:spPr>
              <a:xfrm>
                <a:off x="3124080" y="41148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200400" y="42670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88" name=""/>
            <p:cNvCxnSpPr>
              <a:stCxn id="1071" idx="6"/>
              <a:endCxn id="1080" idx="2"/>
            </p:cNvCxnSpPr>
            <p:nvPr/>
          </p:nvCxnSpPr>
          <p:spPr>
            <a:xfrm>
              <a:off x="1304640" y="2590560"/>
              <a:ext cx="1810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9" name=""/>
            <p:cNvCxnSpPr>
              <a:stCxn id="1074" idx="6"/>
              <a:endCxn id="1083" idx="2"/>
            </p:cNvCxnSpPr>
            <p:nvPr/>
          </p:nvCxnSpPr>
          <p:spPr>
            <a:xfrm>
              <a:off x="1304640" y="3504960"/>
              <a:ext cx="1810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0" name=""/>
            <p:cNvCxnSpPr>
              <a:stCxn id="1077" idx="6"/>
              <a:endCxn id="1086" idx="2"/>
            </p:cNvCxnSpPr>
            <p:nvPr/>
          </p:nvCxnSpPr>
          <p:spPr>
            <a:xfrm>
              <a:off x="1304640" y="4419360"/>
              <a:ext cx="1810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1" name=""/>
            <p:cNvCxnSpPr>
              <a:stCxn id="1071" idx="6"/>
              <a:endCxn id="1083" idx="2"/>
            </p:cNvCxnSpPr>
            <p:nvPr/>
          </p:nvCxnSpPr>
          <p:spPr>
            <a:xfrm>
              <a:off x="1304640" y="2590920"/>
              <a:ext cx="1810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2" name=""/>
            <p:cNvCxnSpPr>
              <a:stCxn id="1071" idx="6"/>
              <a:endCxn id="1086" idx="2"/>
            </p:cNvCxnSpPr>
            <p:nvPr/>
          </p:nvCxnSpPr>
          <p:spPr>
            <a:xfrm>
              <a:off x="1304640" y="2590920"/>
              <a:ext cx="1810440" cy="1829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3" name=""/>
            <p:cNvCxnSpPr>
              <a:stCxn id="1074" idx="6"/>
              <a:endCxn id="1080" idx="2"/>
            </p:cNvCxnSpPr>
            <p:nvPr/>
          </p:nvCxnSpPr>
          <p:spPr>
            <a:xfrm flipV="1">
              <a:off x="1304640" y="2590560"/>
              <a:ext cx="1810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4" name=""/>
            <p:cNvCxnSpPr>
              <a:stCxn id="1074" idx="6"/>
              <a:endCxn id="1086" idx="2"/>
            </p:cNvCxnSpPr>
            <p:nvPr/>
          </p:nvCxnSpPr>
          <p:spPr>
            <a:xfrm>
              <a:off x="1304640" y="3505320"/>
              <a:ext cx="1810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5" name=""/>
            <p:cNvCxnSpPr>
              <a:stCxn id="1077" idx="6"/>
              <a:endCxn id="1080" idx="2"/>
            </p:cNvCxnSpPr>
            <p:nvPr/>
          </p:nvCxnSpPr>
          <p:spPr>
            <a:xfrm flipV="1">
              <a:off x="1304640" y="2590560"/>
              <a:ext cx="1810440" cy="1829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6" name=""/>
            <p:cNvCxnSpPr>
              <a:stCxn id="1077" idx="6"/>
              <a:endCxn id="1083" idx="2"/>
            </p:cNvCxnSpPr>
            <p:nvPr/>
          </p:nvCxnSpPr>
          <p:spPr>
            <a:xfrm flipV="1">
              <a:off x="1304640" y="3504960"/>
              <a:ext cx="1810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97" name=""/>
          <p:cNvGrpSpPr/>
          <p:nvPr/>
        </p:nvGrpSpPr>
        <p:grpSpPr>
          <a:xfrm>
            <a:off x="4800600" y="2286000"/>
            <a:ext cx="3047760" cy="2438280"/>
            <a:chOff x="4800600" y="2286000"/>
            <a:chExt cx="3047760" cy="2438280"/>
          </a:xfrm>
        </p:grpSpPr>
        <p:sp>
          <p:nvSpPr>
            <p:cNvPr id="1098" name=""/>
            <p:cNvSpPr/>
            <p:nvPr/>
          </p:nvSpPr>
          <p:spPr>
            <a:xfrm>
              <a:off x="6248520" y="3429000"/>
              <a:ext cx="152280" cy="152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9" name=""/>
            <p:cNvCxnSpPr>
              <a:stCxn id="1100" idx="6"/>
              <a:endCxn id="1098" idx="2"/>
            </p:cNvCxnSpPr>
            <p:nvPr/>
          </p:nvCxnSpPr>
          <p:spPr>
            <a:xfrm>
              <a:off x="5419800" y="3504960"/>
              <a:ext cx="829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1" name=""/>
            <p:cNvCxnSpPr>
              <a:stCxn id="1102" idx="6"/>
              <a:endCxn id="1098" idx="2"/>
            </p:cNvCxnSpPr>
            <p:nvPr/>
          </p:nvCxnSpPr>
          <p:spPr>
            <a:xfrm>
              <a:off x="5419800" y="2590920"/>
              <a:ext cx="829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03" name=""/>
            <p:cNvGrpSpPr/>
            <p:nvPr/>
          </p:nvGrpSpPr>
          <p:grpSpPr>
            <a:xfrm>
              <a:off x="4800600" y="2286000"/>
              <a:ext cx="609480" cy="609480"/>
              <a:chOff x="4800600" y="2286000"/>
              <a:chExt cx="609480" cy="60948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00600" y="22860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876920" y="24382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4800600" y="3200400"/>
              <a:ext cx="609480" cy="609480"/>
              <a:chOff x="4800600" y="3200400"/>
              <a:chExt cx="609480" cy="609480"/>
            </a:xfrm>
          </p:grpSpPr>
          <p:sp>
            <p:nvSpPr>
              <p:cNvPr id="1100" name=""/>
              <p:cNvSpPr/>
              <p:nvPr/>
            </p:nvSpPr>
            <p:spPr>
              <a:xfrm>
                <a:off x="480060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87692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4800600" y="4114800"/>
              <a:ext cx="609480" cy="609480"/>
              <a:chOff x="4800600" y="4114800"/>
              <a:chExt cx="609480" cy="609480"/>
            </a:xfrm>
          </p:grpSpPr>
          <p:sp>
            <p:nvSpPr>
              <p:cNvPr id="1108" name=""/>
              <p:cNvSpPr/>
              <p:nvPr/>
            </p:nvSpPr>
            <p:spPr>
              <a:xfrm>
                <a:off x="4800600" y="41148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876920" y="42670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7238880" y="2286000"/>
              <a:ext cx="609480" cy="609480"/>
              <a:chOff x="7238880" y="2286000"/>
              <a:chExt cx="609480" cy="609480"/>
            </a:xfrm>
          </p:grpSpPr>
          <p:sp>
            <p:nvSpPr>
              <p:cNvPr id="1111" name=""/>
              <p:cNvSpPr/>
              <p:nvPr/>
            </p:nvSpPr>
            <p:spPr>
              <a:xfrm>
                <a:off x="7238880" y="22860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315200" y="24382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7238880" y="3200400"/>
              <a:ext cx="609480" cy="609480"/>
              <a:chOff x="7238880" y="3200400"/>
              <a:chExt cx="609480" cy="609480"/>
            </a:xfrm>
          </p:grpSpPr>
          <p:sp>
            <p:nvSpPr>
              <p:cNvPr id="1114" name=""/>
              <p:cNvSpPr/>
              <p:nvPr/>
            </p:nvSpPr>
            <p:spPr>
              <a:xfrm>
                <a:off x="723888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31520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7238880" y="4114800"/>
              <a:ext cx="609480" cy="609480"/>
              <a:chOff x="7238880" y="4114800"/>
              <a:chExt cx="609480" cy="609480"/>
            </a:xfrm>
          </p:grpSpPr>
          <p:sp>
            <p:nvSpPr>
              <p:cNvPr id="1117" name=""/>
              <p:cNvSpPr/>
              <p:nvPr/>
            </p:nvSpPr>
            <p:spPr>
              <a:xfrm>
                <a:off x="7238880" y="41148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315200" y="42670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19" name=""/>
            <p:cNvCxnSpPr>
              <a:stCxn id="1108" idx="6"/>
              <a:endCxn id="1098" idx="2"/>
            </p:cNvCxnSpPr>
            <p:nvPr/>
          </p:nvCxnSpPr>
          <p:spPr>
            <a:xfrm flipV="1">
              <a:off x="5419800" y="3504960"/>
              <a:ext cx="829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0" name=""/>
            <p:cNvCxnSpPr>
              <a:stCxn id="1098" idx="6"/>
              <a:endCxn id="1111" idx="2"/>
            </p:cNvCxnSpPr>
            <p:nvPr/>
          </p:nvCxnSpPr>
          <p:spPr>
            <a:xfrm flipV="1">
              <a:off x="6400800" y="2590560"/>
              <a:ext cx="829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1" name=""/>
            <p:cNvCxnSpPr>
              <a:stCxn id="1098" idx="6"/>
              <a:endCxn id="1114" idx="2"/>
            </p:cNvCxnSpPr>
            <p:nvPr/>
          </p:nvCxnSpPr>
          <p:spPr>
            <a:xfrm>
              <a:off x="6400800" y="3504960"/>
              <a:ext cx="829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2" name=""/>
            <p:cNvCxnSpPr>
              <a:stCxn id="1098" idx="6"/>
              <a:endCxn id="1117" idx="2"/>
            </p:cNvCxnSpPr>
            <p:nvPr/>
          </p:nvCxnSpPr>
          <p:spPr>
            <a:xfrm>
              <a:off x="6400800" y="3505320"/>
              <a:ext cx="829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1066680" y="1600200"/>
            <a:ext cx="4419720" cy="2209680"/>
            <a:chOff x="1066680" y="1600200"/>
            <a:chExt cx="4419720" cy="2209680"/>
          </a:xfrm>
        </p:grpSpPr>
        <p:grpSp>
          <p:nvGrpSpPr>
            <p:cNvPr id="1124" name=""/>
            <p:cNvGrpSpPr/>
            <p:nvPr/>
          </p:nvGrpSpPr>
          <p:grpSpPr>
            <a:xfrm>
              <a:off x="1066680" y="2362320"/>
              <a:ext cx="609480" cy="609480"/>
              <a:chOff x="1066680" y="2362320"/>
              <a:chExt cx="609480" cy="609480"/>
            </a:xfrm>
          </p:grpSpPr>
          <p:sp>
            <p:nvSpPr>
              <p:cNvPr id="1125" name=""/>
              <p:cNvSpPr/>
              <p:nvPr/>
            </p:nvSpPr>
            <p:spPr>
              <a:xfrm>
                <a:off x="1066680" y="23623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143000" y="2514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2209680" y="1600200"/>
              <a:ext cx="609480" cy="609480"/>
              <a:chOff x="2209680" y="1600200"/>
              <a:chExt cx="609480" cy="609480"/>
            </a:xfrm>
          </p:grpSpPr>
          <p:sp>
            <p:nvSpPr>
              <p:cNvPr id="1128" name=""/>
              <p:cNvSpPr/>
              <p:nvPr/>
            </p:nvSpPr>
            <p:spPr>
              <a:xfrm>
                <a:off x="2209680" y="16002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286000" y="17524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2209680" y="3200400"/>
              <a:ext cx="609480" cy="609480"/>
              <a:chOff x="2209680" y="3200400"/>
              <a:chExt cx="609480" cy="609480"/>
            </a:xfrm>
          </p:grpSpPr>
          <p:sp>
            <p:nvSpPr>
              <p:cNvPr id="1131" name=""/>
              <p:cNvSpPr/>
              <p:nvPr/>
            </p:nvSpPr>
            <p:spPr>
              <a:xfrm>
                <a:off x="220968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28600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3505320" y="1600200"/>
              <a:ext cx="609480" cy="609480"/>
              <a:chOff x="3505320" y="1600200"/>
              <a:chExt cx="609480" cy="609480"/>
            </a:xfrm>
          </p:grpSpPr>
          <p:sp>
            <p:nvSpPr>
              <p:cNvPr id="1134" name=""/>
              <p:cNvSpPr/>
              <p:nvPr/>
            </p:nvSpPr>
            <p:spPr>
              <a:xfrm>
                <a:off x="3505320" y="16002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581640" y="17524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3505320" y="3200400"/>
              <a:ext cx="609480" cy="609480"/>
              <a:chOff x="3505320" y="3200400"/>
              <a:chExt cx="609480" cy="609480"/>
            </a:xfrm>
          </p:grpSpPr>
          <p:sp>
            <p:nvSpPr>
              <p:cNvPr id="1137" name=""/>
              <p:cNvSpPr/>
              <p:nvPr/>
            </p:nvSpPr>
            <p:spPr>
              <a:xfrm>
                <a:off x="350532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58164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4876920" y="2362320"/>
              <a:ext cx="609480" cy="609480"/>
              <a:chOff x="4876920" y="2362320"/>
              <a:chExt cx="609480" cy="60948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76920" y="23623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953240" y="2514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42" name=""/>
            <p:cNvCxnSpPr>
              <a:stCxn id="1131" idx="6"/>
              <a:endCxn id="1134" idx="2"/>
            </p:cNvCxnSpPr>
            <p:nvPr/>
          </p:nvCxnSpPr>
          <p:spPr>
            <a:xfrm flipV="1">
              <a:off x="2828880" y="1904400"/>
              <a:ext cx="667440" cy="1600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3" name=""/>
            <p:cNvCxnSpPr>
              <a:stCxn id="1137" idx="6"/>
              <a:endCxn id="1140" idx="2"/>
            </p:cNvCxnSpPr>
            <p:nvPr/>
          </p:nvCxnSpPr>
          <p:spPr>
            <a:xfrm flipV="1">
              <a:off x="4124160" y="2666160"/>
              <a:ext cx="74376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4" name=""/>
            <p:cNvCxnSpPr>
              <a:stCxn id="1134" idx="6"/>
              <a:endCxn id="1140" idx="2"/>
            </p:cNvCxnSpPr>
            <p:nvPr/>
          </p:nvCxnSpPr>
          <p:spPr>
            <a:xfrm>
              <a:off x="4124160" y="1905120"/>
              <a:ext cx="743760" cy="76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5" name=""/>
            <p:cNvCxnSpPr>
              <a:stCxn id="1131" idx="6"/>
              <a:endCxn id="1137" idx="2"/>
            </p:cNvCxnSpPr>
            <p:nvPr/>
          </p:nvCxnSpPr>
          <p:spPr>
            <a:xfrm>
              <a:off x="2828880" y="3504960"/>
              <a:ext cx="667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6" name=""/>
            <p:cNvCxnSpPr>
              <a:stCxn id="1128" idx="6"/>
              <a:endCxn id="1134" idx="2"/>
            </p:cNvCxnSpPr>
            <p:nvPr/>
          </p:nvCxnSpPr>
          <p:spPr>
            <a:xfrm>
              <a:off x="2828880" y="1904760"/>
              <a:ext cx="667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7" name=""/>
            <p:cNvCxnSpPr>
              <a:stCxn id="1125" idx="6"/>
              <a:endCxn id="1131" idx="2"/>
            </p:cNvCxnSpPr>
            <p:nvPr/>
          </p:nvCxnSpPr>
          <p:spPr>
            <a:xfrm>
              <a:off x="1685520" y="2666520"/>
              <a:ext cx="51516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8" name=""/>
            <p:cNvCxnSpPr>
              <a:stCxn id="1125" idx="6"/>
              <a:endCxn id="1128" idx="2"/>
            </p:cNvCxnSpPr>
            <p:nvPr/>
          </p:nvCxnSpPr>
          <p:spPr>
            <a:xfrm flipV="1">
              <a:off x="1685520" y="1904760"/>
              <a:ext cx="515160" cy="76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9" name=""/>
            <p:cNvSpPr/>
            <p:nvPr/>
          </p:nvSpPr>
          <p:spPr>
            <a:xfrm>
              <a:off x="1600200" y="28954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600200" y="21337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895480" y="34290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124080" y="25146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3" name=""/>
            <p:cNvCxnSpPr>
              <a:stCxn id="1125" idx="6"/>
              <a:endCxn id="1134" idx="2"/>
            </p:cNvCxnSpPr>
            <p:nvPr/>
          </p:nvCxnSpPr>
          <p:spPr>
            <a:xfrm flipV="1">
              <a:off x="1685520" y="1904760"/>
              <a:ext cx="1810440" cy="76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4" name=""/>
            <p:cNvCxnSpPr>
              <a:stCxn id="1125" idx="6"/>
              <a:endCxn id="1137" idx="2"/>
            </p:cNvCxnSpPr>
            <p:nvPr/>
          </p:nvCxnSpPr>
          <p:spPr>
            <a:xfrm>
              <a:off x="1685520" y="2666520"/>
              <a:ext cx="181044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5" name=""/>
            <p:cNvSpPr/>
            <p:nvPr/>
          </p:nvSpPr>
          <p:spPr>
            <a:xfrm>
              <a:off x="2057400" y="23623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209680" y="2743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2590920" y="4191120"/>
            <a:ext cx="4419360" cy="2209680"/>
            <a:chOff x="2590920" y="4191120"/>
            <a:chExt cx="4419360" cy="2209680"/>
          </a:xfrm>
        </p:grpSpPr>
        <p:grpSp>
          <p:nvGrpSpPr>
            <p:cNvPr id="1158" name=""/>
            <p:cNvGrpSpPr/>
            <p:nvPr/>
          </p:nvGrpSpPr>
          <p:grpSpPr>
            <a:xfrm>
              <a:off x="2590920" y="4952880"/>
              <a:ext cx="609480" cy="609480"/>
              <a:chOff x="2590920" y="4952880"/>
              <a:chExt cx="609480" cy="609480"/>
            </a:xfrm>
          </p:grpSpPr>
          <p:sp>
            <p:nvSpPr>
              <p:cNvPr id="1159" name=""/>
              <p:cNvSpPr/>
              <p:nvPr/>
            </p:nvSpPr>
            <p:spPr>
              <a:xfrm>
                <a:off x="2590920" y="49528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667240" y="51051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3733920" y="4191120"/>
              <a:ext cx="609480" cy="609480"/>
              <a:chOff x="3733920" y="4191120"/>
              <a:chExt cx="609480" cy="609480"/>
            </a:xfrm>
          </p:grpSpPr>
          <p:sp>
            <p:nvSpPr>
              <p:cNvPr id="1162" name=""/>
              <p:cNvSpPr/>
              <p:nvPr/>
            </p:nvSpPr>
            <p:spPr>
              <a:xfrm>
                <a:off x="3733920" y="4191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810240" y="4343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3733920" y="5791320"/>
              <a:ext cx="609480" cy="609480"/>
              <a:chOff x="3733920" y="5791320"/>
              <a:chExt cx="609480" cy="609480"/>
            </a:xfrm>
          </p:grpSpPr>
          <p:sp>
            <p:nvSpPr>
              <p:cNvPr id="1165" name=""/>
              <p:cNvSpPr/>
              <p:nvPr/>
            </p:nvSpPr>
            <p:spPr>
              <a:xfrm>
                <a:off x="3733920" y="57913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810240" y="5943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5029200" y="4952880"/>
              <a:ext cx="609480" cy="609480"/>
              <a:chOff x="5029200" y="4952880"/>
              <a:chExt cx="609480" cy="609480"/>
            </a:xfrm>
          </p:grpSpPr>
          <p:sp>
            <p:nvSpPr>
              <p:cNvPr id="1168" name=""/>
              <p:cNvSpPr/>
              <p:nvPr/>
            </p:nvSpPr>
            <p:spPr>
              <a:xfrm>
                <a:off x="5029200" y="49528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105520" y="51051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6400800" y="4952880"/>
              <a:ext cx="609480" cy="609480"/>
              <a:chOff x="6400800" y="4952880"/>
              <a:chExt cx="609480" cy="609480"/>
            </a:xfrm>
          </p:grpSpPr>
          <p:sp>
            <p:nvSpPr>
              <p:cNvPr id="1171" name=""/>
              <p:cNvSpPr/>
              <p:nvPr/>
            </p:nvSpPr>
            <p:spPr>
              <a:xfrm>
                <a:off x="6400800" y="49528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477120" y="51051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73" name=""/>
            <p:cNvCxnSpPr>
              <a:stCxn id="1165" idx="6"/>
              <a:endCxn id="1168" idx="2"/>
            </p:cNvCxnSpPr>
            <p:nvPr/>
          </p:nvCxnSpPr>
          <p:spPr>
            <a:xfrm flipV="1">
              <a:off x="4352400" y="5257440"/>
              <a:ext cx="66780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4" name=""/>
            <p:cNvCxnSpPr>
              <a:stCxn id="1168" idx="6"/>
              <a:endCxn id="1171" idx="2"/>
            </p:cNvCxnSpPr>
            <p:nvPr/>
          </p:nvCxnSpPr>
          <p:spPr>
            <a:xfrm>
              <a:off x="5648400" y="5257440"/>
              <a:ext cx="7437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5" name=""/>
            <p:cNvCxnSpPr>
              <a:stCxn id="1162" idx="6"/>
              <a:endCxn id="1168" idx="2"/>
            </p:cNvCxnSpPr>
            <p:nvPr/>
          </p:nvCxnSpPr>
          <p:spPr>
            <a:xfrm>
              <a:off x="4352400" y="4495320"/>
              <a:ext cx="667800" cy="762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6" name=""/>
            <p:cNvCxnSpPr>
              <a:stCxn id="1159" idx="6"/>
              <a:endCxn id="1165" idx="2"/>
            </p:cNvCxnSpPr>
            <p:nvPr/>
          </p:nvCxnSpPr>
          <p:spPr>
            <a:xfrm>
              <a:off x="3209400" y="5257800"/>
              <a:ext cx="51516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7" name=""/>
            <p:cNvCxnSpPr>
              <a:stCxn id="1159" idx="6"/>
              <a:endCxn id="1162" idx="2"/>
            </p:cNvCxnSpPr>
            <p:nvPr/>
          </p:nvCxnSpPr>
          <p:spPr>
            <a:xfrm flipV="1">
              <a:off x="3209400" y="4494960"/>
              <a:ext cx="515160" cy="762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8" name=""/>
            <p:cNvSpPr/>
            <p:nvPr/>
          </p:nvSpPr>
          <p:spPr>
            <a:xfrm>
              <a:off x="3124080" y="5486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124080" y="4724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0" name=""/>
            <p:cNvCxnSpPr>
              <a:stCxn id="1159" idx="6"/>
              <a:endCxn id="1168" idx="2"/>
            </p:cNvCxnSpPr>
            <p:nvPr/>
          </p:nvCxnSpPr>
          <p:spPr>
            <a:xfrm>
              <a:off x="3209760" y="5257440"/>
              <a:ext cx="18108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1" name=""/>
            <p:cNvSpPr/>
            <p:nvPr/>
          </p:nvSpPr>
          <p:spPr>
            <a:xfrm>
              <a:off x="3581280" y="49528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"/>
          <p:cNvGrpSpPr/>
          <p:nvPr/>
        </p:nvGrpSpPr>
        <p:grpSpPr>
          <a:xfrm>
            <a:off x="447840" y="1295280"/>
            <a:ext cx="609480" cy="609480"/>
            <a:chOff x="447840" y="1295280"/>
            <a:chExt cx="609480" cy="609480"/>
          </a:xfrm>
        </p:grpSpPr>
        <p:sp>
          <p:nvSpPr>
            <p:cNvPr id="1183" name=""/>
            <p:cNvSpPr/>
            <p:nvPr/>
          </p:nvSpPr>
          <p:spPr>
            <a:xfrm>
              <a:off x="447840" y="1295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4160" y="1447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1514520" y="838080"/>
            <a:ext cx="609480" cy="609480"/>
            <a:chOff x="1514520" y="838080"/>
            <a:chExt cx="609480" cy="609480"/>
          </a:xfrm>
        </p:grpSpPr>
        <p:sp>
          <p:nvSpPr>
            <p:cNvPr id="1186" name=""/>
            <p:cNvSpPr/>
            <p:nvPr/>
          </p:nvSpPr>
          <p:spPr>
            <a:xfrm>
              <a:off x="151452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90840" y="990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1590840" y="1905120"/>
            <a:ext cx="609480" cy="609480"/>
            <a:chOff x="1590840" y="1905120"/>
            <a:chExt cx="609480" cy="609480"/>
          </a:xfrm>
        </p:grpSpPr>
        <p:sp>
          <p:nvSpPr>
            <p:cNvPr id="1189" name=""/>
            <p:cNvSpPr/>
            <p:nvPr/>
          </p:nvSpPr>
          <p:spPr>
            <a:xfrm>
              <a:off x="159084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67160" y="20574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2733840" y="1905120"/>
            <a:ext cx="609480" cy="609480"/>
            <a:chOff x="2733840" y="1905120"/>
            <a:chExt cx="609480" cy="609480"/>
          </a:xfrm>
        </p:grpSpPr>
        <p:sp>
          <p:nvSpPr>
            <p:cNvPr id="1192" name=""/>
            <p:cNvSpPr/>
            <p:nvPr/>
          </p:nvSpPr>
          <p:spPr>
            <a:xfrm>
              <a:off x="273384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10160" y="20574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4105440" y="1295280"/>
            <a:ext cx="609480" cy="609480"/>
            <a:chOff x="4105440" y="1295280"/>
            <a:chExt cx="609480" cy="609480"/>
          </a:xfrm>
        </p:grpSpPr>
        <p:sp>
          <p:nvSpPr>
            <p:cNvPr id="1195" name=""/>
            <p:cNvSpPr/>
            <p:nvPr/>
          </p:nvSpPr>
          <p:spPr>
            <a:xfrm>
              <a:off x="4105440" y="1295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81760" y="1447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97" name=""/>
          <p:cNvCxnSpPr>
            <a:stCxn id="1189" idx="6"/>
            <a:endCxn id="1192" idx="2"/>
          </p:cNvCxnSpPr>
          <p:nvPr/>
        </p:nvCxnSpPr>
        <p:spPr>
          <a:xfrm>
            <a:off x="2209320" y="22093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8" name=""/>
          <p:cNvCxnSpPr>
            <a:stCxn id="1192" idx="6"/>
            <a:endCxn id="1195" idx="2"/>
          </p:cNvCxnSpPr>
          <p:nvPr/>
        </p:nvCxnSpPr>
        <p:spPr>
          <a:xfrm flipV="1">
            <a:off x="3352680" y="1599480"/>
            <a:ext cx="74376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9" name=""/>
          <p:cNvCxnSpPr>
            <a:stCxn id="1186" idx="6"/>
            <a:endCxn id="1200" idx="2"/>
          </p:cNvCxnSpPr>
          <p:nvPr/>
        </p:nvCxnSpPr>
        <p:spPr>
          <a:xfrm>
            <a:off x="2133720" y="1142640"/>
            <a:ext cx="591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1" name=""/>
          <p:cNvCxnSpPr>
            <a:stCxn id="1183" idx="6"/>
            <a:endCxn id="1189" idx="2"/>
          </p:cNvCxnSpPr>
          <p:nvPr/>
        </p:nvCxnSpPr>
        <p:spPr>
          <a:xfrm>
            <a:off x="1066320" y="1599840"/>
            <a:ext cx="51516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2" name=""/>
          <p:cNvCxnSpPr>
            <a:stCxn id="1183" idx="6"/>
            <a:endCxn id="1186" idx="2"/>
          </p:cNvCxnSpPr>
          <p:nvPr/>
        </p:nvCxnSpPr>
        <p:spPr>
          <a:xfrm flipV="1">
            <a:off x="1066320" y="1142640"/>
            <a:ext cx="4388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03" name=""/>
          <p:cNvGrpSpPr/>
          <p:nvPr/>
        </p:nvGrpSpPr>
        <p:grpSpPr>
          <a:xfrm>
            <a:off x="2733840" y="838080"/>
            <a:ext cx="609480" cy="609480"/>
            <a:chOff x="2733840" y="838080"/>
            <a:chExt cx="609480" cy="609480"/>
          </a:xfrm>
        </p:grpSpPr>
        <p:sp>
          <p:nvSpPr>
            <p:cNvPr id="1200" name=""/>
            <p:cNvSpPr/>
            <p:nvPr/>
          </p:nvSpPr>
          <p:spPr>
            <a:xfrm>
              <a:off x="273384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810160" y="990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05" name=""/>
          <p:cNvCxnSpPr>
            <a:stCxn id="1200" idx="6"/>
            <a:endCxn id="1195" idx="2"/>
          </p:cNvCxnSpPr>
          <p:nvPr/>
        </p:nvCxnSpPr>
        <p:spPr>
          <a:xfrm>
            <a:off x="3352680" y="1143000"/>
            <a:ext cx="743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06" name=""/>
          <p:cNvGrpSpPr/>
          <p:nvPr/>
        </p:nvGrpSpPr>
        <p:grpSpPr>
          <a:xfrm>
            <a:off x="1819440" y="4114800"/>
            <a:ext cx="609480" cy="609480"/>
            <a:chOff x="1819440" y="4114800"/>
            <a:chExt cx="609480" cy="609480"/>
          </a:xfrm>
        </p:grpSpPr>
        <p:sp>
          <p:nvSpPr>
            <p:cNvPr id="1207" name=""/>
            <p:cNvSpPr/>
            <p:nvPr/>
          </p:nvSpPr>
          <p:spPr>
            <a:xfrm>
              <a:off x="1819440" y="41148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895760" y="42670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2886120" y="3657600"/>
            <a:ext cx="609480" cy="609480"/>
            <a:chOff x="2886120" y="3657600"/>
            <a:chExt cx="609480" cy="609480"/>
          </a:xfrm>
        </p:grpSpPr>
        <p:sp>
          <p:nvSpPr>
            <p:cNvPr id="1210" name=""/>
            <p:cNvSpPr/>
            <p:nvPr/>
          </p:nvSpPr>
          <p:spPr>
            <a:xfrm>
              <a:off x="2886120" y="36576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62440" y="38098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2962440" y="4724280"/>
            <a:ext cx="609480" cy="609480"/>
            <a:chOff x="2962440" y="4724280"/>
            <a:chExt cx="609480" cy="609480"/>
          </a:xfrm>
        </p:grpSpPr>
        <p:sp>
          <p:nvSpPr>
            <p:cNvPr id="1213" name=""/>
            <p:cNvSpPr/>
            <p:nvPr/>
          </p:nvSpPr>
          <p:spPr>
            <a:xfrm>
              <a:off x="2962440" y="4724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038760" y="4876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4114800" y="4191120"/>
            <a:ext cx="685440" cy="609480"/>
            <a:chOff x="4114800" y="4191120"/>
            <a:chExt cx="685440" cy="609480"/>
          </a:xfrm>
        </p:grpSpPr>
        <p:sp>
          <p:nvSpPr>
            <p:cNvPr id="1216" name=""/>
            <p:cNvSpPr/>
            <p:nvPr/>
          </p:nvSpPr>
          <p:spPr>
            <a:xfrm>
              <a:off x="4114800" y="4191120"/>
              <a:ext cx="68544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00480" y="434340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334120" y="4191120"/>
            <a:ext cx="609480" cy="609480"/>
            <a:chOff x="5334120" y="4191120"/>
            <a:chExt cx="609480" cy="609480"/>
          </a:xfrm>
        </p:grpSpPr>
        <p:sp>
          <p:nvSpPr>
            <p:cNvPr id="1219" name=""/>
            <p:cNvSpPr/>
            <p:nvPr/>
          </p:nvSpPr>
          <p:spPr>
            <a:xfrm>
              <a:off x="5334120" y="4191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410440" y="43434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21" name=""/>
          <p:cNvCxnSpPr>
            <a:stCxn id="1213" idx="6"/>
            <a:endCxn id="1216" idx="2"/>
          </p:cNvCxnSpPr>
          <p:nvPr/>
        </p:nvCxnSpPr>
        <p:spPr>
          <a:xfrm flipV="1">
            <a:off x="3581280" y="4495320"/>
            <a:ext cx="524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2" name=""/>
          <p:cNvCxnSpPr>
            <a:stCxn id="1216" idx="6"/>
            <a:endCxn id="1219" idx="2"/>
          </p:cNvCxnSpPr>
          <p:nvPr/>
        </p:nvCxnSpPr>
        <p:spPr>
          <a:xfrm>
            <a:off x="4809600" y="44953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3" name=""/>
          <p:cNvCxnSpPr>
            <a:stCxn id="1210" idx="6"/>
            <a:endCxn id="1216" idx="2"/>
          </p:cNvCxnSpPr>
          <p:nvPr/>
        </p:nvCxnSpPr>
        <p:spPr>
          <a:xfrm>
            <a:off x="3504960" y="3962160"/>
            <a:ext cx="60084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4" name=""/>
          <p:cNvCxnSpPr>
            <a:stCxn id="1207" idx="6"/>
            <a:endCxn id="1213" idx="2"/>
          </p:cNvCxnSpPr>
          <p:nvPr/>
        </p:nvCxnSpPr>
        <p:spPr>
          <a:xfrm>
            <a:off x="2437920" y="4419360"/>
            <a:ext cx="51516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5" name=""/>
          <p:cNvCxnSpPr>
            <a:stCxn id="1207" idx="6"/>
            <a:endCxn id="1210" idx="2"/>
          </p:cNvCxnSpPr>
          <p:nvPr/>
        </p:nvCxnSpPr>
        <p:spPr>
          <a:xfrm flipV="1">
            <a:off x="2437920" y="3962160"/>
            <a:ext cx="4388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"/>
          <p:cNvGrpSpPr/>
          <p:nvPr/>
        </p:nvGrpSpPr>
        <p:grpSpPr>
          <a:xfrm>
            <a:off x="447840" y="1295280"/>
            <a:ext cx="609480" cy="609480"/>
            <a:chOff x="447840" y="1295280"/>
            <a:chExt cx="609480" cy="609480"/>
          </a:xfrm>
        </p:grpSpPr>
        <p:sp>
          <p:nvSpPr>
            <p:cNvPr id="1227" name=""/>
            <p:cNvSpPr/>
            <p:nvPr/>
          </p:nvSpPr>
          <p:spPr>
            <a:xfrm>
              <a:off x="447840" y="1295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4160" y="1447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1514520" y="838080"/>
            <a:ext cx="609480" cy="609480"/>
            <a:chOff x="1514520" y="838080"/>
            <a:chExt cx="609480" cy="609480"/>
          </a:xfrm>
        </p:grpSpPr>
        <p:sp>
          <p:nvSpPr>
            <p:cNvPr id="1230" name=""/>
            <p:cNvSpPr/>
            <p:nvPr/>
          </p:nvSpPr>
          <p:spPr>
            <a:xfrm>
              <a:off x="151452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590840" y="990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590840" y="1905120"/>
            <a:ext cx="609480" cy="609480"/>
            <a:chOff x="1590840" y="1905120"/>
            <a:chExt cx="609480" cy="609480"/>
          </a:xfrm>
        </p:grpSpPr>
        <p:sp>
          <p:nvSpPr>
            <p:cNvPr id="1233" name=""/>
            <p:cNvSpPr/>
            <p:nvPr/>
          </p:nvSpPr>
          <p:spPr>
            <a:xfrm>
              <a:off x="159084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667160" y="20574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4105440" y="1295280"/>
            <a:ext cx="609480" cy="609480"/>
            <a:chOff x="4105440" y="1295280"/>
            <a:chExt cx="609480" cy="609480"/>
          </a:xfrm>
        </p:grpSpPr>
        <p:sp>
          <p:nvSpPr>
            <p:cNvPr id="1236" name=""/>
            <p:cNvSpPr/>
            <p:nvPr/>
          </p:nvSpPr>
          <p:spPr>
            <a:xfrm>
              <a:off x="4105440" y="1295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181760" y="1447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38" name=""/>
          <p:cNvCxnSpPr>
            <a:stCxn id="1233" idx="6"/>
            <a:endCxn id="1236" idx="3"/>
          </p:cNvCxnSpPr>
          <p:nvPr/>
        </p:nvCxnSpPr>
        <p:spPr>
          <a:xfrm flipV="1">
            <a:off x="2209680" y="1824840"/>
            <a:ext cx="1985040" cy="3848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9" name=""/>
          <p:cNvCxnSpPr>
            <a:stCxn id="1230" idx="6"/>
            <a:endCxn id="1240" idx="2"/>
          </p:cNvCxnSpPr>
          <p:nvPr/>
        </p:nvCxnSpPr>
        <p:spPr>
          <a:xfrm>
            <a:off x="2133360" y="1143000"/>
            <a:ext cx="5241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"/>
          <p:cNvCxnSpPr>
            <a:stCxn id="1227" idx="6"/>
            <a:endCxn id="1233" idx="2"/>
          </p:cNvCxnSpPr>
          <p:nvPr/>
        </p:nvCxnSpPr>
        <p:spPr>
          <a:xfrm>
            <a:off x="1066320" y="1599840"/>
            <a:ext cx="51516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"/>
          <p:cNvCxnSpPr>
            <a:stCxn id="1227" idx="6"/>
            <a:endCxn id="1230" idx="2"/>
          </p:cNvCxnSpPr>
          <p:nvPr/>
        </p:nvCxnSpPr>
        <p:spPr>
          <a:xfrm flipV="1">
            <a:off x="1066320" y="1142640"/>
            <a:ext cx="4388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43" name=""/>
          <p:cNvGrpSpPr/>
          <p:nvPr/>
        </p:nvGrpSpPr>
        <p:grpSpPr>
          <a:xfrm>
            <a:off x="2666880" y="1295280"/>
            <a:ext cx="609480" cy="609480"/>
            <a:chOff x="2666880" y="1295280"/>
            <a:chExt cx="609480" cy="609480"/>
          </a:xfrm>
        </p:grpSpPr>
        <p:sp>
          <p:nvSpPr>
            <p:cNvPr id="1240" name=""/>
            <p:cNvSpPr/>
            <p:nvPr/>
          </p:nvSpPr>
          <p:spPr>
            <a:xfrm>
              <a:off x="2666880" y="1295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43200" y="1447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45" name=""/>
          <p:cNvCxnSpPr>
            <a:stCxn id="1240" idx="6"/>
            <a:endCxn id="1236" idx="2"/>
          </p:cNvCxnSpPr>
          <p:nvPr/>
        </p:nvCxnSpPr>
        <p:spPr>
          <a:xfrm>
            <a:off x="3285720" y="1599840"/>
            <a:ext cx="810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46" name=""/>
          <p:cNvGrpSpPr/>
          <p:nvPr/>
        </p:nvGrpSpPr>
        <p:grpSpPr>
          <a:xfrm>
            <a:off x="523800" y="3276720"/>
            <a:ext cx="609480" cy="609480"/>
            <a:chOff x="523800" y="3276720"/>
            <a:chExt cx="609480" cy="609480"/>
          </a:xfrm>
        </p:grpSpPr>
        <p:sp>
          <p:nvSpPr>
            <p:cNvPr id="1247" name=""/>
            <p:cNvSpPr/>
            <p:nvPr/>
          </p:nvSpPr>
          <p:spPr>
            <a:xfrm>
              <a:off x="523800" y="3276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00120" y="3429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1590840" y="2819520"/>
            <a:ext cx="609480" cy="609480"/>
            <a:chOff x="1590840" y="2819520"/>
            <a:chExt cx="609480" cy="609480"/>
          </a:xfrm>
        </p:grpSpPr>
        <p:sp>
          <p:nvSpPr>
            <p:cNvPr id="1250" name=""/>
            <p:cNvSpPr/>
            <p:nvPr/>
          </p:nvSpPr>
          <p:spPr>
            <a:xfrm>
              <a:off x="1590840" y="28195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667160" y="29718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1666800" y="3886200"/>
            <a:ext cx="609480" cy="609480"/>
            <a:chOff x="1666800" y="3886200"/>
            <a:chExt cx="609480" cy="609480"/>
          </a:xfrm>
        </p:grpSpPr>
        <p:sp>
          <p:nvSpPr>
            <p:cNvPr id="1253" name=""/>
            <p:cNvSpPr/>
            <p:nvPr/>
          </p:nvSpPr>
          <p:spPr>
            <a:xfrm>
              <a:off x="1666800" y="38862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43120" y="40384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4181400" y="3276720"/>
            <a:ext cx="609480" cy="609480"/>
            <a:chOff x="4181400" y="3276720"/>
            <a:chExt cx="609480" cy="609480"/>
          </a:xfrm>
        </p:grpSpPr>
        <p:sp>
          <p:nvSpPr>
            <p:cNvPr id="1256" name=""/>
            <p:cNvSpPr/>
            <p:nvPr/>
          </p:nvSpPr>
          <p:spPr>
            <a:xfrm>
              <a:off x="4181400" y="3276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257720" y="3429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58" name=""/>
          <p:cNvCxnSpPr>
            <a:stCxn id="1253" idx="6"/>
            <a:endCxn id="1259" idx="2"/>
          </p:cNvCxnSpPr>
          <p:nvPr/>
        </p:nvCxnSpPr>
        <p:spPr>
          <a:xfrm flipV="1">
            <a:off x="2286000" y="3580920"/>
            <a:ext cx="448560" cy="610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0" name=""/>
          <p:cNvCxnSpPr>
            <a:stCxn id="1250" idx="6"/>
            <a:endCxn id="1256" idx="1"/>
          </p:cNvCxnSpPr>
          <p:nvPr/>
        </p:nvCxnSpPr>
        <p:spPr>
          <a:xfrm>
            <a:off x="2209680" y="3124080"/>
            <a:ext cx="2061360" cy="232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1" name=""/>
          <p:cNvCxnSpPr>
            <a:stCxn id="1247" idx="6"/>
            <a:endCxn id="1253" idx="2"/>
          </p:cNvCxnSpPr>
          <p:nvPr/>
        </p:nvCxnSpPr>
        <p:spPr>
          <a:xfrm>
            <a:off x="1142640" y="3581280"/>
            <a:ext cx="515160" cy="610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2" name=""/>
          <p:cNvCxnSpPr>
            <a:stCxn id="1247" idx="6"/>
            <a:endCxn id="1250" idx="2"/>
          </p:cNvCxnSpPr>
          <p:nvPr/>
        </p:nvCxnSpPr>
        <p:spPr>
          <a:xfrm flipV="1">
            <a:off x="1142640" y="3123720"/>
            <a:ext cx="4388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63" name=""/>
          <p:cNvGrpSpPr/>
          <p:nvPr/>
        </p:nvGrpSpPr>
        <p:grpSpPr>
          <a:xfrm>
            <a:off x="2743200" y="3276720"/>
            <a:ext cx="609480" cy="609480"/>
            <a:chOff x="2743200" y="3276720"/>
            <a:chExt cx="609480" cy="609480"/>
          </a:xfrm>
        </p:grpSpPr>
        <p:sp>
          <p:nvSpPr>
            <p:cNvPr id="1259" name=""/>
            <p:cNvSpPr/>
            <p:nvPr/>
          </p:nvSpPr>
          <p:spPr>
            <a:xfrm>
              <a:off x="2743200" y="3276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819520" y="3429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65" name=""/>
          <p:cNvCxnSpPr>
            <a:stCxn id="1259" idx="6"/>
            <a:endCxn id="1256" idx="2"/>
          </p:cNvCxnSpPr>
          <p:nvPr/>
        </p:nvCxnSpPr>
        <p:spPr>
          <a:xfrm>
            <a:off x="3362040" y="3580920"/>
            <a:ext cx="810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6" name=""/>
          <p:cNvGrpSpPr/>
          <p:nvPr/>
        </p:nvGrpSpPr>
        <p:grpSpPr>
          <a:xfrm>
            <a:off x="685800" y="2057400"/>
            <a:ext cx="1447200" cy="831600"/>
            <a:chOff x="685800" y="2057400"/>
            <a:chExt cx="1447200" cy="831600"/>
          </a:xfrm>
        </p:grpSpPr>
        <p:sp>
          <p:nvSpPr>
            <p:cNvPr id="1267" name=""/>
            <p:cNvSpPr/>
            <p:nvPr/>
          </p:nvSpPr>
          <p:spPr>
            <a:xfrm>
              <a:off x="685800" y="2057400"/>
              <a:ext cx="1447200" cy="831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66880" y="2265120"/>
              <a:ext cx="9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2819520" y="2133720"/>
            <a:ext cx="1599480" cy="693360"/>
            <a:chOff x="2819520" y="2133720"/>
            <a:chExt cx="1599480" cy="693360"/>
          </a:xfrm>
        </p:grpSpPr>
        <p:sp>
          <p:nvSpPr>
            <p:cNvPr id="1270" name=""/>
            <p:cNvSpPr/>
            <p:nvPr/>
          </p:nvSpPr>
          <p:spPr>
            <a:xfrm>
              <a:off x="2819520" y="2133720"/>
              <a:ext cx="1599480" cy="69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019680" y="2306880"/>
              <a:ext cx="99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non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72" name=""/>
          <p:cNvCxnSpPr>
            <a:stCxn id="1270" idx="6"/>
            <a:endCxn id="1273" idx="2"/>
          </p:cNvCxnSpPr>
          <p:nvPr/>
        </p:nvCxnSpPr>
        <p:spPr>
          <a:xfrm flipV="1">
            <a:off x="4428720" y="2472840"/>
            <a:ext cx="97236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4" name=""/>
          <p:cNvCxnSpPr>
            <a:stCxn id="1267" idx="6"/>
            <a:endCxn id="1270" idx="2"/>
          </p:cNvCxnSpPr>
          <p:nvPr/>
        </p:nvCxnSpPr>
        <p:spPr>
          <a:xfrm>
            <a:off x="2143080" y="2473200"/>
            <a:ext cx="66744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75" name=""/>
          <p:cNvGrpSpPr/>
          <p:nvPr/>
        </p:nvGrpSpPr>
        <p:grpSpPr>
          <a:xfrm>
            <a:off x="5410080" y="2057400"/>
            <a:ext cx="1447200" cy="831600"/>
            <a:chOff x="5410080" y="2057400"/>
            <a:chExt cx="1447200" cy="831600"/>
          </a:xfrm>
        </p:grpSpPr>
        <p:sp>
          <p:nvSpPr>
            <p:cNvPr id="1273" name=""/>
            <p:cNvSpPr/>
            <p:nvPr/>
          </p:nvSpPr>
          <p:spPr>
            <a:xfrm>
              <a:off x="5410080" y="2057400"/>
              <a:ext cx="1447200" cy="831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591160" y="2265120"/>
              <a:ext cx="9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77" name=""/>
          <p:cNvCxnSpPr>
            <a:stCxn id="1270" idx="1"/>
            <a:endCxn id="1270" idx="7"/>
          </p:cNvCxnSpPr>
          <p:nvPr/>
        </p:nvCxnSpPr>
        <p:spPr>
          <a:xfrm flipH="1" rot="16200000">
            <a:off x="3618360" y="1659960"/>
            <a:ext cx="2520" cy="1131120"/>
          </a:xfrm>
          <a:prstGeom prst="curvedConnector5">
            <a:avLst>
              <a:gd name="adj1" fmla="val -38800000"/>
              <a:gd name="adj2" fmla="val 49984"/>
              <a:gd name="adj3" fmla="val -38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8" name=""/>
          <p:cNvSpPr/>
          <p:nvPr/>
        </p:nvSpPr>
        <p:spPr>
          <a:xfrm>
            <a:off x="3352680" y="16002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95680" y="21337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762120" y="3809880"/>
            <a:ext cx="1446840" cy="831600"/>
            <a:chOff x="762120" y="3809880"/>
            <a:chExt cx="1446840" cy="831600"/>
          </a:xfrm>
        </p:grpSpPr>
        <p:sp>
          <p:nvSpPr>
            <p:cNvPr id="1281" name=""/>
            <p:cNvSpPr/>
            <p:nvPr/>
          </p:nvSpPr>
          <p:spPr>
            <a:xfrm>
              <a:off x="762120" y="3809880"/>
              <a:ext cx="1446840" cy="831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43200" y="4017600"/>
              <a:ext cx="90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2895480" y="3886200"/>
            <a:ext cx="1599480" cy="693360"/>
            <a:chOff x="2895480" y="3886200"/>
            <a:chExt cx="1599480" cy="693360"/>
          </a:xfrm>
        </p:grpSpPr>
        <p:sp>
          <p:nvSpPr>
            <p:cNvPr id="1284" name=""/>
            <p:cNvSpPr/>
            <p:nvPr/>
          </p:nvSpPr>
          <p:spPr>
            <a:xfrm>
              <a:off x="2895480" y="3886200"/>
              <a:ext cx="1599480" cy="69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095640" y="4059360"/>
              <a:ext cx="99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non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86" name=""/>
          <p:cNvCxnSpPr>
            <a:stCxn id="1284" idx="6"/>
            <a:endCxn id="1287" idx="2"/>
          </p:cNvCxnSpPr>
          <p:nvPr/>
        </p:nvCxnSpPr>
        <p:spPr>
          <a:xfrm flipV="1">
            <a:off x="4505040" y="4225680"/>
            <a:ext cx="97236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8" name=""/>
          <p:cNvCxnSpPr>
            <a:stCxn id="1281" idx="6"/>
            <a:endCxn id="1284" idx="2"/>
          </p:cNvCxnSpPr>
          <p:nvPr/>
        </p:nvCxnSpPr>
        <p:spPr>
          <a:xfrm>
            <a:off x="2219400" y="4226040"/>
            <a:ext cx="66744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89" name=""/>
          <p:cNvGrpSpPr/>
          <p:nvPr/>
        </p:nvGrpSpPr>
        <p:grpSpPr>
          <a:xfrm>
            <a:off x="5486400" y="3809880"/>
            <a:ext cx="1447200" cy="831600"/>
            <a:chOff x="5486400" y="3809880"/>
            <a:chExt cx="1447200" cy="831600"/>
          </a:xfrm>
        </p:grpSpPr>
        <p:sp>
          <p:nvSpPr>
            <p:cNvPr id="1287" name=""/>
            <p:cNvSpPr/>
            <p:nvPr/>
          </p:nvSpPr>
          <p:spPr>
            <a:xfrm>
              <a:off x="5486400" y="3809880"/>
              <a:ext cx="1447200" cy="831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667480" y="4017600"/>
              <a:ext cx="9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4572000" y="3886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133720" y="21337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209680" y="38862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457200" y="-119520"/>
            <a:ext cx="5562720" cy="2255400"/>
            <a:chOff x="457200" y="-119520"/>
            <a:chExt cx="5562720" cy="2255400"/>
          </a:xfrm>
        </p:grpSpPr>
        <p:sp>
          <p:nvSpPr>
            <p:cNvPr id="231" name=""/>
            <p:cNvSpPr/>
            <p:nvPr/>
          </p:nvSpPr>
          <p:spPr>
            <a:xfrm>
              <a:off x="2438280" y="10666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57200" y="533520"/>
              <a:ext cx="1752480" cy="1450080"/>
              <a:chOff x="457200" y="533520"/>
              <a:chExt cx="1752480" cy="14500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533160" y="533520"/>
                <a:ext cx="1599480" cy="916560"/>
                <a:chOff x="533160" y="533520"/>
                <a:chExt cx="1599480" cy="9165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33160" y="53352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066320" y="533520"/>
                  <a:ext cx="53280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599480" y="53352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33160" y="83808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066320" y="838080"/>
                  <a:ext cx="53280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599480" y="83808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33160" y="114300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066320" y="1143000"/>
                  <a:ext cx="53280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599480" y="114300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457200" y="1676520"/>
                <a:ext cx="1752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Matrice de tran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276720" y="-119520"/>
              <a:ext cx="2743200" cy="2255400"/>
              <a:chOff x="3276720" y="-119520"/>
              <a:chExt cx="2743200" cy="225540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3276720" y="-119520"/>
                <a:ext cx="2743200" cy="1874160"/>
                <a:chOff x="3276720" y="-119520"/>
                <a:chExt cx="2743200" cy="187416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3276720" y="-119520"/>
                  <a:ext cx="2743200" cy="1719360"/>
                  <a:chOff x="3276720" y="-119520"/>
                  <a:chExt cx="2743200" cy="1719360"/>
                </a:xfrm>
              </p:grpSpPr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3276720" y="838080"/>
                    <a:ext cx="990720" cy="761760"/>
                    <a:chOff x="3276720" y="838080"/>
                    <a:chExt cx="990720" cy="76176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3276720" y="838080"/>
                      <a:ext cx="990720" cy="76176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3581640" y="1066680"/>
                      <a:ext cx="4572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5029200" y="838080"/>
                    <a:ext cx="990720" cy="761760"/>
                    <a:chOff x="5029200" y="838080"/>
                    <a:chExt cx="990720" cy="76176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5029200" y="838080"/>
                      <a:ext cx="990720" cy="76176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334120" y="1066680"/>
                      <a:ext cx="4572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4191120" y="1447560"/>
                    <a:ext cx="914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>
                    <a:off x="4267440" y="1066680"/>
                    <a:ext cx="7617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55" name=""/>
                  <p:cNvCxnSpPr>
                    <a:stCxn id="248" idx="1"/>
                    <a:endCxn id="248" idx="7"/>
                  </p:cNvCxnSpPr>
                  <p:nvPr/>
                </p:nvCxnSpPr>
                <p:spPr>
                  <a:xfrm flipH="1" rot="16200000">
                    <a:off x="3770640" y="597960"/>
                    <a:ext cx="2520" cy="702360"/>
                  </a:xfrm>
                  <a:prstGeom prst="curvedConnector5">
                    <a:avLst>
                      <a:gd name="adj1" fmla="val -47800000"/>
                      <a:gd name="adj2" fmla="val 50000"/>
                      <a:gd name="adj3" fmla="val -47800000"/>
                    </a:avLst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56" name=""/>
                  <p:cNvCxnSpPr/>
                  <p:nvPr/>
                </p:nvCxnSpPr>
                <p:spPr>
                  <a:xfrm flipH="1" rot="16200000">
                    <a:off x="5531400" y="563040"/>
                    <a:ext cx="2520" cy="702360"/>
                  </a:xfrm>
                  <a:prstGeom prst="curvedConnector5">
                    <a:avLst>
                      <a:gd name="adj1" fmla="val -47800000"/>
                      <a:gd name="adj2" fmla="val 50000"/>
                      <a:gd name="adj3" fmla="val -47800000"/>
                    </a:avLst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57" name=""/>
                <p:cNvSpPr/>
                <p:nvPr/>
              </p:nvSpPr>
              <p:spPr>
                <a:xfrm>
                  <a:off x="3581640" y="30456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343760" y="144756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496040" y="76176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334120" y="22860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3733920" y="1828800"/>
                <a:ext cx="1752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Graphe de tran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838080" y="2362320"/>
            <a:ext cx="6629400" cy="3583440"/>
            <a:chOff x="838080" y="2362320"/>
            <a:chExt cx="6629400" cy="3583440"/>
          </a:xfrm>
        </p:grpSpPr>
        <p:grpSp>
          <p:nvGrpSpPr>
            <p:cNvPr id="263" name=""/>
            <p:cNvGrpSpPr/>
            <p:nvPr/>
          </p:nvGrpSpPr>
          <p:grpSpPr>
            <a:xfrm>
              <a:off x="4724280" y="2362320"/>
              <a:ext cx="2743200" cy="3583440"/>
              <a:chOff x="4724280" y="2362320"/>
              <a:chExt cx="2743200" cy="3583440"/>
            </a:xfrm>
          </p:grpSpPr>
          <p:sp>
            <p:nvSpPr>
              <p:cNvPr id="264" name=""/>
              <p:cNvSpPr/>
              <p:nvPr/>
            </p:nvSpPr>
            <p:spPr>
              <a:xfrm>
                <a:off x="4724280" y="3657600"/>
                <a:ext cx="990720" cy="762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029200" y="388620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77120" y="3657600"/>
                <a:ext cx="990360" cy="762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81680" y="388620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8" name=""/>
              <p:cNvCxnSpPr>
                <a:stCxn id="264" idx="1"/>
                <a:endCxn id="264" idx="7"/>
              </p:cNvCxnSpPr>
              <p:nvPr/>
            </p:nvCxnSpPr>
            <p:spPr>
              <a:xfrm flipH="1" rot="16200000">
                <a:off x="5218560" y="3408120"/>
                <a:ext cx="2520" cy="702360"/>
              </a:xfrm>
              <a:prstGeom prst="curvedConnector5">
                <a:avLst>
                  <a:gd name="adj1" fmla="val -44200000"/>
                  <a:gd name="adj2" fmla="val 50000"/>
                  <a:gd name="adj3" fmla="val -44200000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9" name=""/>
              <p:cNvCxnSpPr/>
              <p:nvPr/>
            </p:nvCxnSpPr>
            <p:spPr>
              <a:xfrm flipH="1" rot="16200000">
                <a:off x="6979320" y="3383640"/>
                <a:ext cx="2160" cy="702360"/>
              </a:xfrm>
              <a:prstGeom prst="curvedConnector5">
                <a:avLst>
                  <a:gd name="adj1" fmla="val -47800000"/>
                  <a:gd name="adj2" fmla="val 50000"/>
                  <a:gd name="adj3" fmla="val -47800000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0" name=""/>
              <p:cNvSpPr/>
              <p:nvPr/>
            </p:nvSpPr>
            <p:spPr>
              <a:xfrm>
                <a:off x="5029200" y="31240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91320" y="42670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67280" y="37339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81680" y="30481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181480" y="5638680"/>
                <a:ext cx="175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Graphe de tran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5562720" y="2362320"/>
                <a:ext cx="990360" cy="761760"/>
                <a:chOff x="5562720" y="2362320"/>
                <a:chExt cx="990360" cy="7617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562720" y="2362320"/>
                  <a:ext cx="990360" cy="7617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90960" y="2590560"/>
                  <a:ext cx="456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5638680" y="4800600"/>
                <a:ext cx="990720" cy="762120"/>
                <a:chOff x="5638680" y="4800600"/>
                <a:chExt cx="990720" cy="76212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638680" y="4800600"/>
                  <a:ext cx="990720" cy="7621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867280" y="502920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1" name=""/>
              <p:cNvCxnSpPr>
                <a:stCxn id="276" idx="3"/>
                <a:endCxn id="264" idx="7"/>
              </p:cNvCxnSpPr>
              <p:nvPr/>
            </p:nvCxnSpPr>
            <p:spPr>
              <a:xfrm flipH="1">
                <a:off x="5569920" y="3022560"/>
                <a:ext cx="137160" cy="7372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2" name=""/>
              <p:cNvCxnSpPr>
                <a:stCxn id="276" idx="5"/>
                <a:endCxn id="266" idx="1"/>
              </p:cNvCxnSpPr>
              <p:nvPr/>
            </p:nvCxnSpPr>
            <p:spPr>
              <a:xfrm>
                <a:off x="6408360" y="3022560"/>
                <a:ext cx="213480" cy="7372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3" name=""/>
              <p:cNvCxnSpPr>
                <a:stCxn id="264" idx="5"/>
                <a:endCxn id="279" idx="1"/>
              </p:cNvCxnSpPr>
              <p:nvPr/>
            </p:nvCxnSpPr>
            <p:spPr>
              <a:xfrm>
                <a:off x="5570280" y="4317480"/>
                <a:ext cx="213480" cy="5850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4" name=""/>
              <p:cNvCxnSpPr>
                <a:stCxn id="266" idx="3"/>
                <a:endCxn id="279" idx="7"/>
              </p:cNvCxnSpPr>
              <p:nvPr/>
            </p:nvCxnSpPr>
            <p:spPr>
              <a:xfrm flipH="1">
                <a:off x="6484320" y="4317480"/>
                <a:ext cx="137160" cy="5850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5" name=""/>
              <p:cNvCxnSpPr>
                <a:stCxn id="264" idx="7"/>
                <a:endCxn id="266" idx="1"/>
              </p:cNvCxnSpPr>
              <p:nvPr/>
            </p:nvCxnSpPr>
            <p:spPr>
              <a:xfrm>
                <a:off x="5570280" y="3758760"/>
                <a:ext cx="10515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6" name=""/>
              <p:cNvCxnSpPr>
                <a:stCxn id="266" idx="3"/>
                <a:endCxn id="264" idx="5"/>
              </p:cNvCxnSpPr>
              <p:nvPr/>
            </p:nvCxnSpPr>
            <p:spPr>
              <a:xfrm flipH="1">
                <a:off x="5569920" y="4317480"/>
                <a:ext cx="10515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5562720" y="31240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095880" y="31240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53080" y="46483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34120" y="46483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838080" y="3429000"/>
              <a:ext cx="3581640" cy="1983600"/>
              <a:chOff x="838080" y="3429000"/>
              <a:chExt cx="3581640" cy="1983600"/>
            </a:xfrm>
          </p:grpSpPr>
          <p:sp>
            <p:nvSpPr>
              <p:cNvPr id="292" name=""/>
              <p:cNvSpPr/>
              <p:nvPr/>
            </p:nvSpPr>
            <p:spPr>
              <a:xfrm>
                <a:off x="3733920" y="4191120"/>
                <a:ext cx="68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838080" y="3429000"/>
                <a:ext cx="2667240" cy="1983600"/>
                <a:chOff x="838080" y="3429000"/>
                <a:chExt cx="2667240" cy="19836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295280" y="5105520"/>
                  <a:ext cx="1752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Matrice de transi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838080" y="3429000"/>
                  <a:ext cx="2667240" cy="1542960"/>
                  <a:chOff x="838080" y="3429000"/>
                  <a:chExt cx="2667240" cy="154296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838080" y="34290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1371600" y="34290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1905120" y="3429000"/>
                    <a:ext cx="53316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838080" y="403848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1371600" y="4038480"/>
                    <a:ext cx="533520" cy="3240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1905120" y="4038480"/>
                    <a:ext cx="53316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838080" y="43434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1371600" y="4343400"/>
                    <a:ext cx="533520" cy="3240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905120" y="4343400"/>
                    <a:ext cx="53316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438280" y="34290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438280" y="403848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438280" y="43434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838080" y="464832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1371600" y="4648320"/>
                    <a:ext cx="53352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1905120" y="4648320"/>
                    <a:ext cx="53316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438280" y="4648320"/>
                    <a:ext cx="53352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838080" y="373392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1371600" y="3733920"/>
                    <a:ext cx="53352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1905120" y="3733920"/>
                    <a:ext cx="53316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438280" y="373392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971800" y="34290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971800" y="403848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971800" y="43434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971800" y="4648320"/>
                    <a:ext cx="53352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971800" y="3733920"/>
                    <a:ext cx="53352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4" name=""/>
          <p:cNvGrpSpPr/>
          <p:nvPr/>
        </p:nvGrpSpPr>
        <p:grpSpPr>
          <a:xfrm>
            <a:off x="1143000" y="1143000"/>
            <a:ext cx="5333760" cy="2590920"/>
            <a:chOff x="1143000" y="1143000"/>
            <a:chExt cx="5333760" cy="2590920"/>
          </a:xfrm>
        </p:grpSpPr>
        <p:grpSp>
          <p:nvGrpSpPr>
            <p:cNvPr id="1295" name=""/>
            <p:cNvGrpSpPr/>
            <p:nvPr/>
          </p:nvGrpSpPr>
          <p:grpSpPr>
            <a:xfrm>
              <a:off x="1143000" y="1143000"/>
              <a:ext cx="5333760" cy="2590920"/>
              <a:chOff x="1143000" y="1143000"/>
              <a:chExt cx="5333760" cy="2590920"/>
            </a:xfrm>
          </p:grpSpPr>
          <p:grpSp>
            <p:nvGrpSpPr>
              <p:cNvPr id="1296" name=""/>
              <p:cNvGrpSpPr/>
              <p:nvPr/>
            </p:nvGrpSpPr>
            <p:grpSpPr>
              <a:xfrm>
                <a:off x="2590920" y="1371600"/>
                <a:ext cx="761760" cy="533520"/>
                <a:chOff x="2590920" y="1371600"/>
                <a:chExt cx="761760" cy="53352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2590920" y="137160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819520" y="144792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2590920" y="3200400"/>
                <a:ext cx="761760" cy="533520"/>
                <a:chOff x="2590920" y="3200400"/>
                <a:chExt cx="761760" cy="53352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2590920" y="320040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819520" y="327672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1143000" y="1981080"/>
                <a:ext cx="761760" cy="533520"/>
                <a:chOff x="1143000" y="1981080"/>
                <a:chExt cx="761760" cy="53352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1143000" y="198108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1371600" y="205740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05" name=""/>
              <p:cNvCxnSpPr>
                <a:stCxn id="1303" idx="6"/>
                <a:endCxn id="1297" idx="2"/>
              </p:cNvCxnSpPr>
              <p:nvPr/>
            </p:nvCxnSpPr>
            <p:spPr>
              <a:xfrm flipV="1">
                <a:off x="1914480" y="1637640"/>
                <a:ext cx="667440" cy="610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06" name=""/>
              <p:cNvCxnSpPr>
                <a:stCxn id="1303" idx="6"/>
                <a:endCxn id="1300" idx="2"/>
              </p:cNvCxnSpPr>
              <p:nvPr/>
            </p:nvCxnSpPr>
            <p:spPr>
              <a:xfrm>
                <a:off x="1914480" y="2247480"/>
                <a:ext cx="667440" cy="12200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307" name=""/>
              <p:cNvGrpSpPr/>
              <p:nvPr/>
            </p:nvGrpSpPr>
            <p:grpSpPr>
              <a:xfrm>
                <a:off x="2590920" y="2438280"/>
                <a:ext cx="761760" cy="533520"/>
                <a:chOff x="2590920" y="2438280"/>
                <a:chExt cx="761760" cy="53352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2590920" y="243828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819520" y="251460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10" name=""/>
              <p:cNvCxnSpPr>
                <a:stCxn id="1303" idx="6"/>
                <a:endCxn id="1308" idx="2"/>
              </p:cNvCxnSpPr>
              <p:nvPr/>
            </p:nvCxnSpPr>
            <p:spPr>
              <a:xfrm>
                <a:off x="1914480" y="2247840"/>
                <a:ext cx="667440" cy="457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11" name=""/>
              <p:cNvCxnSpPr>
                <a:stCxn id="1308" idx="6"/>
                <a:endCxn id="1312" idx="2"/>
              </p:cNvCxnSpPr>
              <p:nvPr/>
            </p:nvCxnSpPr>
            <p:spPr>
              <a:xfrm>
                <a:off x="3362400" y="2705040"/>
                <a:ext cx="743760" cy="457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13" name=""/>
              <p:cNvCxnSpPr>
                <a:stCxn id="1300" idx="6"/>
                <a:endCxn id="1312" idx="2"/>
              </p:cNvCxnSpPr>
              <p:nvPr/>
            </p:nvCxnSpPr>
            <p:spPr>
              <a:xfrm flipV="1">
                <a:off x="3362400" y="3161520"/>
                <a:ext cx="743760" cy="305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14" name=""/>
              <p:cNvCxnSpPr>
                <a:stCxn id="1297" idx="6"/>
                <a:endCxn id="1315" idx="2"/>
              </p:cNvCxnSpPr>
              <p:nvPr/>
            </p:nvCxnSpPr>
            <p:spPr>
              <a:xfrm flipV="1">
                <a:off x="3362400" y="1409040"/>
                <a:ext cx="743760" cy="229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16" name=""/>
              <p:cNvCxnSpPr>
                <a:stCxn id="1297" idx="6"/>
                <a:endCxn id="1317" idx="2"/>
              </p:cNvCxnSpPr>
              <p:nvPr/>
            </p:nvCxnSpPr>
            <p:spPr>
              <a:xfrm>
                <a:off x="3362400" y="1638360"/>
                <a:ext cx="743760" cy="534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18" name=""/>
              <p:cNvCxnSpPr>
                <a:stCxn id="1315" idx="6"/>
                <a:endCxn id="1319" idx="2"/>
              </p:cNvCxnSpPr>
              <p:nvPr/>
            </p:nvCxnSpPr>
            <p:spPr>
              <a:xfrm>
                <a:off x="4886280" y="1409760"/>
                <a:ext cx="820080" cy="99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20" name=""/>
              <p:cNvCxnSpPr>
                <a:stCxn id="1317" idx="6"/>
                <a:endCxn id="1319" idx="2"/>
              </p:cNvCxnSpPr>
              <p:nvPr/>
            </p:nvCxnSpPr>
            <p:spPr>
              <a:xfrm>
                <a:off x="4886280" y="2171520"/>
                <a:ext cx="820080" cy="229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21" name=""/>
              <p:cNvCxnSpPr>
                <a:stCxn id="1312" idx="6"/>
                <a:endCxn id="1319" idx="2"/>
              </p:cNvCxnSpPr>
              <p:nvPr/>
            </p:nvCxnSpPr>
            <p:spPr>
              <a:xfrm flipV="1">
                <a:off x="4886280" y="2400120"/>
                <a:ext cx="820080" cy="762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322" name=""/>
              <p:cNvGrpSpPr/>
              <p:nvPr/>
            </p:nvGrpSpPr>
            <p:grpSpPr>
              <a:xfrm>
                <a:off x="4114800" y="1143000"/>
                <a:ext cx="761760" cy="533520"/>
                <a:chOff x="4114800" y="1143000"/>
                <a:chExt cx="761760" cy="53352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4114800" y="114300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4343400" y="121932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4" name=""/>
              <p:cNvGrpSpPr/>
              <p:nvPr/>
            </p:nvGrpSpPr>
            <p:grpSpPr>
              <a:xfrm>
                <a:off x="4114800" y="2895480"/>
                <a:ext cx="761760" cy="533520"/>
                <a:chOff x="4114800" y="2895480"/>
                <a:chExt cx="761760" cy="53352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4114800" y="289548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4343400" y="297180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114800" y="1905120"/>
                <a:ext cx="761760" cy="533160"/>
                <a:chOff x="4114800" y="1905120"/>
                <a:chExt cx="761760" cy="53316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4114800" y="1905120"/>
                  <a:ext cx="7617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4343400" y="198108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5715000" y="2133720"/>
                <a:ext cx="761760" cy="533160"/>
                <a:chOff x="5715000" y="2133720"/>
                <a:chExt cx="761760" cy="53316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5715000" y="2133720"/>
                  <a:ext cx="7617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943600" y="220968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0" name=""/>
            <p:cNvSpPr/>
            <p:nvPr/>
          </p:nvSpPr>
          <p:spPr>
            <a:xfrm>
              <a:off x="1752480" y="1600200"/>
              <a:ext cx="8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676520" y="27432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905120" y="22860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276720" y="121932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276720" y="18288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5" name=""/>
          <p:cNvGrpSpPr/>
          <p:nvPr/>
        </p:nvGrpSpPr>
        <p:grpSpPr>
          <a:xfrm>
            <a:off x="1066680" y="609480"/>
            <a:ext cx="4267080" cy="3107520"/>
            <a:chOff x="1066680" y="609480"/>
            <a:chExt cx="4267080" cy="3107520"/>
          </a:xfrm>
        </p:grpSpPr>
        <p:grpSp>
          <p:nvGrpSpPr>
            <p:cNvPr id="1336" name=""/>
            <p:cNvGrpSpPr/>
            <p:nvPr/>
          </p:nvGrpSpPr>
          <p:grpSpPr>
            <a:xfrm>
              <a:off x="4495680" y="2009880"/>
              <a:ext cx="838080" cy="543960"/>
              <a:chOff x="4495680" y="2009880"/>
              <a:chExt cx="838080" cy="543960"/>
            </a:xfrm>
          </p:grpSpPr>
          <p:sp>
            <p:nvSpPr>
              <p:cNvPr id="1337" name=""/>
              <p:cNvSpPr/>
              <p:nvPr/>
            </p:nvSpPr>
            <p:spPr>
              <a:xfrm>
                <a:off x="4495680" y="2009880"/>
                <a:ext cx="838080" cy="543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746960" y="2087640"/>
                <a:ext cx="3855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1066680" y="2009880"/>
              <a:ext cx="838080" cy="543960"/>
              <a:chOff x="1066680" y="2009880"/>
              <a:chExt cx="838080" cy="543960"/>
            </a:xfrm>
          </p:grpSpPr>
          <p:sp>
            <p:nvSpPr>
              <p:cNvPr id="1340" name=""/>
              <p:cNvSpPr/>
              <p:nvPr/>
            </p:nvSpPr>
            <p:spPr>
              <a:xfrm>
                <a:off x="1066680" y="2009880"/>
                <a:ext cx="838080" cy="543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317960" y="2087640"/>
                <a:ext cx="3855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2286000" y="2009880"/>
              <a:ext cx="685800" cy="543960"/>
              <a:chOff x="2286000" y="2009880"/>
              <a:chExt cx="685800" cy="543960"/>
            </a:xfrm>
          </p:grpSpPr>
          <p:sp>
            <p:nvSpPr>
              <p:cNvPr id="1343" name=""/>
              <p:cNvSpPr/>
              <p:nvPr/>
            </p:nvSpPr>
            <p:spPr>
              <a:xfrm>
                <a:off x="2286000" y="2009880"/>
                <a:ext cx="685800" cy="543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384280" y="2087640"/>
                <a:ext cx="511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45" name=""/>
            <p:cNvCxnSpPr>
              <a:stCxn id="1340" idx="6"/>
              <a:endCxn id="1343" idx="2"/>
            </p:cNvCxnSpPr>
            <p:nvPr/>
          </p:nvCxnSpPr>
          <p:spPr>
            <a:xfrm>
              <a:off x="1914480" y="228096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6" name=""/>
            <p:cNvCxnSpPr>
              <a:stCxn id="1343" idx="6"/>
              <a:endCxn id="1347" idx="2"/>
            </p:cNvCxnSpPr>
            <p:nvPr/>
          </p:nvCxnSpPr>
          <p:spPr>
            <a:xfrm flipV="1">
              <a:off x="2981160" y="1735920"/>
              <a:ext cx="362520" cy="54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8" name=""/>
            <p:cNvCxnSpPr>
              <a:stCxn id="1343" idx="6"/>
              <a:endCxn id="1337" idx="2"/>
            </p:cNvCxnSpPr>
            <p:nvPr/>
          </p:nvCxnSpPr>
          <p:spPr>
            <a:xfrm>
              <a:off x="2980800" y="2280960"/>
              <a:ext cx="1505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9" name=""/>
            <p:cNvCxnSpPr>
              <a:stCxn id="1347" idx="6"/>
              <a:endCxn id="1337" idx="2"/>
            </p:cNvCxnSpPr>
            <p:nvPr/>
          </p:nvCxnSpPr>
          <p:spPr>
            <a:xfrm>
              <a:off x="4047840" y="1736280"/>
              <a:ext cx="438840" cy="54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350" name=""/>
            <p:cNvGrpSpPr/>
            <p:nvPr/>
          </p:nvGrpSpPr>
          <p:grpSpPr>
            <a:xfrm>
              <a:off x="3352680" y="1465200"/>
              <a:ext cx="685800" cy="544320"/>
              <a:chOff x="3352680" y="1465200"/>
              <a:chExt cx="685800" cy="544320"/>
            </a:xfrm>
          </p:grpSpPr>
          <p:sp>
            <p:nvSpPr>
              <p:cNvPr id="1347" name=""/>
              <p:cNvSpPr/>
              <p:nvPr/>
            </p:nvSpPr>
            <p:spPr>
              <a:xfrm>
                <a:off x="3352680" y="1465200"/>
                <a:ext cx="685800" cy="5443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450960" y="1542960"/>
                <a:ext cx="511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1905120" y="1154160"/>
              <a:ext cx="2361960" cy="17114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286000" y="609480"/>
              <a:ext cx="1600200" cy="307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s non émetteu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4" name=""/>
            <p:cNvCxnSpPr>
              <a:stCxn id="1353" idx="2"/>
              <a:endCxn id="1352" idx="0"/>
            </p:cNvCxnSpPr>
            <p:nvPr/>
          </p:nvCxnSpPr>
          <p:spPr>
            <a:xfrm>
              <a:off x="3085920" y="942840"/>
              <a:ext cx="1080" cy="202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355" name=""/>
            <p:cNvSpPr/>
            <p:nvPr/>
          </p:nvSpPr>
          <p:spPr>
            <a:xfrm>
              <a:off x="2362320" y="3409920"/>
              <a:ext cx="1600200" cy="307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s émetteu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6" name=""/>
            <p:cNvCxnSpPr>
              <a:stCxn id="1355" idx="0"/>
              <a:endCxn id="1340" idx="4"/>
            </p:cNvCxnSpPr>
            <p:nvPr/>
          </p:nvCxnSpPr>
          <p:spPr>
            <a:xfrm flipH="1" flipV="1">
              <a:off x="1485720" y="2563560"/>
              <a:ext cx="1676880" cy="8373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57" name=""/>
            <p:cNvCxnSpPr>
              <a:stCxn id="1355" idx="0"/>
              <a:endCxn id="1337" idx="4"/>
            </p:cNvCxnSpPr>
            <p:nvPr/>
          </p:nvCxnSpPr>
          <p:spPr>
            <a:xfrm flipV="1">
              <a:off x="3161880" y="2563560"/>
              <a:ext cx="1753560" cy="8373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8" name=""/>
          <p:cNvGrpSpPr/>
          <p:nvPr/>
        </p:nvGrpSpPr>
        <p:grpSpPr>
          <a:xfrm>
            <a:off x="380880" y="609480"/>
            <a:ext cx="8382240" cy="533520"/>
            <a:chOff x="380880" y="609480"/>
            <a:chExt cx="8382240" cy="533520"/>
          </a:xfrm>
        </p:grpSpPr>
        <p:grpSp>
          <p:nvGrpSpPr>
            <p:cNvPr id="1359" name=""/>
            <p:cNvGrpSpPr/>
            <p:nvPr/>
          </p:nvGrpSpPr>
          <p:grpSpPr>
            <a:xfrm>
              <a:off x="8077320" y="609480"/>
              <a:ext cx="685800" cy="533520"/>
              <a:chOff x="8077320" y="609480"/>
              <a:chExt cx="685800" cy="533520"/>
            </a:xfrm>
          </p:grpSpPr>
          <p:sp>
            <p:nvSpPr>
              <p:cNvPr id="1360" name=""/>
              <p:cNvSpPr/>
              <p:nvPr/>
            </p:nvSpPr>
            <p:spPr>
              <a:xfrm>
                <a:off x="8077320" y="609480"/>
                <a:ext cx="68580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8282880" y="685800"/>
                <a:ext cx="315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380880" y="609480"/>
              <a:ext cx="609840" cy="533520"/>
              <a:chOff x="380880" y="609480"/>
              <a:chExt cx="609840" cy="533520"/>
            </a:xfrm>
          </p:grpSpPr>
          <p:sp>
            <p:nvSpPr>
              <p:cNvPr id="1363" name=""/>
              <p:cNvSpPr/>
              <p:nvPr/>
            </p:nvSpPr>
            <p:spPr>
              <a:xfrm>
                <a:off x="380880" y="609480"/>
                <a:ext cx="60984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63760" y="685800"/>
                <a:ext cx="28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65" name=""/>
            <p:cNvCxnSpPr>
              <a:stCxn id="1363" idx="6"/>
              <a:endCxn id="1366" idx="2"/>
            </p:cNvCxnSpPr>
            <p:nvPr/>
          </p:nvCxnSpPr>
          <p:spPr>
            <a:xfrm>
              <a:off x="1000080" y="876240"/>
              <a:ext cx="295560" cy="38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367" name=""/>
            <p:cNvGrpSpPr/>
            <p:nvPr/>
          </p:nvGrpSpPr>
          <p:grpSpPr>
            <a:xfrm>
              <a:off x="1295280" y="609480"/>
              <a:ext cx="838080" cy="533520"/>
              <a:chOff x="1295280" y="609480"/>
              <a:chExt cx="838080" cy="533520"/>
            </a:xfrm>
          </p:grpSpPr>
          <p:grpSp>
            <p:nvGrpSpPr>
              <p:cNvPr id="1368" name=""/>
              <p:cNvGrpSpPr/>
              <p:nvPr/>
            </p:nvGrpSpPr>
            <p:grpSpPr>
              <a:xfrm>
                <a:off x="1295280" y="609480"/>
                <a:ext cx="837720" cy="533520"/>
                <a:chOff x="1295280" y="609480"/>
                <a:chExt cx="837720" cy="53352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1295280" y="609480"/>
                  <a:ext cx="83772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415160" y="685800"/>
                  <a:ext cx="6246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1295280" y="762120"/>
                <a:ext cx="304560" cy="304560"/>
                <a:chOff x="1295280" y="762120"/>
                <a:chExt cx="304560" cy="30456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1295280" y="762120"/>
                  <a:ext cx="304560" cy="3045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1371240" y="76212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1828800" y="762120"/>
                <a:ext cx="304560" cy="304560"/>
                <a:chOff x="1828800" y="762120"/>
                <a:chExt cx="304560" cy="30456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1828800" y="762120"/>
                  <a:ext cx="304560" cy="3045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1904760" y="76212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6" name=""/>
            <p:cNvGrpSpPr/>
            <p:nvPr/>
          </p:nvGrpSpPr>
          <p:grpSpPr>
            <a:xfrm>
              <a:off x="6858000" y="609480"/>
              <a:ext cx="990360" cy="533160"/>
              <a:chOff x="6858000" y="609480"/>
              <a:chExt cx="990360" cy="533160"/>
            </a:xfrm>
          </p:grpSpPr>
          <p:grpSp>
            <p:nvGrpSpPr>
              <p:cNvPr id="1377" name=""/>
              <p:cNvGrpSpPr/>
              <p:nvPr/>
            </p:nvGrpSpPr>
            <p:grpSpPr>
              <a:xfrm>
                <a:off x="6858000" y="609480"/>
                <a:ext cx="990360" cy="533160"/>
                <a:chOff x="6858000" y="609480"/>
                <a:chExt cx="990360" cy="53316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6858000" y="609480"/>
                  <a:ext cx="9903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6999840" y="685440"/>
                  <a:ext cx="7383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lang="fr-FR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s(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6858000" y="761760"/>
                <a:ext cx="304560" cy="304920"/>
                <a:chOff x="6858000" y="761760"/>
                <a:chExt cx="304560" cy="30492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6858000" y="761760"/>
                  <a:ext cx="304560" cy="3049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6933960" y="76176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7543800" y="761760"/>
                <a:ext cx="304560" cy="304920"/>
                <a:chOff x="7543800" y="761760"/>
                <a:chExt cx="304560" cy="30492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7543800" y="761760"/>
                  <a:ext cx="304560" cy="3049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7619760" y="76176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1386" name=""/>
            <p:cNvCxnSpPr>
              <a:stCxn id="1385" idx="3"/>
              <a:endCxn id="1360" idx="2"/>
            </p:cNvCxnSpPr>
            <p:nvPr/>
          </p:nvCxnSpPr>
          <p:spPr>
            <a:xfrm flipV="1">
              <a:off x="7848720" y="875880"/>
              <a:ext cx="219600" cy="2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7" name=""/>
            <p:cNvCxnSpPr>
              <a:stCxn id="1375" idx="3"/>
            </p:cNvCxnSpPr>
            <p:nvPr/>
          </p:nvCxnSpPr>
          <p:spPr>
            <a:xfrm>
              <a:off x="2133720" y="900000"/>
              <a:ext cx="381600" cy="151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1388" name=""/>
            <p:cNvGrpSpPr/>
            <p:nvPr/>
          </p:nvGrpSpPr>
          <p:grpSpPr>
            <a:xfrm>
              <a:off x="4038480" y="609480"/>
              <a:ext cx="914400" cy="533160"/>
              <a:chOff x="4038480" y="609480"/>
              <a:chExt cx="914400" cy="533160"/>
            </a:xfrm>
          </p:grpSpPr>
          <p:sp>
            <p:nvSpPr>
              <p:cNvPr id="1389" name=""/>
              <p:cNvSpPr/>
              <p:nvPr/>
            </p:nvSpPr>
            <p:spPr>
              <a:xfrm>
                <a:off x="4038480" y="60948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159080" y="68544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03848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11480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64796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64796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95" name=""/>
            <p:cNvCxnSpPr>
              <a:stCxn id="1396" idx="6"/>
              <a:endCxn id="1391" idx="2"/>
            </p:cNvCxnSpPr>
            <p:nvPr/>
          </p:nvCxnSpPr>
          <p:spPr>
            <a:xfrm>
              <a:off x="3809520" y="9140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97" name=""/>
            <p:cNvCxnSpPr/>
            <p:nvPr/>
          </p:nvCxnSpPr>
          <p:spPr>
            <a:xfrm>
              <a:off x="2666520" y="9140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98" name=""/>
            <p:cNvCxnSpPr>
              <a:stCxn id="1393" idx="6"/>
              <a:endCxn id="1399" idx="2"/>
            </p:cNvCxnSpPr>
            <p:nvPr/>
          </p:nvCxnSpPr>
          <p:spPr>
            <a:xfrm>
              <a:off x="4952520" y="9140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00" name=""/>
            <p:cNvCxnSpPr>
              <a:endCxn id="1381" idx="2"/>
            </p:cNvCxnSpPr>
            <p:nvPr/>
          </p:nvCxnSpPr>
          <p:spPr>
            <a:xfrm>
              <a:off x="6629040" y="9140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1401" name=""/>
            <p:cNvGrpSpPr/>
            <p:nvPr/>
          </p:nvGrpSpPr>
          <p:grpSpPr>
            <a:xfrm>
              <a:off x="5181480" y="609480"/>
              <a:ext cx="914400" cy="533160"/>
              <a:chOff x="5181480" y="609480"/>
              <a:chExt cx="914400" cy="533160"/>
            </a:xfrm>
          </p:grpSpPr>
          <p:sp>
            <p:nvSpPr>
              <p:cNvPr id="1402" name=""/>
              <p:cNvSpPr/>
              <p:nvPr/>
            </p:nvSpPr>
            <p:spPr>
              <a:xfrm>
                <a:off x="5181480" y="60948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302080" y="68544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+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18148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25780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79096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79096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2895480" y="609480"/>
              <a:ext cx="914400" cy="533160"/>
              <a:chOff x="2895480" y="609480"/>
              <a:chExt cx="914400" cy="533160"/>
            </a:xfrm>
          </p:grpSpPr>
          <p:sp>
            <p:nvSpPr>
              <p:cNvPr id="1408" name=""/>
              <p:cNvSpPr/>
              <p:nvPr/>
            </p:nvSpPr>
            <p:spPr>
              <a:xfrm>
                <a:off x="2895480" y="60948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016080" y="68544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89548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97180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50496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0496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13" name=""/>
            <p:cNvCxnSpPr>
              <a:stCxn id="1405" idx="6"/>
            </p:cNvCxnSpPr>
            <p:nvPr/>
          </p:nvCxnSpPr>
          <p:spPr>
            <a:xfrm>
              <a:off x="6095520" y="9140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1414" name=""/>
          <p:cNvGrpSpPr/>
          <p:nvPr/>
        </p:nvGrpSpPr>
        <p:grpSpPr>
          <a:xfrm>
            <a:off x="380880" y="2362320"/>
            <a:ext cx="8382240" cy="1014120"/>
            <a:chOff x="380880" y="2362320"/>
            <a:chExt cx="8382240" cy="1014120"/>
          </a:xfrm>
        </p:grpSpPr>
        <p:grpSp>
          <p:nvGrpSpPr>
            <p:cNvPr id="1415" name=""/>
            <p:cNvGrpSpPr/>
            <p:nvPr/>
          </p:nvGrpSpPr>
          <p:grpSpPr>
            <a:xfrm>
              <a:off x="8077320" y="2362320"/>
              <a:ext cx="685800" cy="533160"/>
              <a:chOff x="8077320" y="2362320"/>
              <a:chExt cx="685800" cy="533160"/>
            </a:xfrm>
          </p:grpSpPr>
          <p:sp>
            <p:nvSpPr>
              <p:cNvPr id="1416" name=""/>
              <p:cNvSpPr/>
              <p:nvPr/>
            </p:nvSpPr>
            <p:spPr>
              <a:xfrm>
                <a:off x="8077320" y="2362320"/>
                <a:ext cx="6858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8282880" y="2438280"/>
                <a:ext cx="315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380880" y="2362320"/>
              <a:ext cx="609840" cy="533160"/>
              <a:chOff x="380880" y="2362320"/>
              <a:chExt cx="609840" cy="533160"/>
            </a:xfrm>
          </p:grpSpPr>
          <p:sp>
            <p:nvSpPr>
              <p:cNvPr id="1419" name=""/>
              <p:cNvSpPr/>
              <p:nvPr/>
            </p:nvSpPr>
            <p:spPr>
              <a:xfrm>
                <a:off x="380880" y="2362320"/>
                <a:ext cx="60984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3760" y="2438280"/>
                <a:ext cx="28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21" name=""/>
            <p:cNvCxnSpPr>
              <a:stCxn id="1419" idx="6"/>
              <a:endCxn id="1422" idx="2"/>
            </p:cNvCxnSpPr>
            <p:nvPr/>
          </p:nvCxnSpPr>
          <p:spPr>
            <a:xfrm>
              <a:off x="1000080" y="2628720"/>
              <a:ext cx="295560" cy="38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423" name=""/>
            <p:cNvGrpSpPr/>
            <p:nvPr/>
          </p:nvGrpSpPr>
          <p:grpSpPr>
            <a:xfrm>
              <a:off x="1295280" y="2362320"/>
              <a:ext cx="838080" cy="533160"/>
              <a:chOff x="1295280" y="2362320"/>
              <a:chExt cx="838080" cy="533160"/>
            </a:xfrm>
          </p:grpSpPr>
          <p:grpSp>
            <p:nvGrpSpPr>
              <p:cNvPr id="1424" name=""/>
              <p:cNvGrpSpPr/>
              <p:nvPr/>
            </p:nvGrpSpPr>
            <p:grpSpPr>
              <a:xfrm>
                <a:off x="1295280" y="2362320"/>
                <a:ext cx="837720" cy="533160"/>
                <a:chOff x="1295280" y="2362320"/>
                <a:chExt cx="837720" cy="53316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1295280" y="2362320"/>
                  <a:ext cx="8377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1415160" y="2438280"/>
                  <a:ext cx="6246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1295280" y="2514600"/>
                <a:ext cx="304560" cy="304200"/>
                <a:chOff x="1295280" y="2514600"/>
                <a:chExt cx="304560" cy="30420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1295280" y="2514600"/>
                  <a:ext cx="304560" cy="304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1371240" y="251460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1828800" y="2514600"/>
                <a:ext cx="304560" cy="304200"/>
                <a:chOff x="1828800" y="2514600"/>
                <a:chExt cx="304560" cy="30420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1828800" y="2514600"/>
                  <a:ext cx="304560" cy="304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1904760" y="251460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2" name=""/>
            <p:cNvGrpSpPr/>
            <p:nvPr/>
          </p:nvGrpSpPr>
          <p:grpSpPr>
            <a:xfrm>
              <a:off x="6858000" y="2362320"/>
              <a:ext cx="990360" cy="533160"/>
              <a:chOff x="6858000" y="2362320"/>
              <a:chExt cx="990360" cy="533160"/>
            </a:xfrm>
          </p:grpSpPr>
          <p:grpSp>
            <p:nvGrpSpPr>
              <p:cNvPr id="1433" name=""/>
              <p:cNvGrpSpPr/>
              <p:nvPr/>
            </p:nvGrpSpPr>
            <p:grpSpPr>
              <a:xfrm>
                <a:off x="6858000" y="2362320"/>
                <a:ext cx="990360" cy="533160"/>
                <a:chOff x="6858000" y="2362320"/>
                <a:chExt cx="990360" cy="53316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6858000" y="2362320"/>
                  <a:ext cx="9903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6999840" y="2438280"/>
                  <a:ext cx="7383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lang="fr-FR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s(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6858000" y="2514600"/>
                <a:ext cx="304560" cy="304920"/>
                <a:chOff x="6858000" y="2514600"/>
                <a:chExt cx="304560" cy="30492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6858000" y="2514600"/>
                  <a:ext cx="304560" cy="3049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6933960" y="251460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7543800" y="2514600"/>
                <a:ext cx="304560" cy="304920"/>
                <a:chOff x="7543800" y="2514600"/>
                <a:chExt cx="304560" cy="30492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7543800" y="2514600"/>
                  <a:ext cx="304560" cy="3049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7619760" y="251460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1442" name=""/>
            <p:cNvCxnSpPr>
              <a:stCxn id="1441" idx="3"/>
              <a:endCxn id="1416" idx="2"/>
            </p:cNvCxnSpPr>
            <p:nvPr/>
          </p:nvCxnSpPr>
          <p:spPr>
            <a:xfrm flipV="1">
              <a:off x="7848720" y="2628720"/>
              <a:ext cx="219600" cy="2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3" name=""/>
            <p:cNvCxnSpPr>
              <a:stCxn id="1431" idx="3"/>
            </p:cNvCxnSpPr>
            <p:nvPr/>
          </p:nvCxnSpPr>
          <p:spPr>
            <a:xfrm>
              <a:off x="2133720" y="2652480"/>
              <a:ext cx="381600" cy="147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1444" name=""/>
            <p:cNvGrpSpPr/>
            <p:nvPr/>
          </p:nvGrpSpPr>
          <p:grpSpPr>
            <a:xfrm>
              <a:off x="4038480" y="2362320"/>
              <a:ext cx="914400" cy="533160"/>
              <a:chOff x="4038480" y="2362320"/>
              <a:chExt cx="914400" cy="533160"/>
            </a:xfrm>
          </p:grpSpPr>
          <p:sp>
            <p:nvSpPr>
              <p:cNvPr id="1445" name=""/>
              <p:cNvSpPr/>
              <p:nvPr/>
            </p:nvSpPr>
            <p:spPr>
              <a:xfrm>
                <a:off x="4038480" y="236232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159080" y="243828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03848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11480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64796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64796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51" name=""/>
            <p:cNvCxnSpPr>
              <a:stCxn id="1452" idx="6"/>
              <a:endCxn id="1447" idx="2"/>
            </p:cNvCxnSpPr>
            <p:nvPr/>
          </p:nvCxnSpPr>
          <p:spPr>
            <a:xfrm>
              <a:off x="3809520" y="26665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53" name=""/>
            <p:cNvCxnSpPr/>
            <p:nvPr/>
          </p:nvCxnSpPr>
          <p:spPr>
            <a:xfrm>
              <a:off x="2666520" y="26665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54" name=""/>
            <p:cNvCxnSpPr>
              <a:stCxn id="1449" idx="6"/>
              <a:endCxn id="1455" idx="2"/>
            </p:cNvCxnSpPr>
            <p:nvPr/>
          </p:nvCxnSpPr>
          <p:spPr>
            <a:xfrm>
              <a:off x="4952520" y="26665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56" name=""/>
            <p:cNvCxnSpPr>
              <a:endCxn id="1437" idx="2"/>
            </p:cNvCxnSpPr>
            <p:nvPr/>
          </p:nvCxnSpPr>
          <p:spPr>
            <a:xfrm>
              <a:off x="6629040" y="26665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1457" name=""/>
            <p:cNvGrpSpPr/>
            <p:nvPr/>
          </p:nvGrpSpPr>
          <p:grpSpPr>
            <a:xfrm>
              <a:off x="5181480" y="2362320"/>
              <a:ext cx="914400" cy="533160"/>
              <a:chOff x="5181480" y="2362320"/>
              <a:chExt cx="914400" cy="533160"/>
            </a:xfrm>
          </p:grpSpPr>
          <p:sp>
            <p:nvSpPr>
              <p:cNvPr id="1458" name=""/>
              <p:cNvSpPr/>
              <p:nvPr/>
            </p:nvSpPr>
            <p:spPr>
              <a:xfrm>
                <a:off x="5181480" y="236232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302080" y="243828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+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18148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25780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79096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79096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2895480" y="2362320"/>
              <a:ext cx="914400" cy="533160"/>
              <a:chOff x="2895480" y="2362320"/>
              <a:chExt cx="914400" cy="533160"/>
            </a:xfrm>
          </p:grpSpPr>
          <p:sp>
            <p:nvSpPr>
              <p:cNvPr id="1464" name=""/>
              <p:cNvSpPr/>
              <p:nvPr/>
            </p:nvSpPr>
            <p:spPr>
              <a:xfrm>
                <a:off x="2895480" y="236232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016080" y="243828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89548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97180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0496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50496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69" name=""/>
            <p:cNvCxnSpPr>
              <a:stCxn id="1461" idx="6"/>
            </p:cNvCxnSpPr>
            <p:nvPr/>
          </p:nvCxnSpPr>
          <p:spPr>
            <a:xfrm>
              <a:off x="6095520" y="26665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0" name=""/>
            <p:cNvCxnSpPr>
              <a:stCxn id="1464" idx="4"/>
              <a:endCxn id="1458" idx="4"/>
            </p:cNvCxnSpPr>
            <p:nvPr/>
          </p:nvCxnSpPr>
          <p:spPr>
            <a:xfrm flipH="1" rot="16200000">
              <a:off x="4494960" y="1762560"/>
              <a:ext cx="2160" cy="2286720"/>
            </a:xfrm>
            <a:prstGeom prst="curvedConnector5">
              <a:avLst>
                <a:gd name="adj1" fmla="val 26180000"/>
                <a:gd name="adj2" fmla="val 49992"/>
                <a:gd name="adj3" fmla="val 26180000"/>
              </a:avLst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1" name=""/>
            <p:cNvCxnSpPr>
              <a:endCxn id="1445" idx="4"/>
            </p:cNvCxnSpPr>
            <p:nvPr/>
          </p:nvCxnSpPr>
          <p:spPr>
            <a:xfrm flipV="1">
              <a:off x="3200400" y="2904480"/>
              <a:ext cx="1296000" cy="44820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2" name=""/>
            <p:cNvCxnSpPr>
              <a:stCxn id="1445" idx="4"/>
            </p:cNvCxnSpPr>
            <p:nvPr/>
          </p:nvCxnSpPr>
          <p:spPr>
            <a:xfrm flipH="1" rot="16200000">
              <a:off x="4880520" y="2518920"/>
              <a:ext cx="448200" cy="122004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3" name=""/>
            <p:cNvCxnSpPr>
              <a:stCxn id="1425" idx="4"/>
            </p:cNvCxnSpPr>
            <p:nvPr/>
          </p:nvCxnSpPr>
          <p:spPr>
            <a:xfrm flipH="1" rot="16200000">
              <a:off x="1890720" y="2728800"/>
              <a:ext cx="372240" cy="72432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4" name=""/>
            <p:cNvCxnSpPr>
              <a:endCxn id="1434" idx="4"/>
            </p:cNvCxnSpPr>
            <p:nvPr/>
          </p:nvCxnSpPr>
          <p:spPr>
            <a:xfrm flipV="1">
              <a:off x="6781680" y="2904480"/>
              <a:ext cx="572400" cy="44820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5" name=""/>
            <p:cNvCxnSpPr>
              <a:endCxn id="1416" idx="4"/>
            </p:cNvCxnSpPr>
            <p:nvPr/>
          </p:nvCxnSpPr>
          <p:spPr>
            <a:xfrm flipV="1">
              <a:off x="6781320" y="2905200"/>
              <a:ext cx="1639080" cy="29556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6" name=""/>
            <p:cNvCxnSpPr>
              <a:stCxn id="1419" idx="4"/>
            </p:cNvCxnSpPr>
            <p:nvPr/>
          </p:nvCxnSpPr>
          <p:spPr>
            <a:xfrm flipH="1" rot="16200000">
              <a:off x="1413720" y="2176200"/>
              <a:ext cx="219600" cy="167724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7" name=""/>
          <p:cNvGrpSpPr/>
          <p:nvPr/>
        </p:nvGrpSpPr>
        <p:grpSpPr>
          <a:xfrm>
            <a:off x="838080" y="1051920"/>
            <a:ext cx="5790960" cy="2994480"/>
            <a:chOff x="838080" y="1051920"/>
            <a:chExt cx="5790960" cy="2994480"/>
          </a:xfrm>
        </p:grpSpPr>
        <p:sp>
          <p:nvSpPr>
            <p:cNvPr id="1478" name=""/>
            <p:cNvSpPr/>
            <p:nvPr/>
          </p:nvSpPr>
          <p:spPr>
            <a:xfrm>
              <a:off x="5827320" y="2057400"/>
              <a:ext cx="801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94440" y="2209320"/>
              <a:ext cx="36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927000" y="2819520"/>
              <a:ext cx="71244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05200" y="2971440"/>
              <a:ext cx="32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2" name=""/>
            <p:cNvCxnSpPr>
              <a:stCxn id="1480" idx="0"/>
              <a:endCxn id="1483" idx="2"/>
            </p:cNvCxnSpPr>
            <p:nvPr/>
          </p:nvCxnSpPr>
          <p:spPr>
            <a:xfrm flipH="1" flipV="1" rot="5400000">
              <a:off x="1104120" y="2007360"/>
              <a:ext cx="981720" cy="62352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4" name=""/>
            <p:cNvSpPr/>
            <p:nvPr/>
          </p:nvSpPr>
          <p:spPr>
            <a:xfrm>
              <a:off x="1906920" y="1523880"/>
              <a:ext cx="98028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085480" y="1661760"/>
              <a:ext cx="729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6920" y="1676520"/>
              <a:ext cx="35640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996200" y="1739880"/>
              <a:ext cx="267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530800" y="1676520"/>
              <a:ext cx="35640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530800" y="1739880"/>
              <a:ext cx="3564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312440" y="3352680"/>
              <a:ext cx="11581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91000" y="3490560"/>
              <a:ext cx="862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312440" y="3505320"/>
              <a:ext cx="35640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401720" y="3568680"/>
              <a:ext cx="267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114160" y="3505320"/>
              <a:ext cx="35640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203440" y="3568680"/>
              <a:ext cx="267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5" name=""/>
            <p:cNvCxnSpPr>
              <a:stCxn id="1489" idx="7"/>
              <a:endCxn id="1478" idx="4"/>
            </p:cNvCxnSpPr>
            <p:nvPr/>
          </p:nvCxnSpPr>
          <p:spPr>
            <a:xfrm flipH="1" flipV="1" rot="5400000">
              <a:off x="5354280" y="2547360"/>
              <a:ext cx="821520" cy="926640"/>
            </a:xfrm>
            <a:prstGeom prst="curvedConnector5">
              <a:avLst>
                <a:gd name="adj1" fmla="val 54712"/>
                <a:gd name="adj2" fmla="val 49980"/>
                <a:gd name="adj3" fmla="val 5471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96" name=""/>
            <p:cNvCxnSpPr>
              <a:stCxn id="1484" idx="4"/>
              <a:endCxn id="1497" idx="2"/>
            </p:cNvCxnSpPr>
            <p:nvPr/>
          </p:nvCxnSpPr>
          <p:spPr>
            <a:xfrm>
              <a:off x="2396880" y="2066400"/>
              <a:ext cx="757800" cy="677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98" name=""/>
            <p:cNvCxnSpPr>
              <a:stCxn id="1499" idx="4"/>
              <a:endCxn id="1491" idx="2"/>
            </p:cNvCxnSpPr>
            <p:nvPr/>
          </p:nvCxnSpPr>
          <p:spPr>
            <a:xfrm>
              <a:off x="3688920" y="2980800"/>
              <a:ext cx="623520" cy="677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500" name=""/>
            <p:cNvCxnSpPr>
              <a:stCxn id="1497" idx="2"/>
              <a:endCxn id="1501" idx="6"/>
            </p:cNvCxnSpPr>
            <p:nvPr/>
          </p:nvCxnSpPr>
          <p:spPr>
            <a:xfrm flipH="1" flipV="1" rot="10800000">
              <a:off x="3153600" y="2742840"/>
              <a:ext cx="1069560" cy="2160"/>
            </a:xfrm>
            <a:prstGeom prst="curvedConnector5">
              <a:avLst>
                <a:gd name="adj1" fmla="val -24983"/>
                <a:gd name="adj2" fmla="val -12000000"/>
                <a:gd name="adj3" fmla="val -24983"/>
              </a:avLst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499" name=""/>
            <p:cNvSpPr/>
            <p:nvPr/>
          </p:nvSpPr>
          <p:spPr>
            <a:xfrm>
              <a:off x="3154680" y="2438280"/>
              <a:ext cx="106884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332520" y="2576160"/>
              <a:ext cx="729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154680" y="2590920"/>
              <a:ext cx="35604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243240" y="2654280"/>
              <a:ext cx="267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fr-FR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7120" y="2590920"/>
              <a:ext cx="35640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867120" y="2654280"/>
              <a:ext cx="267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5" name=""/>
            <p:cNvCxnSpPr>
              <a:stCxn id="1484" idx="4"/>
              <a:endCxn id="1491" idx="2"/>
            </p:cNvCxnSpPr>
            <p:nvPr/>
          </p:nvCxnSpPr>
          <p:spPr>
            <a:xfrm flipH="1" rot="16200000">
              <a:off x="2558160" y="1904400"/>
              <a:ext cx="1591560" cy="191556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6" name=""/>
            <p:cNvCxnSpPr>
              <a:stCxn id="1489" idx="0"/>
              <a:endCxn id="1488" idx="3"/>
            </p:cNvCxnSpPr>
            <p:nvPr/>
          </p:nvCxnSpPr>
          <p:spPr>
            <a:xfrm flipV="1" rot="16200000">
              <a:off x="3139200" y="1591200"/>
              <a:ext cx="1499400" cy="200484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7" name=""/>
            <p:cNvCxnSpPr>
              <a:stCxn id="1499" idx="0"/>
              <a:endCxn id="1488" idx="3"/>
            </p:cNvCxnSpPr>
            <p:nvPr/>
          </p:nvCxnSpPr>
          <p:spPr>
            <a:xfrm flipH="1" flipV="1">
              <a:off x="2886480" y="1843920"/>
              <a:ext cx="802440" cy="5850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508" name=""/>
            <p:cNvCxnSpPr>
              <a:stCxn id="1489" idx="0"/>
              <a:endCxn id="1501" idx="6"/>
            </p:cNvCxnSpPr>
            <p:nvPr/>
          </p:nvCxnSpPr>
          <p:spPr>
            <a:xfrm flipH="1" flipV="1">
              <a:off x="4223160" y="2742480"/>
              <a:ext cx="668160" cy="6008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509" name=""/>
            <p:cNvCxnSpPr>
              <a:stCxn id="1491" idx="2"/>
              <a:endCxn id="1494" idx="3"/>
            </p:cNvCxnSpPr>
            <p:nvPr/>
          </p:nvCxnSpPr>
          <p:spPr>
            <a:xfrm flipH="1" flipV="1" rot="10800000">
              <a:off x="4311360" y="3657240"/>
              <a:ext cx="1158840" cy="16560"/>
            </a:xfrm>
            <a:prstGeom prst="curvedConnector5">
              <a:avLst>
                <a:gd name="adj1" fmla="val -23057"/>
                <a:gd name="adj2" fmla="val 1200000"/>
                <a:gd name="adj3" fmla="val -2305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0" name=""/>
            <p:cNvCxnSpPr>
              <a:stCxn id="1483" idx="2"/>
              <a:endCxn id="1488" idx="3"/>
            </p:cNvCxnSpPr>
            <p:nvPr/>
          </p:nvCxnSpPr>
          <p:spPr>
            <a:xfrm flipH="1" flipV="1" rot="10800000">
              <a:off x="1905840" y="1828440"/>
              <a:ext cx="981000" cy="16560"/>
            </a:xfrm>
            <a:prstGeom prst="curvedConnector5">
              <a:avLst>
                <a:gd name="adj1" fmla="val -27239"/>
                <a:gd name="adj2" fmla="val 1200000"/>
                <a:gd name="adj3" fmla="val -27239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1" name=""/>
            <p:cNvCxnSpPr>
              <a:stCxn id="1480" idx="5"/>
              <a:endCxn id="1491" idx="2"/>
            </p:cNvCxnSpPr>
            <p:nvPr/>
          </p:nvCxnSpPr>
          <p:spPr>
            <a:xfrm flipH="1" rot="16200000">
              <a:off x="2736720" y="2082600"/>
              <a:ext cx="373680" cy="277740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2" name=""/>
            <p:cNvCxnSpPr>
              <a:stCxn id="1484" idx="7"/>
              <a:endCxn id="1478" idx="1"/>
            </p:cNvCxnSpPr>
            <p:nvPr/>
          </p:nvCxnSpPr>
          <p:spPr>
            <a:xfrm flipH="1" rot="16200000">
              <a:off x="4077360" y="258840"/>
              <a:ext cx="534240" cy="3200400"/>
            </a:xfrm>
            <a:prstGeom prst="curvedConnector5">
              <a:avLst>
                <a:gd name="adj1" fmla="val -55630"/>
                <a:gd name="adj2" fmla="val 49994"/>
                <a:gd name="adj3" fmla="val -5563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3" name=""/>
            <p:cNvCxnSpPr>
              <a:stCxn id="1480" idx="6"/>
              <a:endCxn id="1497" idx="2"/>
            </p:cNvCxnSpPr>
            <p:nvPr/>
          </p:nvCxnSpPr>
          <p:spPr>
            <a:xfrm flipV="1">
              <a:off x="1650960" y="2742480"/>
              <a:ext cx="150408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514" name=""/>
            <p:cNvCxnSpPr>
              <a:stCxn id="1501" idx="7"/>
              <a:endCxn id="1478" idx="2"/>
            </p:cNvCxnSpPr>
            <p:nvPr/>
          </p:nvCxnSpPr>
          <p:spPr>
            <a:xfrm flipV="1">
              <a:off x="4171320" y="2323800"/>
              <a:ext cx="1645200" cy="3117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515" name=""/>
            <p:cNvSpPr/>
            <p:nvPr/>
          </p:nvSpPr>
          <p:spPr>
            <a:xfrm>
              <a:off x="4847040" y="1051920"/>
              <a:ext cx="712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(A+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8080" y="1966320"/>
              <a:ext cx="712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956400" y="1890360"/>
              <a:ext cx="71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(A+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1219320" y="2209680"/>
            <a:ext cx="525780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9" name=""/>
          <p:cNvCxnSpPr>
            <a:stCxn id="1520" idx="6"/>
            <a:endCxn id="1521" idx="2"/>
          </p:cNvCxnSpPr>
          <p:nvPr/>
        </p:nvCxnSpPr>
        <p:spPr>
          <a:xfrm>
            <a:off x="1761840" y="38890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22" name=""/>
          <p:cNvGrpSpPr/>
          <p:nvPr/>
        </p:nvGrpSpPr>
        <p:grpSpPr>
          <a:xfrm>
            <a:off x="1447920" y="3048120"/>
            <a:ext cx="304560" cy="309600"/>
            <a:chOff x="1447920" y="3048120"/>
            <a:chExt cx="304560" cy="309600"/>
          </a:xfrm>
        </p:grpSpPr>
        <p:sp>
          <p:nvSpPr>
            <p:cNvPr id="1523" name=""/>
            <p:cNvSpPr/>
            <p:nvPr/>
          </p:nvSpPr>
          <p:spPr>
            <a:xfrm>
              <a:off x="1447920" y="30481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482840" y="30916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447920" y="2362320"/>
            <a:ext cx="304560" cy="309600"/>
            <a:chOff x="1447920" y="2362320"/>
            <a:chExt cx="304560" cy="309600"/>
          </a:xfrm>
        </p:grpSpPr>
        <p:sp>
          <p:nvSpPr>
            <p:cNvPr id="1526" name=""/>
            <p:cNvSpPr/>
            <p:nvPr/>
          </p:nvSpPr>
          <p:spPr>
            <a:xfrm>
              <a:off x="1447920" y="23623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482840" y="240480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8" name=""/>
          <p:cNvGrpSpPr/>
          <p:nvPr/>
        </p:nvGrpSpPr>
        <p:grpSpPr>
          <a:xfrm>
            <a:off x="1447920" y="1676520"/>
            <a:ext cx="304560" cy="309600"/>
            <a:chOff x="1447920" y="1676520"/>
            <a:chExt cx="304560" cy="309600"/>
          </a:xfrm>
        </p:grpSpPr>
        <p:sp>
          <p:nvSpPr>
            <p:cNvPr id="1529" name=""/>
            <p:cNvSpPr/>
            <p:nvPr/>
          </p:nvSpPr>
          <p:spPr>
            <a:xfrm>
              <a:off x="1447920" y="16765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482840" y="17200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1447920" y="3733920"/>
            <a:ext cx="304560" cy="309600"/>
            <a:chOff x="1447920" y="3733920"/>
            <a:chExt cx="304560" cy="309600"/>
          </a:xfrm>
        </p:grpSpPr>
        <p:sp>
          <p:nvSpPr>
            <p:cNvPr id="1520" name=""/>
            <p:cNvSpPr/>
            <p:nvPr/>
          </p:nvSpPr>
          <p:spPr>
            <a:xfrm>
              <a:off x="1447920" y="37339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482840" y="37774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3809880" y="609480"/>
            <a:ext cx="0" cy="4038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990720" y="434340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5" name=""/>
          <p:cNvCxnSpPr>
            <a:stCxn id="1523" idx="6"/>
            <a:endCxn id="1536" idx="2"/>
          </p:cNvCxnSpPr>
          <p:nvPr/>
        </p:nvCxnSpPr>
        <p:spPr>
          <a:xfrm>
            <a:off x="1761840" y="32032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7" name=""/>
          <p:cNvCxnSpPr>
            <a:stCxn id="1526" idx="6"/>
            <a:endCxn id="1538" idx="2"/>
          </p:cNvCxnSpPr>
          <p:nvPr/>
        </p:nvCxnSpPr>
        <p:spPr>
          <a:xfrm>
            <a:off x="1761840" y="25174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9" name=""/>
          <p:cNvCxnSpPr>
            <a:stCxn id="1529" idx="6"/>
            <a:endCxn id="1540" idx="2"/>
          </p:cNvCxnSpPr>
          <p:nvPr/>
        </p:nvCxnSpPr>
        <p:spPr>
          <a:xfrm>
            <a:off x="1761840" y="18316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1" name=""/>
          <p:cNvSpPr/>
          <p:nvPr/>
        </p:nvSpPr>
        <p:spPr>
          <a:xfrm>
            <a:off x="2133720" y="43434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295280" y="762120"/>
            <a:ext cx="1143000" cy="342900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1295280" y="762120"/>
            <a:ext cx="533520" cy="765720"/>
            <a:chOff x="1295280" y="762120"/>
            <a:chExt cx="533520" cy="765720"/>
          </a:xfrm>
        </p:grpSpPr>
        <p:sp>
          <p:nvSpPr>
            <p:cNvPr id="1544" name=""/>
            <p:cNvSpPr/>
            <p:nvPr/>
          </p:nvSpPr>
          <p:spPr>
            <a:xfrm>
              <a:off x="1295280" y="838080"/>
              <a:ext cx="533520" cy="68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295280" y="762120"/>
              <a:ext cx="457200" cy="76176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2438280" y="762120"/>
            <a:ext cx="1143000" cy="342900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3124080" y="762120"/>
            <a:ext cx="533520" cy="765720"/>
            <a:chOff x="3124080" y="762120"/>
            <a:chExt cx="533520" cy="765720"/>
          </a:xfrm>
        </p:grpSpPr>
        <p:sp>
          <p:nvSpPr>
            <p:cNvPr id="1548" name=""/>
            <p:cNvSpPr/>
            <p:nvPr/>
          </p:nvSpPr>
          <p:spPr>
            <a:xfrm>
              <a:off x="3124080" y="838080"/>
              <a:ext cx="533520" cy="68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124080" y="762120"/>
              <a:ext cx="457200" cy="76176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2666880" y="4724280"/>
            <a:ext cx="251460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veau d’imbrication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1" name=""/>
          <p:cNvCxnSpPr>
            <a:stCxn id="1550" idx="3"/>
            <a:endCxn id="1552" idx="3"/>
          </p:cNvCxnSpPr>
          <p:nvPr/>
        </p:nvCxnSpPr>
        <p:spPr>
          <a:xfrm flipV="1">
            <a:off x="5191200" y="2476080"/>
            <a:ext cx="1219680" cy="2410560"/>
          </a:xfrm>
          <a:prstGeom prst="bentConnector3">
            <a:avLst>
              <a:gd name="adj1" fmla="val 13658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53" name=""/>
          <p:cNvGrpSpPr/>
          <p:nvPr/>
        </p:nvGrpSpPr>
        <p:grpSpPr>
          <a:xfrm>
            <a:off x="2286000" y="3733920"/>
            <a:ext cx="304920" cy="309600"/>
            <a:chOff x="2286000" y="3733920"/>
            <a:chExt cx="304920" cy="309600"/>
          </a:xfrm>
        </p:grpSpPr>
        <p:sp>
          <p:nvSpPr>
            <p:cNvPr id="1521" name=""/>
            <p:cNvSpPr/>
            <p:nvPr/>
          </p:nvSpPr>
          <p:spPr>
            <a:xfrm>
              <a:off x="2286000" y="37339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320920" y="37774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2286000" y="3048120"/>
            <a:ext cx="304920" cy="309600"/>
            <a:chOff x="2286000" y="3048120"/>
            <a:chExt cx="304920" cy="309600"/>
          </a:xfrm>
        </p:grpSpPr>
        <p:sp>
          <p:nvSpPr>
            <p:cNvPr id="1536" name=""/>
            <p:cNvSpPr/>
            <p:nvPr/>
          </p:nvSpPr>
          <p:spPr>
            <a:xfrm>
              <a:off x="2286000" y="30481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320920" y="30916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57" name=""/>
          <p:cNvCxnSpPr>
            <a:stCxn id="1521" idx="1"/>
            <a:endCxn id="1523" idx="5"/>
          </p:cNvCxnSpPr>
          <p:nvPr/>
        </p:nvCxnSpPr>
        <p:spPr>
          <a:xfrm flipH="1" flipV="1">
            <a:off x="1707840" y="33206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8" name=""/>
          <p:cNvCxnSpPr>
            <a:stCxn id="1536" idx="1"/>
            <a:endCxn id="1526" idx="5"/>
          </p:cNvCxnSpPr>
          <p:nvPr/>
        </p:nvCxnSpPr>
        <p:spPr>
          <a:xfrm flipH="1" flipV="1">
            <a:off x="1707840" y="26348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59" name=""/>
          <p:cNvGrpSpPr/>
          <p:nvPr/>
        </p:nvGrpSpPr>
        <p:grpSpPr>
          <a:xfrm>
            <a:off x="2286000" y="2362320"/>
            <a:ext cx="304920" cy="309600"/>
            <a:chOff x="2286000" y="2362320"/>
            <a:chExt cx="304920" cy="309600"/>
          </a:xfrm>
        </p:grpSpPr>
        <p:sp>
          <p:nvSpPr>
            <p:cNvPr id="1538" name=""/>
            <p:cNvSpPr/>
            <p:nvPr/>
          </p:nvSpPr>
          <p:spPr>
            <a:xfrm>
              <a:off x="2286000" y="23623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320920" y="240480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1" name=""/>
          <p:cNvCxnSpPr>
            <a:stCxn id="1538" idx="1"/>
            <a:endCxn id="1529" idx="5"/>
          </p:cNvCxnSpPr>
          <p:nvPr/>
        </p:nvCxnSpPr>
        <p:spPr>
          <a:xfrm flipH="1" flipV="1">
            <a:off x="1707840" y="19490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62" name=""/>
          <p:cNvGrpSpPr/>
          <p:nvPr/>
        </p:nvGrpSpPr>
        <p:grpSpPr>
          <a:xfrm>
            <a:off x="2286000" y="1676520"/>
            <a:ext cx="304920" cy="309600"/>
            <a:chOff x="2286000" y="1676520"/>
            <a:chExt cx="304920" cy="309600"/>
          </a:xfrm>
        </p:grpSpPr>
        <p:sp>
          <p:nvSpPr>
            <p:cNvPr id="1540" name=""/>
            <p:cNvSpPr/>
            <p:nvPr/>
          </p:nvSpPr>
          <p:spPr>
            <a:xfrm>
              <a:off x="2286000" y="16765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320920" y="17200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4" name=""/>
          <p:cNvCxnSpPr>
            <a:stCxn id="1540" idx="1"/>
            <a:endCxn id="1565" idx="3"/>
          </p:cNvCxnSpPr>
          <p:nvPr/>
        </p:nvCxnSpPr>
        <p:spPr>
          <a:xfrm flipV="1">
            <a:off x="2329920" y="1339560"/>
            <a:ext cx="1080" cy="37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66" name=""/>
          <p:cNvGrpSpPr/>
          <p:nvPr/>
        </p:nvGrpSpPr>
        <p:grpSpPr>
          <a:xfrm>
            <a:off x="2286000" y="1066680"/>
            <a:ext cx="304920" cy="309600"/>
            <a:chOff x="2286000" y="1066680"/>
            <a:chExt cx="304920" cy="309600"/>
          </a:xfrm>
        </p:grpSpPr>
        <p:sp>
          <p:nvSpPr>
            <p:cNvPr id="1565" name=""/>
            <p:cNvSpPr/>
            <p:nvPr/>
          </p:nvSpPr>
          <p:spPr>
            <a:xfrm>
              <a:off x="2286000" y="106668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320920" y="111024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3124080" y="3048120"/>
            <a:ext cx="304920" cy="309600"/>
            <a:chOff x="3124080" y="3048120"/>
            <a:chExt cx="304920" cy="309600"/>
          </a:xfrm>
        </p:grpSpPr>
        <p:sp>
          <p:nvSpPr>
            <p:cNvPr id="1569" name=""/>
            <p:cNvSpPr/>
            <p:nvPr/>
          </p:nvSpPr>
          <p:spPr>
            <a:xfrm>
              <a:off x="3124080" y="30481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159000" y="30916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3124080" y="2362320"/>
            <a:ext cx="304920" cy="309600"/>
            <a:chOff x="3124080" y="2362320"/>
            <a:chExt cx="304920" cy="309600"/>
          </a:xfrm>
        </p:grpSpPr>
        <p:sp>
          <p:nvSpPr>
            <p:cNvPr id="1572" name=""/>
            <p:cNvSpPr/>
            <p:nvPr/>
          </p:nvSpPr>
          <p:spPr>
            <a:xfrm>
              <a:off x="3124080" y="23623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59000" y="240480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3124080" y="1676520"/>
            <a:ext cx="304920" cy="309600"/>
            <a:chOff x="3124080" y="1676520"/>
            <a:chExt cx="304920" cy="309600"/>
          </a:xfrm>
        </p:grpSpPr>
        <p:sp>
          <p:nvSpPr>
            <p:cNvPr id="1575" name=""/>
            <p:cNvSpPr/>
            <p:nvPr/>
          </p:nvSpPr>
          <p:spPr>
            <a:xfrm>
              <a:off x="3124080" y="16765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59000" y="17200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77" name=""/>
          <p:cNvCxnSpPr>
            <a:stCxn id="1565" idx="5"/>
            <a:endCxn id="1540" idx="7"/>
          </p:cNvCxnSpPr>
          <p:nvPr/>
        </p:nvCxnSpPr>
        <p:spPr>
          <a:xfrm>
            <a:off x="2545920" y="1339920"/>
            <a:ext cx="1080" cy="37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8" name=""/>
          <p:cNvCxnSpPr>
            <a:stCxn id="1540" idx="6"/>
            <a:endCxn id="1575" idx="2"/>
          </p:cNvCxnSpPr>
          <p:nvPr/>
        </p:nvCxnSpPr>
        <p:spPr>
          <a:xfrm>
            <a:off x="2599920" y="18316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9" name=""/>
          <p:cNvCxnSpPr>
            <a:stCxn id="1575" idx="3"/>
            <a:endCxn id="1538" idx="7"/>
          </p:cNvCxnSpPr>
          <p:nvPr/>
        </p:nvCxnSpPr>
        <p:spPr>
          <a:xfrm flipH="1">
            <a:off x="2545560" y="1949400"/>
            <a:ext cx="62316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0" name=""/>
          <p:cNvCxnSpPr>
            <a:stCxn id="1538" idx="6"/>
            <a:endCxn id="1572" idx="2"/>
          </p:cNvCxnSpPr>
          <p:nvPr/>
        </p:nvCxnSpPr>
        <p:spPr>
          <a:xfrm>
            <a:off x="2599920" y="25174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1" name=""/>
          <p:cNvCxnSpPr>
            <a:stCxn id="1572" idx="3"/>
            <a:endCxn id="1536" idx="7"/>
          </p:cNvCxnSpPr>
          <p:nvPr/>
        </p:nvCxnSpPr>
        <p:spPr>
          <a:xfrm flipH="1">
            <a:off x="2545560" y="2635200"/>
            <a:ext cx="62316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2" name=""/>
          <p:cNvCxnSpPr>
            <a:stCxn id="1536" idx="6"/>
            <a:endCxn id="1569" idx="2"/>
          </p:cNvCxnSpPr>
          <p:nvPr/>
        </p:nvCxnSpPr>
        <p:spPr>
          <a:xfrm>
            <a:off x="2599920" y="32032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3" name=""/>
          <p:cNvCxnSpPr>
            <a:stCxn id="1569" idx="3"/>
            <a:endCxn id="1521" idx="7"/>
          </p:cNvCxnSpPr>
          <p:nvPr/>
        </p:nvCxnSpPr>
        <p:spPr>
          <a:xfrm flipH="1">
            <a:off x="2545560" y="3321000"/>
            <a:ext cx="62316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4" name=""/>
          <p:cNvSpPr/>
          <p:nvPr/>
        </p:nvSpPr>
        <p:spPr>
          <a:xfrm>
            <a:off x="990720" y="609480"/>
            <a:ext cx="0" cy="4038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5" name=""/>
          <p:cNvCxnSpPr>
            <a:stCxn id="1586" idx="6"/>
            <a:endCxn id="1587" idx="2"/>
          </p:cNvCxnSpPr>
          <p:nvPr/>
        </p:nvCxnSpPr>
        <p:spPr>
          <a:xfrm>
            <a:off x="5419440" y="38890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88" name=""/>
          <p:cNvGrpSpPr/>
          <p:nvPr/>
        </p:nvGrpSpPr>
        <p:grpSpPr>
          <a:xfrm>
            <a:off x="4267080" y="3048120"/>
            <a:ext cx="304920" cy="309600"/>
            <a:chOff x="4267080" y="3048120"/>
            <a:chExt cx="304920" cy="309600"/>
          </a:xfrm>
        </p:grpSpPr>
        <p:sp>
          <p:nvSpPr>
            <p:cNvPr id="1589" name=""/>
            <p:cNvSpPr/>
            <p:nvPr/>
          </p:nvSpPr>
          <p:spPr>
            <a:xfrm>
              <a:off x="4267080" y="30481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302000" y="30916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4267080" y="2362320"/>
            <a:ext cx="304920" cy="309600"/>
            <a:chOff x="4267080" y="2362320"/>
            <a:chExt cx="304920" cy="309600"/>
          </a:xfrm>
        </p:grpSpPr>
        <p:sp>
          <p:nvSpPr>
            <p:cNvPr id="1592" name=""/>
            <p:cNvSpPr/>
            <p:nvPr/>
          </p:nvSpPr>
          <p:spPr>
            <a:xfrm>
              <a:off x="4267080" y="23623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302000" y="240480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4267080" y="1676520"/>
            <a:ext cx="304920" cy="309600"/>
            <a:chOff x="4267080" y="1676520"/>
            <a:chExt cx="304920" cy="309600"/>
          </a:xfrm>
        </p:grpSpPr>
        <p:sp>
          <p:nvSpPr>
            <p:cNvPr id="1595" name=""/>
            <p:cNvSpPr/>
            <p:nvPr/>
          </p:nvSpPr>
          <p:spPr>
            <a:xfrm>
              <a:off x="4267080" y="16765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302000" y="17200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7" name=""/>
          <p:cNvSpPr/>
          <p:nvPr/>
        </p:nvSpPr>
        <p:spPr>
          <a:xfrm>
            <a:off x="6629400" y="609480"/>
            <a:ext cx="0" cy="4038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809880" y="4343400"/>
            <a:ext cx="2819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9" name=""/>
          <p:cNvCxnSpPr>
            <a:stCxn id="1589" idx="6"/>
            <a:endCxn id="1600" idx="2"/>
          </p:cNvCxnSpPr>
          <p:nvPr/>
        </p:nvCxnSpPr>
        <p:spPr>
          <a:xfrm>
            <a:off x="4581000" y="32032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1" name=""/>
          <p:cNvCxnSpPr>
            <a:stCxn id="1592" idx="6"/>
            <a:endCxn id="1602" idx="2"/>
          </p:cNvCxnSpPr>
          <p:nvPr/>
        </p:nvCxnSpPr>
        <p:spPr>
          <a:xfrm>
            <a:off x="4581000" y="25174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3" name=""/>
          <p:cNvCxnSpPr>
            <a:stCxn id="1595" idx="6"/>
            <a:endCxn id="1604" idx="2"/>
          </p:cNvCxnSpPr>
          <p:nvPr/>
        </p:nvCxnSpPr>
        <p:spPr>
          <a:xfrm>
            <a:off x="4581000" y="18316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5" name=""/>
          <p:cNvSpPr/>
          <p:nvPr/>
        </p:nvSpPr>
        <p:spPr>
          <a:xfrm>
            <a:off x="4952880" y="4343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114800" y="762120"/>
            <a:ext cx="1143000" cy="342900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4114800" y="762120"/>
            <a:ext cx="533520" cy="765720"/>
            <a:chOff x="4114800" y="762120"/>
            <a:chExt cx="533520" cy="765720"/>
          </a:xfrm>
        </p:grpSpPr>
        <p:sp>
          <p:nvSpPr>
            <p:cNvPr id="1608" name=""/>
            <p:cNvSpPr/>
            <p:nvPr/>
          </p:nvSpPr>
          <p:spPr>
            <a:xfrm>
              <a:off x="4114800" y="838080"/>
              <a:ext cx="533520" cy="68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fr-FR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fr-FR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114800" y="762120"/>
              <a:ext cx="457200" cy="76176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"/>
          <p:cNvSpPr/>
          <p:nvPr/>
        </p:nvSpPr>
        <p:spPr>
          <a:xfrm>
            <a:off x="5257800" y="762120"/>
            <a:ext cx="1143000" cy="342900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0" name=""/>
          <p:cNvGrpSpPr/>
          <p:nvPr/>
        </p:nvGrpSpPr>
        <p:grpSpPr>
          <a:xfrm>
            <a:off x="5943600" y="762120"/>
            <a:ext cx="533520" cy="765720"/>
            <a:chOff x="5943600" y="762120"/>
            <a:chExt cx="533520" cy="765720"/>
          </a:xfrm>
        </p:grpSpPr>
        <p:sp>
          <p:nvSpPr>
            <p:cNvPr id="1611" name=""/>
            <p:cNvSpPr/>
            <p:nvPr/>
          </p:nvSpPr>
          <p:spPr>
            <a:xfrm>
              <a:off x="5943600" y="838080"/>
              <a:ext cx="533520" cy="68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fr-FR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fr-FR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943600" y="762120"/>
              <a:ext cx="457200" cy="76176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5105520" y="3733920"/>
            <a:ext cx="304560" cy="309600"/>
            <a:chOff x="5105520" y="3733920"/>
            <a:chExt cx="304560" cy="309600"/>
          </a:xfrm>
        </p:grpSpPr>
        <p:sp>
          <p:nvSpPr>
            <p:cNvPr id="1586" name=""/>
            <p:cNvSpPr/>
            <p:nvPr/>
          </p:nvSpPr>
          <p:spPr>
            <a:xfrm>
              <a:off x="5105520" y="37339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40440" y="37774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5" name=""/>
          <p:cNvGrpSpPr/>
          <p:nvPr/>
        </p:nvGrpSpPr>
        <p:grpSpPr>
          <a:xfrm>
            <a:off x="5105520" y="3048120"/>
            <a:ext cx="304560" cy="309600"/>
            <a:chOff x="5105520" y="3048120"/>
            <a:chExt cx="304560" cy="309600"/>
          </a:xfrm>
        </p:grpSpPr>
        <p:sp>
          <p:nvSpPr>
            <p:cNvPr id="1600" name=""/>
            <p:cNvSpPr/>
            <p:nvPr/>
          </p:nvSpPr>
          <p:spPr>
            <a:xfrm>
              <a:off x="5105520" y="30481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140440" y="30916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17" name=""/>
          <p:cNvCxnSpPr>
            <a:stCxn id="1586" idx="1"/>
            <a:endCxn id="1589" idx="5"/>
          </p:cNvCxnSpPr>
          <p:nvPr/>
        </p:nvCxnSpPr>
        <p:spPr>
          <a:xfrm flipH="1" flipV="1">
            <a:off x="4527360" y="33206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8" name=""/>
          <p:cNvCxnSpPr>
            <a:stCxn id="1600" idx="1"/>
            <a:endCxn id="1592" idx="5"/>
          </p:cNvCxnSpPr>
          <p:nvPr/>
        </p:nvCxnSpPr>
        <p:spPr>
          <a:xfrm flipH="1" flipV="1">
            <a:off x="4527360" y="26348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19" name=""/>
          <p:cNvGrpSpPr/>
          <p:nvPr/>
        </p:nvGrpSpPr>
        <p:grpSpPr>
          <a:xfrm>
            <a:off x="5105520" y="2362320"/>
            <a:ext cx="304560" cy="309600"/>
            <a:chOff x="5105520" y="2362320"/>
            <a:chExt cx="304560" cy="309600"/>
          </a:xfrm>
        </p:grpSpPr>
        <p:sp>
          <p:nvSpPr>
            <p:cNvPr id="1602" name=""/>
            <p:cNvSpPr/>
            <p:nvPr/>
          </p:nvSpPr>
          <p:spPr>
            <a:xfrm>
              <a:off x="5105520" y="23623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140440" y="240480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21" name=""/>
          <p:cNvCxnSpPr>
            <a:stCxn id="1602" idx="1"/>
            <a:endCxn id="1595" idx="5"/>
          </p:cNvCxnSpPr>
          <p:nvPr/>
        </p:nvCxnSpPr>
        <p:spPr>
          <a:xfrm flipH="1" flipV="1">
            <a:off x="4527360" y="19490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22" name=""/>
          <p:cNvGrpSpPr/>
          <p:nvPr/>
        </p:nvGrpSpPr>
        <p:grpSpPr>
          <a:xfrm>
            <a:off x="5105520" y="1676520"/>
            <a:ext cx="304560" cy="309600"/>
            <a:chOff x="5105520" y="1676520"/>
            <a:chExt cx="304560" cy="309600"/>
          </a:xfrm>
        </p:grpSpPr>
        <p:sp>
          <p:nvSpPr>
            <p:cNvPr id="1604" name=""/>
            <p:cNvSpPr/>
            <p:nvPr/>
          </p:nvSpPr>
          <p:spPr>
            <a:xfrm>
              <a:off x="5105520" y="16765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140440" y="17200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24" name=""/>
          <p:cNvCxnSpPr>
            <a:stCxn id="1604" idx="1"/>
            <a:endCxn id="1625" idx="3"/>
          </p:cNvCxnSpPr>
          <p:nvPr/>
        </p:nvCxnSpPr>
        <p:spPr>
          <a:xfrm flipV="1">
            <a:off x="5149440" y="1339560"/>
            <a:ext cx="1080" cy="37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26" name=""/>
          <p:cNvGrpSpPr/>
          <p:nvPr/>
        </p:nvGrpSpPr>
        <p:grpSpPr>
          <a:xfrm>
            <a:off x="5105520" y="1066680"/>
            <a:ext cx="304560" cy="309600"/>
            <a:chOff x="5105520" y="1066680"/>
            <a:chExt cx="304560" cy="309600"/>
          </a:xfrm>
        </p:grpSpPr>
        <p:sp>
          <p:nvSpPr>
            <p:cNvPr id="1625" name=""/>
            <p:cNvSpPr/>
            <p:nvPr/>
          </p:nvSpPr>
          <p:spPr>
            <a:xfrm>
              <a:off x="5105520" y="106668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140440" y="111024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8" name=""/>
          <p:cNvGrpSpPr/>
          <p:nvPr/>
        </p:nvGrpSpPr>
        <p:grpSpPr>
          <a:xfrm>
            <a:off x="5943600" y="3048120"/>
            <a:ext cx="304920" cy="309600"/>
            <a:chOff x="5943600" y="3048120"/>
            <a:chExt cx="304920" cy="309600"/>
          </a:xfrm>
        </p:grpSpPr>
        <p:sp>
          <p:nvSpPr>
            <p:cNvPr id="1629" name=""/>
            <p:cNvSpPr/>
            <p:nvPr/>
          </p:nvSpPr>
          <p:spPr>
            <a:xfrm>
              <a:off x="5943600" y="30481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978520" y="30916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5943600" y="2362320"/>
            <a:ext cx="304920" cy="309600"/>
            <a:chOff x="5943600" y="2362320"/>
            <a:chExt cx="304920" cy="309600"/>
          </a:xfrm>
        </p:grpSpPr>
        <p:sp>
          <p:nvSpPr>
            <p:cNvPr id="1632" name=""/>
            <p:cNvSpPr/>
            <p:nvPr/>
          </p:nvSpPr>
          <p:spPr>
            <a:xfrm>
              <a:off x="5943600" y="23623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978520" y="240480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4" name=""/>
          <p:cNvGrpSpPr/>
          <p:nvPr/>
        </p:nvGrpSpPr>
        <p:grpSpPr>
          <a:xfrm>
            <a:off x="5943600" y="1676520"/>
            <a:ext cx="304920" cy="309600"/>
            <a:chOff x="5943600" y="1676520"/>
            <a:chExt cx="304920" cy="309600"/>
          </a:xfrm>
        </p:grpSpPr>
        <p:sp>
          <p:nvSpPr>
            <p:cNvPr id="1635" name=""/>
            <p:cNvSpPr/>
            <p:nvPr/>
          </p:nvSpPr>
          <p:spPr>
            <a:xfrm>
              <a:off x="5943600" y="16765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978520" y="17200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37" name=""/>
          <p:cNvCxnSpPr>
            <a:stCxn id="1625" idx="5"/>
            <a:endCxn id="1604" idx="7"/>
          </p:cNvCxnSpPr>
          <p:nvPr/>
        </p:nvCxnSpPr>
        <p:spPr>
          <a:xfrm>
            <a:off x="5365440" y="1339920"/>
            <a:ext cx="1080" cy="37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8" name=""/>
          <p:cNvCxnSpPr>
            <a:stCxn id="1604" idx="6"/>
            <a:endCxn id="1635" idx="2"/>
          </p:cNvCxnSpPr>
          <p:nvPr/>
        </p:nvCxnSpPr>
        <p:spPr>
          <a:xfrm>
            <a:off x="5419440" y="18316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9" name=""/>
          <p:cNvCxnSpPr>
            <a:stCxn id="1635" idx="3"/>
            <a:endCxn id="1602" idx="7"/>
          </p:cNvCxnSpPr>
          <p:nvPr/>
        </p:nvCxnSpPr>
        <p:spPr>
          <a:xfrm flipH="1">
            <a:off x="5365440" y="194940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0" name=""/>
          <p:cNvCxnSpPr>
            <a:stCxn id="1602" idx="6"/>
            <a:endCxn id="1632" idx="2"/>
          </p:cNvCxnSpPr>
          <p:nvPr/>
        </p:nvCxnSpPr>
        <p:spPr>
          <a:xfrm>
            <a:off x="5419440" y="25174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1" name=""/>
          <p:cNvCxnSpPr>
            <a:stCxn id="1632" idx="3"/>
            <a:endCxn id="1600" idx="7"/>
          </p:cNvCxnSpPr>
          <p:nvPr/>
        </p:nvCxnSpPr>
        <p:spPr>
          <a:xfrm flipH="1">
            <a:off x="5365440" y="263520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2" name=""/>
          <p:cNvCxnSpPr>
            <a:stCxn id="1600" idx="6"/>
            <a:endCxn id="1629" idx="2"/>
          </p:cNvCxnSpPr>
          <p:nvPr/>
        </p:nvCxnSpPr>
        <p:spPr>
          <a:xfrm>
            <a:off x="5419440" y="32032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3" name=""/>
          <p:cNvCxnSpPr>
            <a:stCxn id="1629" idx="3"/>
            <a:endCxn id="1586" idx="7"/>
          </p:cNvCxnSpPr>
          <p:nvPr/>
        </p:nvCxnSpPr>
        <p:spPr>
          <a:xfrm flipH="1">
            <a:off x="5365440" y="332100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44" name=""/>
          <p:cNvGrpSpPr/>
          <p:nvPr/>
        </p:nvGrpSpPr>
        <p:grpSpPr>
          <a:xfrm>
            <a:off x="5943600" y="3733920"/>
            <a:ext cx="304920" cy="309600"/>
            <a:chOff x="5943600" y="3733920"/>
            <a:chExt cx="304920" cy="309600"/>
          </a:xfrm>
        </p:grpSpPr>
        <p:sp>
          <p:nvSpPr>
            <p:cNvPr id="1587" name=""/>
            <p:cNvSpPr/>
            <p:nvPr/>
          </p:nvSpPr>
          <p:spPr>
            <a:xfrm>
              <a:off x="5943600" y="37339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978520" y="37774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6" name=""/>
          <p:cNvCxnSpPr>
            <a:stCxn id="1521" idx="6"/>
            <a:endCxn id="1586" idx="2"/>
          </p:cNvCxnSpPr>
          <p:nvPr/>
        </p:nvCxnSpPr>
        <p:spPr>
          <a:xfrm>
            <a:off x="2600280" y="3889080"/>
            <a:ext cx="249624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47" name=""/>
          <p:cNvSpPr/>
          <p:nvPr/>
        </p:nvSpPr>
        <p:spPr>
          <a:xfrm>
            <a:off x="2590920" y="2895480"/>
            <a:ext cx="2514600" cy="304920"/>
          </a:xfrm>
          <a:custGeom>
            <a:avLst/>
            <a:gdLst/>
            <a:ahLst/>
            <a:rect l="l" t="t" r="r" b="b"/>
            <a:pathLst>
              <a:path w="1584" h="192">
                <a:moveTo>
                  <a:pt x="0" y="192"/>
                </a:moveTo>
                <a:cubicBezTo>
                  <a:pt x="252" y="96"/>
                  <a:pt x="504" y="0"/>
                  <a:pt x="768" y="0"/>
                </a:cubicBezTo>
                <a:cubicBezTo>
                  <a:pt x="1032" y="0"/>
                  <a:pt x="1448" y="160"/>
                  <a:pt x="1584" y="19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590920" y="2209680"/>
            <a:ext cx="2514600" cy="304920"/>
          </a:xfrm>
          <a:custGeom>
            <a:avLst/>
            <a:gdLst/>
            <a:ahLst/>
            <a:rect l="l" t="t" r="r" b="b"/>
            <a:pathLst>
              <a:path w="1584" h="192">
                <a:moveTo>
                  <a:pt x="0" y="192"/>
                </a:moveTo>
                <a:cubicBezTo>
                  <a:pt x="252" y="96"/>
                  <a:pt x="504" y="0"/>
                  <a:pt x="768" y="0"/>
                </a:cubicBezTo>
                <a:cubicBezTo>
                  <a:pt x="1032" y="0"/>
                  <a:pt x="1448" y="160"/>
                  <a:pt x="1584" y="19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590920" y="1523880"/>
            <a:ext cx="2514600" cy="304920"/>
          </a:xfrm>
          <a:custGeom>
            <a:avLst/>
            <a:gdLst/>
            <a:ahLst/>
            <a:rect l="l" t="t" r="r" b="b"/>
            <a:pathLst>
              <a:path w="1584" h="192">
                <a:moveTo>
                  <a:pt x="0" y="192"/>
                </a:moveTo>
                <a:cubicBezTo>
                  <a:pt x="252" y="96"/>
                  <a:pt x="504" y="0"/>
                  <a:pt x="768" y="0"/>
                </a:cubicBezTo>
                <a:cubicBezTo>
                  <a:pt x="1032" y="0"/>
                  <a:pt x="1448" y="160"/>
                  <a:pt x="1584" y="19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0" name=""/>
          <p:cNvGrpSpPr/>
          <p:nvPr/>
        </p:nvGrpSpPr>
        <p:grpSpPr>
          <a:xfrm>
            <a:off x="762120" y="152280"/>
            <a:ext cx="7610400" cy="2288520"/>
            <a:chOff x="762120" y="152280"/>
            <a:chExt cx="7610400" cy="2288520"/>
          </a:xfrm>
        </p:grpSpPr>
        <p:grpSp>
          <p:nvGrpSpPr>
            <p:cNvPr id="1651" name=""/>
            <p:cNvGrpSpPr/>
            <p:nvPr/>
          </p:nvGrpSpPr>
          <p:grpSpPr>
            <a:xfrm>
              <a:off x="762120" y="1066680"/>
              <a:ext cx="533160" cy="457200"/>
              <a:chOff x="762120" y="1066680"/>
              <a:chExt cx="533160" cy="457200"/>
            </a:xfrm>
          </p:grpSpPr>
          <p:sp>
            <p:nvSpPr>
              <p:cNvPr id="1652" name=""/>
              <p:cNvSpPr/>
              <p:nvPr/>
            </p:nvSpPr>
            <p:spPr>
              <a:xfrm>
                <a:off x="762120" y="106668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921960" y="1131840"/>
                <a:ext cx="246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"/>
            <p:cNvGrpSpPr/>
            <p:nvPr/>
          </p:nvGrpSpPr>
          <p:grpSpPr>
            <a:xfrm>
              <a:off x="1523880" y="1066680"/>
              <a:ext cx="533520" cy="457200"/>
              <a:chOff x="1523880" y="1066680"/>
              <a:chExt cx="533520" cy="457200"/>
            </a:xfrm>
          </p:grpSpPr>
          <p:sp>
            <p:nvSpPr>
              <p:cNvPr id="1655" name=""/>
              <p:cNvSpPr/>
              <p:nvPr/>
            </p:nvSpPr>
            <p:spPr>
              <a:xfrm>
                <a:off x="1523880" y="106668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600200" y="113184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57" name=""/>
            <p:cNvCxnSpPr>
              <a:stCxn id="1652" idx="6"/>
              <a:endCxn id="1655" idx="2"/>
            </p:cNvCxnSpPr>
            <p:nvPr/>
          </p:nvCxnSpPr>
          <p:spPr>
            <a:xfrm>
              <a:off x="1305000" y="1294920"/>
              <a:ext cx="210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8" name=""/>
            <p:cNvCxnSpPr>
              <a:stCxn id="1655" idx="6"/>
              <a:endCxn id="1659" idx="2"/>
            </p:cNvCxnSpPr>
            <p:nvPr/>
          </p:nvCxnSpPr>
          <p:spPr>
            <a:xfrm>
              <a:off x="2066400" y="1294920"/>
              <a:ext cx="13428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0" name=""/>
            <p:cNvCxnSpPr>
              <a:stCxn id="1655" idx="6"/>
              <a:endCxn id="1661" idx="2"/>
            </p:cNvCxnSpPr>
            <p:nvPr/>
          </p:nvCxnSpPr>
          <p:spPr>
            <a:xfrm flipV="1">
              <a:off x="2066760" y="914040"/>
              <a:ext cx="36252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2" name=""/>
            <p:cNvCxnSpPr>
              <a:stCxn id="1659" idx="6"/>
              <a:endCxn id="1663" idx="2"/>
            </p:cNvCxnSpPr>
            <p:nvPr/>
          </p:nvCxnSpPr>
          <p:spPr>
            <a:xfrm>
              <a:off x="2752200" y="15998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4" name=""/>
            <p:cNvCxnSpPr>
              <a:stCxn id="1661" idx="6"/>
              <a:endCxn id="1665" idx="2"/>
            </p:cNvCxnSpPr>
            <p:nvPr/>
          </p:nvCxnSpPr>
          <p:spPr>
            <a:xfrm>
              <a:off x="3133440" y="914040"/>
              <a:ext cx="36252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6" name=""/>
            <p:cNvCxnSpPr>
              <a:stCxn id="1663" idx="6"/>
              <a:endCxn id="1665" idx="2"/>
            </p:cNvCxnSpPr>
            <p:nvPr/>
          </p:nvCxnSpPr>
          <p:spPr>
            <a:xfrm flipV="1">
              <a:off x="3438000" y="1218960"/>
              <a:ext cx="5796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7" name=""/>
            <p:cNvCxnSpPr>
              <a:stCxn id="1665" idx="6"/>
              <a:endCxn id="1668" idx="2"/>
            </p:cNvCxnSpPr>
            <p:nvPr/>
          </p:nvCxnSpPr>
          <p:spPr>
            <a:xfrm>
              <a:off x="4048200" y="1218960"/>
              <a:ext cx="133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9" name=""/>
            <p:cNvCxnSpPr>
              <a:stCxn id="1668" idx="6"/>
              <a:endCxn id="1670" idx="2"/>
            </p:cNvCxnSpPr>
            <p:nvPr/>
          </p:nvCxnSpPr>
          <p:spPr>
            <a:xfrm>
              <a:off x="4734000" y="1219320"/>
              <a:ext cx="2102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1" name=""/>
            <p:cNvCxnSpPr>
              <a:stCxn id="1668" idx="6"/>
              <a:endCxn id="1672" idx="2"/>
            </p:cNvCxnSpPr>
            <p:nvPr/>
          </p:nvCxnSpPr>
          <p:spPr>
            <a:xfrm>
              <a:off x="4733640" y="121896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3" name=""/>
            <p:cNvCxnSpPr>
              <a:stCxn id="1668" idx="6"/>
              <a:endCxn id="1674" idx="2"/>
            </p:cNvCxnSpPr>
            <p:nvPr/>
          </p:nvCxnSpPr>
          <p:spPr>
            <a:xfrm flipV="1">
              <a:off x="4733640" y="380160"/>
              <a:ext cx="81972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5" name=""/>
            <p:cNvCxnSpPr>
              <a:stCxn id="1674" idx="6"/>
              <a:endCxn id="1676" idx="2"/>
            </p:cNvCxnSpPr>
            <p:nvPr/>
          </p:nvCxnSpPr>
          <p:spPr>
            <a:xfrm>
              <a:off x="6638400" y="380520"/>
              <a:ext cx="126756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677" name=""/>
            <p:cNvGrpSpPr/>
            <p:nvPr/>
          </p:nvGrpSpPr>
          <p:grpSpPr>
            <a:xfrm>
              <a:off x="2438280" y="685800"/>
              <a:ext cx="685800" cy="457200"/>
              <a:chOff x="2438280" y="685800"/>
              <a:chExt cx="685800" cy="457200"/>
            </a:xfrm>
          </p:grpSpPr>
          <p:sp>
            <p:nvSpPr>
              <p:cNvPr id="1661" name=""/>
              <p:cNvSpPr/>
              <p:nvPr/>
            </p:nvSpPr>
            <p:spPr>
              <a:xfrm>
                <a:off x="2438280" y="68580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536560" y="75096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9" name=""/>
            <p:cNvGrpSpPr/>
            <p:nvPr/>
          </p:nvGrpSpPr>
          <p:grpSpPr>
            <a:xfrm>
              <a:off x="2209680" y="1371600"/>
              <a:ext cx="533520" cy="457200"/>
              <a:chOff x="2209680" y="1371600"/>
              <a:chExt cx="533520" cy="457200"/>
            </a:xfrm>
          </p:grpSpPr>
          <p:sp>
            <p:nvSpPr>
              <p:cNvPr id="1659" name=""/>
              <p:cNvSpPr/>
              <p:nvPr/>
            </p:nvSpPr>
            <p:spPr>
              <a:xfrm>
                <a:off x="2209680" y="13716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286000" y="1436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1" name=""/>
            <p:cNvGrpSpPr/>
            <p:nvPr/>
          </p:nvGrpSpPr>
          <p:grpSpPr>
            <a:xfrm>
              <a:off x="2895480" y="1371600"/>
              <a:ext cx="533520" cy="457200"/>
              <a:chOff x="2895480" y="1371600"/>
              <a:chExt cx="533520" cy="457200"/>
            </a:xfrm>
          </p:grpSpPr>
          <p:sp>
            <p:nvSpPr>
              <p:cNvPr id="1663" name=""/>
              <p:cNvSpPr/>
              <p:nvPr/>
            </p:nvSpPr>
            <p:spPr>
              <a:xfrm>
                <a:off x="2895480" y="13716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971800" y="1436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3505320" y="990720"/>
              <a:ext cx="533160" cy="457200"/>
              <a:chOff x="3505320" y="990720"/>
              <a:chExt cx="533160" cy="457200"/>
            </a:xfrm>
          </p:grpSpPr>
          <p:sp>
            <p:nvSpPr>
              <p:cNvPr id="1665" name=""/>
              <p:cNvSpPr/>
              <p:nvPr/>
            </p:nvSpPr>
            <p:spPr>
              <a:xfrm>
                <a:off x="3505320" y="99072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3581640" y="10558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5" name=""/>
            <p:cNvGrpSpPr/>
            <p:nvPr/>
          </p:nvGrpSpPr>
          <p:grpSpPr>
            <a:xfrm>
              <a:off x="4191120" y="990720"/>
              <a:ext cx="533160" cy="457200"/>
              <a:chOff x="4191120" y="990720"/>
              <a:chExt cx="533160" cy="457200"/>
            </a:xfrm>
          </p:grpSpPr>
          <p:sp>
            <p:nvSpPr>
              <p:cNvPr id="1668" name=""/>
              <p:cNvSpPr/>
              <p:nvPr/>
            </p:nvSpPr>
            <p:spPr>
              <a:xfrm>
                <a:off x="4191120" y="99072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4267440" y="10558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7" name=""/>
            <p:cNvGrpSpPr/>
            <p:nvPr/>
          </p:nvGrpSpPr>
          <p:grpSpPr>
            <a:xfrm>
              <a:off x="4952880" y="1905120"/>
              <a:ext cx="533520" cy="457200"/>
              <a:chOff x="4952880" y="1905120"/>
              <a:chExt cx="533520" cy="457200"/>
            </a:xfrm>
          </p:grpSpPr>
          <p:sp>
            <p:nvSpPr>
              <p:cNvPr id="1670" name=""/>
              <p:cNvSpPr/>
              <p:nvPr/>
            </p:nvSpPr>
            <p:spPr>
              <a:xfrm>
                <a:off x="4952880" y="19051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029200" y="19702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9" name=""/>
            <p:cNvGrpSpPr/>
            <p:nvPr/>
          </p:nvGrpSpPr>
          <p:grpSpPr>
            <a:xfrm>
              <a:off x="5638680" y="1905120"/>
              <a:ext cx="533520" cy="457200"/>
              <a:chOff x="5638680" y="1905120"/>
              <a:chExt cx="533520" cy="457200"/>
            </a:xfrm>
          </p:grpSpPr>
          <p:sp>
            <p:nvSpPr>
              <p:cNvPr id="1690" name=""/>
              <p:cNvSpPr/>
              <p:nvPr/>
            </p:nvSpPr>
            <p:spPr>
              <a:xfrm>
                <a:off x="5638680" y="19051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715000" y="19702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2" name=""/>
            <p:cNvGrpSpPr/>
            <p:nvPr/>
          </p:nvGrpSpPr>
          <p:grpSpPr>
            <a:xfrm>
              <a:off x="6705720" y="1905120"/>
              <a:ext cx="533160" cy="457200"/>
              <a:chOff x="6705720" y="1905120"/>
              <a:chExt cx="533160" cy="457200"/>
            </a:xfrm>
          </p:grpSpPr>
          <p:sp>
            <p:nvSpPr>
              <p:cNvPr id="1693" name=""/>
              <p:cNvSpPr/>
              <p:nvPr/>
            </p:nvSpPr>
            <p:spPr>
              <a:xfrm>
                <a:off x="6705720" y="190512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782040" y="19702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5" name=""/>
            <p:cNvGrpSpPr/>
            <p:nvPr/>
          </p:nvGrpSpPr>
          <p:grpSpPr>
            <a:xfrm>
              <a:off x="7391520" y="1905120"/>
              <a:ext cx="533160" cy="457200"/>
              <a:chOff x="7391520" y="1905120"/>
              <a:chExt cx="533160" cy="457200"/>
            </a:xfrm>
          </p:grpSpPr>
          <p:sp>
            <p:nvSpPr>
              <p:cNvPr id="1696" name=""/>
              <p:cNvSpPr/>
              <p:nvPr/>
            </p:nvSpPr>
            <p:spPr>
              <a:xfrm>
                <a:off x="7391520" y="190512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467840" y="19702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5562720" y="152280"/>
              <a:ext cx="1066320" cy="457200"/>
              <a:chOff x="5562720" y="152280"/>
              <a:chExt cx="1066320" cy="457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5562720" y="152280"/>
                <a:ext cx="10663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715360" y="2174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5181480" y="990720"/>
              <a:ext cx="685800" cy="457200"/>
              <a:chOff x="5181480" y="990720"/>
              <a:chExt cx="685800" cy="457200"/>
            </a:xfrm>
          </p:grpSpPr>
          <p:sp>
            <p:nvSpPr>
              <p:cNvPr id="1672" name=""/>
              <p:cNvSpPr/>
              <p:nvPr/>
            </p:nvSpPr>
            <p:spPr>
              <a:xfrm>
                <a:off x="5181480" y="99072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279760" y="105588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t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6705720" y="990720"/>
              <a:ext cx="685800" cy="457200"/>
              <a:chOff x="6705720" y="990720"/>
              <a:chExt cx="685800" cy="457200"/>
            </a:xfrm>
          </p:grpSpPr>
          <p:sp>
            <p:nvSpPr>
              <p:cNvPr id="1703" name=""/>
              <p:cNvSpPr/>
              <p:nvPr/>
            </p:nvSpPr>
            <p:spPr>
              <a:xfrm>
                <a:off x="6705720" y="99072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6804000" y="105588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7915320" y="952560"/>
              <a:ext cx="457200" cy="533520"/>
              <a:chOff x="7915320" y="952560"/>
              <a:chExt cx="457200" cy="533520"/>
            </a:xfrm>
          </p:grpSpPr>
          <p:sp>
            <p:nvSpPr>
              <p:cNvPr id="1676" name=""/>
              <p:cNvSpPr/>
              <p:nvPr/>
            </p:nvSpPr>
            <p:spPr>
              <a:xfrm>
                <a:off x="7915320" y="952560"/>
                <a:ext cx="45720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8046720" y="1028880"/>
                <a:ext cx="22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07" name=""/>
            <p:cNvCxnSpPr>
              <a:stCxn id="1703" idx="6"/>
              <a:endCxn id="1676" idx="2"/>
            </p:cNvCxnSpPr>
            <p:nvPr/>
          </p:nvCxnSpPr>
          <p:spPr>
            <a:xfrm>
              <a:off x="7400880" y="1218960"/>
              <a:ext cx="505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8" name=""/>
            <p:cNvCxnSpPr>
              <a:stCxn id="1670" idx="6"/>
              <a:endCxn id="1690" idx="2"/>
            </p:cNvCxnSpPr>
            <p:nvPr/>
          </p:nvCxnSpPr>
          <p:spPr>
            <a:xfrm>
              <a:off x="5495400" y="213336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9" name=""/>
            <p:cNvCxnSpPr>
              <a:stCxn id="1693" idx="6"/>
              <a:endCxn id="1696" idx="2"/>
            </p:cNvCxnSpPr>
            <p:nvPr/>
          </p:nvCxnSpPr>
          <p:spPr>
            <a:xfrm>
              <a:off x="7248600" y="2133360"/>
              <a:ext cx="133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0" name=""/>
            <p:cNvCxnSpPr>
              <a:stCxn id="1672" idx="6"/>
              <a:endCxn id="1703" idx="2"/>
            </p:cNvCxnSpPr>
            <p:nvPr/>
          </p:nvCxnSpPr>
          <p:spPr>
            <a:xfrm>
              <a:off x="5876640" y="1218960"/>
              <a:ext cx="819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1" name=""/>
            <p:cNvCxnSpPr>
              <a:stCxn id="1696" idx="6"/>
              <a:endCxn id="1676" idx="2"/>
            </p:cNvCxnSpPr>
            <p:nvPr/>
          </p:nvCxnSpPr>
          <p:spPr>
            <a:xfrm flipH="1" flipV="1">
              <a:off x="7905240" y="1218960"/>
              <a:ext cx="2952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2" name=""/>
            <p:cNvCxnSpPr>
              <a:stCxn id="1690" idx="6"/>
              <a:endCxn id="1693" idx="2"/>
            </p:cNvCxnSpPr>
            <p:nvPr/>
          </p:nvCxnSpPr>
          <p:spPr>
            <a:xfrm>
              <a:off x="6181200" y="213336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3" name=""/>
            <p:cNvCxnSpPr>
              <a:stCxn id="1672" idx="6"/>
              <a:endCxn id="1693" idx="2"/>
            </p:cNvCxnSpPr>
            <p:nvPr/>
          </p:nvCxnSpPr>
          <p:spPr>
            <a:xfrm>
              <a:off x="5876640" y="1219320"/>
              <a:ext cx="81972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4" name=""/>
            <p:cNvCxnSpPr>
              <a:stCxn id="1690" idx="6"/>
              <a:endCxn id="1703" idx="2"/>
            </p:cNvCxnSpPr>
            <p:nvPr/>
          </p:nvCxnSpPr>
          <p:spPr>
            <a:xfrm flipV="1">
              <a:off x="6181200" y="1218960"/>
              <a:ext cx="5151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5" name=""/>
            <p:cNvSpPr/>
            <p:nvPr/>
          </p:nvSpPr>
          <p:spPr>
            <a:xfrm>
              <a:off x="1905120" y="838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752480" y="14479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800600" y="5335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724280" y="12193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419720" y="1600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172200" y="21337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019920" y="914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943600" y="12193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43600" y="16765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762120" y="3962520"/>
            <a:ext cx="7238520" cy="1143000"/>
            <a:chOff x="762120" y="3962520"/>
            <a:chExt cx="7238520" cy="1143000"/>
          </a:xfrm>
        </p:grpSpPr>
        <p:grpSp>
          <p:nvGrpSpPr>
            <p:cNvPr id="1725" name=""/>
            <p:cNvGrpSpPr/>
            <p:nvPr/>
          </p:nvGrpSpPr>
          <p:grpSpPr>
            <a:xfrm>
              <a:off x="762120" y="4267440"/>
              <a:ext cx="1828800" cy="543960"/>
              <a:chOff x="762120" y="4267440"/>
              <a:chExt cx="1828800" cy="543960"/>
            </a:xfrm>
          </p:grpSpPr>
          <p:grpSp>
            <p:nvGrpSpPr>
              <p:cNvPr id="1726" name=""/>
              <p:cNvGrpSpPr/>
              <p:nvPr/>
            </p:nvGrpSpPr>
            <p:grpSpPr>
              <a:xfrm>
                <a:off x="762120" y="4267440"/>
                <a:ext cx="838080" cy="543960"/>
                <a:chOff x="762120" y="4267440"/>
                <a:chExt cx="838080" cy="543960"/>
              </a:xfrm>
            </p:grpSpPr>
            <p:sp>
              <p:nvSpPr>
                <p:cNvPr id="1727" name=""/>
                <p:cNvSpPr/>
                <p:nvPr/>
              </p:nvSpPr>
              <p:spPr>
                <a:xfrm>
                  <a:off x="762120" y="4267440"/>
                  <a:ext cx="838080" cy="5439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1013400" y="4345200"/>
                  <a:ext cx="385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9" name=""/>
              <p:cNvGrpSpPr/>
              <p:nvPr/>
            </p:nvGrpSpPr>
            <p:grpSpPr>
              <a:xfrm>
                <a:off x="2057760" y="4343400"/>
                <a:ext cx="533160" cy="456840"/>
                <a:chOff x="2057760" y="4343400"/>
                <a:chExt cx="533160" cy="456840"/>
              </a:xfrm>
            </p:grpSpPr>
            <p:sp>
              <p:nvSpPr>
                <p:cNvPr id="1730" name=""/>
                <p:cNvSpPr/>
                <p:nvPr/>
              </p:nvSpPr>
              <p:spPr>
                <a:xfrm>
                  <a:off x="2057760" y="4343400"/>
                  <a:ext cx="533160" cy="456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2134080" y="4408560"/>
                  <a:ext cx="397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732" name=""/>
              <p:cNvCxnSpPr>
                <a:stCxn id="1727" idx="6"/>
                <a:endCxn id="1730" idx="2"/>
              </p:cNvCxnSpPr>
              <p:nvPr/>
            </p:nvCxnSpPr>
            <p:spPr>
              <a:xfrm>
                <a:off x="1609560" y="4539960"/>
                <a:ext cx="438840" cy="32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733" name=""/>
            <p:cNvCxnSpPr>
              <a:stCxn id="1730" idx="6"/>
              <a:endCxn id="1734" idx="2"/>
            </p:cNvCxnSpPr>
            <p:nvPr/>
          </p:nvCxnSpPr>
          <p:spPr>
            <a:xfrm>
              <a:off x="2599920" y="4571640"/>
              <a:ext cx="13428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5" name=""/>
            <p:cNvCxnSpPr>
              <a:stCxn id="1730" idx="6"/>
              <a:endCxn id="1736" idx="2"/>
            </p:cNvCxnSpPr>
            <p:nvPr/>
          </p:nvCxnSpPr>
          <p:spPr>
            <a:xfrm flipV="1">
              <a:off x="2600280" y="4190760"/>
              <a:ext cx="36252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7" name=""/>
            <p:cNvCxnSpPr>
              <a:stCxn id="1734" idx="6"/>
              <a:endCxn id="1738" idx="2"/>
            </p:cNvCxnSpPr>
            <p:nvPr/>
          </p:nvCxnSpPr>
          <p:spPr>
            <a:xfrm>
              <a:off x="3285720" y="487656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9" name=""/>
            <p:cNvCxnSpPr>
              <a:stCxn id="1736" idx="6"/>
              <a:endCxn id="1740" idx="2"/>
            </p:cNvCxnSpPr>
            <p:nvPr/>
          </p:nvCxnSpPr>
          <p:spPr>
            <a:xfrm>
              <a:off x="3666960" y="4190760"/>
              <a:ext cx="36252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1" name=""/>
            <p:cNvCxnSpPr>
              <a:stCxn id="1738" idx="6"/>
              <a:endCxn id="1740" idx="2"/>
            </p:cNvCxnSpPr>
            <p:nvPr/>
          </p:nvCxnSpPr>
          <p:spPr>
            <a:xfrm flipV="1">
              <a:off x="3971520" y="4495680"/>
              <a:ext cx="5796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2" name=""/>
            <p:cNvCxnSpPr>
              <a:stCxn id="1740" idx="6"/>
              <a:endCxn id="1743" idx="2"/>
            </p:cNvCxnSpPr>
            <p:nvPr/>
          </p:nvCxnSpPr>
          <p:spPr>
            <a:xfrm flipV="1">
              <a:off x="4581360" y="4190400"/>
              <a:ext cx="43920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744" name=""/>
            <p:cNvGrpSpPr/>
            <p:nvPr/>
          </p:nvGrpSpPr>
          <p:grpSpPr>
            <a:xfrm>
              <a:off x="2971800" y="3962520"/>
              <a:ext cx="685800" cy="457200"/>
              <a:chOff x="2971800" y="3962520"/>
              <a:chExt cx="685800" cy="457200"/>
            </a:xfrm>
          </p:grpSpPr>
          <p:sp>
            <p:nvSpPr>
              <p:cNvPr id="1736" name=""/>
              <p:cNvSpPr/>
              <p:nvPr/>
            </p:nvSpPr>
            <p:spPr>
              <a:xfrm>
                <a:off x="2971800" y="396252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070080" y="402768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2743200" y="4648320"/>
              <a:ext cx="533520" cy="457200"/>
              <a:chOff x="2743200" y="4648320"/>
              <a:chExt cx="533520" cy="457200"/>
            </a:xfrm>
          </p:grpSpPr>
          <p:sp>
            <p:nvSpPr>
              <p:cNvPr id="1734" name=""/>
              <p:cNvSpPr/>
              <p:nvPr/>
            </p:nvSpPr>
            <p:spPr>
              <a:xfrm>
                <a:off x="2743200" y="46483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819520" y="47134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429000" y="4648320"/>
              <a:ext cx="533520" cy="457200"/>
              <a:chOff x="3429000" y="4648320"/>
              <a:chExt cx="533520" cy="457200"/>
            </a:xfrm>
          </p:grpSpPr>
          <p:sp>
            <p:nvSpPr>
              <p:cNvPr id="1738" name=""/>
              <p:cNvSpPr/>
              <p:nvPr/>
            </p:nvSpPr>
            <p:spPr>
              <a:xfrm>
                <a:off x="3429000" y="46483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505320" y="47134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4038480" y="4267440"/>
              <a:ext cx="533520" cy="457200"/>
              <a:chOff x="4038480" y="4267440"/>
              <a:chExt cx="533520" cy="457200"/>
            </a:xfrm>
          </p:grpSpPr>
          <p:sp>
            <p:nvSpPr>
              <p:cNvPr id="1740" name=""/>
              <p:cNvSpPr/>
              <p:nvPr/>
            </p:nvSpPr>
            <p:spPr>
              <a:xfrm>
                <a:off x="4038480" y="426744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114800" y="433260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7162920" y="4191120"/>
              <a:ext cx="837720" cy="544320"/>
              <a:chOff x="7162920" y="4191120"/>
              <a:chExt cx="837720" cy="544320"/>
            </a:xfrm>
          </p:grpSpPr>
          <p:sp>
            <p:nvSpPr>
              <p:cNvPr id="1753" name=""/>
              <p:cNvSpPr/>
              <p:nvPr/>
            </p:nvSpPr>
            <p:spPr>
              <a:xfrm>
                <a:off x="7162920" y="4191120"/>
                <a:ext cx="837720" cy="5443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414200" y="4268880"/>
                <a:ext cx="38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55" name=""/>
            <p:cNvCxnSpPr>
              <a:stCxn id="1756" idx="6"/>
              <a:endCxn id="1757" idx="2"/>
            </p:cNvCxnSpPr>
            <p:nvPr/>
          </p:nvCxnSpPr>
          <p:spPr>
            <a:xfrm>
              <a:off x="5343120" y="487656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8" name=""/>
            <p:cNvCxnSpPr>
              <a:stCxn id="1743" idx="6"/>
              <a:endCxn id="1759" idx="2"/>
            </p:cNvCxnSpPr>
            <p:nvPr/>
          </p:nvCxnSpPr>
          <p:spPr>
            <a:xfrm>
              <a:off x="5724360" y="4190760"/>
              <a:ext cx="36252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0" name=""/>
            <p:cNvCxnSpPr>
              <a:stCxn id="1757" idx="6"/>
              <a:endCxn id="1759" idx="2"/>
            </p:cNvCxnSpPr>
            <p:nvPr/>
          </p:nvCxnSpPr>
          <p:spPr>
            <a:xfrm flipV="1">
              <a:off x="6028920" y="4495680"/>
              <a:ext cx="5796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1" name=""/>
            <p:cNvCxnSpPr>
              <a:stCxn id="1759" idx="6"/>
              <a:endCxn id="1753" idx="2"/>
            </p:cNvCxnSpPr>
            <p:nvPr/>
          </p:nvCxnSpPr>
          <p:spPr>
            <a:xfrm flipV="1">
              <a:off x="6638400" y="4463280"/>
              <a:ext cx="515160" cy="3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762" name=""/>
            <p:cNvGrpSpPr/>
            <p:nvPr/>
          </p:nvGrpSpPr>
          <p:grpSpPr>
            <a:xfrm>
              <a:off x="5029200" y="3962520"/>
              <a:ext cx="685800" cy="457200"/>
              <a:chOff x="5029200" y="3962520"/>
              <a:chExt cx="685800" cy="457200"/>
            </a:xfrm>
          </p:grpSpPr>
          <p:sp>
            <p:nvSpPr>
              <p:cNvPr id="1743" name=""/>
              <p:cNvSpPr/>
              <p:nvPr/>
            </p:nvSpPr>
            <p:spPr>
              <a:xfrm>
                <a:off x="5029200" y="396252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127480" y="402768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r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4" name=""/>
            <p:cNvGrpSpPr/>
            <p:nvPr/>
          </p:nvGrpSpPr>
          <p:grpSpPr>
            <a:xfrm>
              <a:off x="4800600" y="4648320"/>
              <a:ext cx="533520" cy="457200"/>
              <a:chOff x="4800600" y="4648320"/>
              <a:chExt cx="533520" cy="457200"/>
            </a:xfrm>
          </p:grpSpPr>
          <p:sp>
            <p:nvSpPr>
              <p:cNvPr id="1756" name=""/>
              <p:cNvSpPr/>
              <p:nvPr/>
            </p:nvSpPr>
            <p:spPr>
              <a:xfrm>
                <a:off x="4800600" y="46483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76920" y="47134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486400" y="4648320"/>
              <a:ext cx="533520" cy="457200"/>
              <a:chOff x="5486400" y="4648320"/>
              <a:chExt cx="533520" cy="457200"/>
            </a:xfrm>
          </p:grpSpPr>
          <p:sp>
            <p:nvSpPr>
              <p:cNvPr id="1757" name=""/>
              <p:cNvSpPr/>
              <p:nvPr/>
            </p:nvSpPr>
            <p:spPr>
              <a:xfrm>
                <a:off x="5486400" y="46483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562720" y="47134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6095880" y="4267440"/>
              <a:ext cx="533520" cy="457200"/>
              <a:chOff x="6095880" y="4267440"/>
              <a:chExt cx="53352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6095880" y="426744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172200" y="433260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70" name=""/>
            <p:cNvCxnSpPr>
              <a:stCxn id="1740" idx="6"/>
              <a:endCxn id="1756" idx="2"/>
            </p:cNvCxnSpPr>
            <p:nvPr/>
          </p:nvCxnSpPr>
          <p:spPr>
            <a:xfrm>
              <a:off x="4581000" y="4496040"/>
              <a:ext cx="21060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71" name=""/>
          <p:cNvGrpSpPr/>
          <p:nvPr/>
        </p:nvGrpSpPr>
        <p:grpSpPr>
          <a:xfrm>
            <a:off x="609480" y="5257800"/>
            <a:ext cx="7848360" cy="1143000"/>
            <a:chOff x="609480" y="5257800"/>
            <a:chExt cx="7848360" cy="1143000"/>
          </a:xfrm>
        </p:grpSpPr>
        <p:grpSp>
          <p:nvGrpSpPr>
            <p:cNvPr id="1772" name=""/>
            <p:cNvGrpSpPr/>
            <p:nvPr/>
          </p:nvGrpSpPr>
          <p:grpSpPr>
            <a:xfrm>
              <a:off x="609480" y="5562720"/>
              <a:ext cx="1828800" cy="544320"/>
              <a:chOff x="609480" y="5562720"/>
              <a:chExt cx="1828800" cy="544320"/>
            </a:xfrm>
          </p:grpSpPr>
          <p:grpSp>
            <p:nvGrpSpPr>
              <p:cNvPr id="1773" name=""/>
              <p:cNvGrpSpPr/>
              <p:nvPr/>
            </p:nvGrpSpPr>
            <p:grpSpPr>
              <a:xfrm>
                <a:off x="609480" y="5562720"/>
                <a:ext cx="838080" cy="544320"/>
                <a:chOff x="609480" y="5562720"/>
                <a:chExt cx="838080" cy="54432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609480" y="5562720"/>
                  <a:ext cx="838080" cy="5443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860760" y="5640480"/>
                  <a:ext cx="385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6" name=""/>
              <p:cNvGrpSpPr/>
              <p:nvPr/>
            </p:nvGrpSpPr>
            <p:grpSpPr>
              <a:xfrm>
                <a:off x="1905120" y="5639040"/>
                <a:ext cx="533160" cy="457200"/>
                <a:chOff x="1905120" y="5639040"/>
                <a:chExt cx="533160" cy="457200"/>
              </a:xfrm>
            </p:grpSpPr>
            <p:sp>
              <p:nvSpPr>
                <p:cNvPr id="1777" name=""/>
                <p:cNvSpPr/>
                <p:nvPr/>
              </p:nvSpPr>
              <p:spPr>
                <a:xfrm>
                  <a:off x="1905120" y="5639040"/>
                  <a:ext cx="533160" cy="4572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1981440" y="5704200"/>
                  <a:ext cx="397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779" name=""/>
              <p:cNvCxnSpPr>
                <a:stCxn id="1774" idx="6"/>
                <a:endCxn id="1777" idx="2"/>
              </p:cNvCxnSpPr>
              <p:nvPr/>
            </p:nvCxnSpPr>
            <p:spPr>
              <a:xfrm>
                <a:off x="1456920" y="5835240"/>
                <a:ext cx="438840" cy="327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780" name=""/>
            <p:cNvCxnSpPr>
              <a:stCxn id="1777" idx="6"/>
              <a:endCxn id="1781" idx="2"/>
            </p:cNvCxnSpPr>
            <p:nvPr/>
          </p:nvCxnSpPr>
          <p:spPr>
            <a:xfrm>
              <a:off x="2448000" y="5867640"/>
              <a:ext cx="133560" cy="305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2" name=""/>
            <p:cNvCxnSpPr>
              <a:stCxn id="1777" idx="6"/>
              <a:endCxn id="1783" idx="2"/>
            </p:cNvCxnSpPr>
            <p:nvPr/>
          </p:nvCxnSpPr>
          <p:spPr>
            <a:xfrm flipV="1">
              <a:off x="2447640" y="5485680"/>
              <a:ext cx="362520" cy="381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4" name=""/>
            <p:cNvCxnSpPr>
              <a:stCxn id="1781" idx="6"/>
              <a:endCxn id="1785" idx="2"/>
            </p:cNvCxnSpPr>
            <p:nvPr/>
          </p:nvCxnSpPr>
          <p:spPr>
            <a:xfrm>
              <a:off x="3133800" y="6171840"/>
              <a:ext cx="133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6" name=""/>
            <p:cNvCxnSpPr>
              <a:stCxn id="1783" idx="6"/>
              <a:endCxn id="1787" idx="2"/>
            </p:cNvCxnSpPr>
            <p:nvPr/>
          </p:nvCxnSpPr>
          <p:spPr>
            <a:xfrm>
              <a:off x="3514320" y="548604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8" name=""/>
            <p:cNvCxnSpPr>
              <a:stCxn id="1785" idx="6"/>
              <a:endCxn id="1789" idx="2"/>
            </p:cNvCxnSpPr>
            <p:nvPr/>
          </p:nvCxnSpPr>
          <p:spPr>
            <a:xfrm>
              <a:off x="3819600" y="617184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0" name=""/>
            <p:cNvCxnSpPr>
              <a:stCxn id="1789" idx="6"/>
              <a:endCxn id="1791" idx="2"/>
            </p:cNvCxnSpPr>
            <p:nvPr/>
          </p:nvCxnSpPr>
          <p:spPr>
            <a:xfrm flipV="1">
              <a:off x="4657680" y="5485680"/>
              <a:ext cx="82008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2819520" y="5257800"/>
              <a:ext cx="685800" cy="457200"/>
              <a:chOff x="2819520" y="5257800"/>
              <a:chExt cx="685800" cy="457200"/>
            </a:xfrm>
          </p:grpSpPr>
          <p:sp>
            <p:nvSpPr>
              <p:cNvPr id="1783" name=""/>
              <p:cNvSpPr/>
              <p:nvPr/>
            </p:nvSpPr>
            <p:spPr>
              <a:xfrm>
                <a:off x="2819520" y="525780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917800" y="532296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4" name=""/>
            <p:cNvGrpSpPr/>
            <p:nvPr/>
          </p:nvGrpSpPr>
          <p:grpSpPr>
            <a:xfrm>
              <a:off x="2590920" y="5943600"/>
              <a:ext cx="533160" cy="457200"/>
              <a:chOff x="2590920" y="5943600"/>
              <a:chExt cx="533160" cy="457200"/>
            </a:xfrm>
          </p:grpSpPr>
          <p:sp>
            <p:nvSpPr>
              <p:cNvPr id="1781" name=""/>
              <p:cNvSpPr/>
              <p:nvPr/>
            </p:nvSpPr>
            <p:spPr>
              <a:xfrm>
                <a:off x="2590920" y="594360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667240" y="6008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6" name=""/>
            <p:cNvGrpSpPr/>
            <p:nvPr/>
          </p:nvGrpSpPr>
          <p:grpSpPr>
            <a:xfrm>
              <a:off x="3276720" y="5943600"/>
              <a:ext cx="533160" cy="457200"/>
              <a:chOff x="3276720" y="5943600"/>
              <a:chExt cx="533160" cy="457200"/>
            </a:xfrm>
          </p:grpSpPr>
          <p:sp>
            <p:nvSpPr>
              <p:cNvPr id="1785" name=""/>
              <p:cNvSpPr/>
              <p:nvPr/>
            </p:nvSpPr>
            <p:spPr>
              <a:xfrm>
                <a:off x="3276720" y="594360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353040" y="6008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4114800" y="5943600"/>
              <a:ext cx="533520" cy="457200"/>
              <a:chOff x="4114800" y="5943600"/>
              <a:chExt cx="533520" cy="457200"/>
            </a:xfrm>
          </p:grpSpPr>
          <p:sp>
            <p:nvSpPr>
              <p:cNvPr id="1789" name=""/>
              <p:cNvSpPr/>
              <p:nvPr/>
            </p:nvSpPr>
            <p:spPr>
              <a:xfrm>
                <a:off x="4114800" y="59436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191120" y="6008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0" name=""/>
            <p:cNvGrpSpPr/>
            <p:nvPr/>
          </p:nvGrpSpPr>
          <p:grpSpPr>
            <a:xfrm>
              <a:off x="7620120" y="5486400"/>
              <a:ext cx="837720" cy="544320"/>
              <a:chOff x="7620120" y="5486400"/>
              <a:chExt cx="837720" cy="544320"/>
            </a:xfrm>
          </p:grpSpPr>
          <p:sp>
            <p:nvSpPr>
              <p:cNvPr id="1801" name=""/>
              <p:cNvSpPr/>
              <p:nvPr/>
            </p:nvSpPr>
            <p:spPr>
              <a:xfrm>
                <a:off x="7620120" y="5486400"/>
                <a:ext cx="837720" cy="5443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871400" y="5564160"/>
                <a:ext cx="38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3" name=""/>
            <p:cNvCxnSpPr>
              <a:stCxn id="1804" idx="6"/>
              <a:endCxn id="1805" idx="2"/>
            </p:cNvCxnSpPr>
            <p:nvPr/>
          </p:nvCxnSpPr>
          <p:spPr>
            <a:xfrm>
              <a:off x="5800320" y="61718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6" name=""/>
            <p:cNvCxnSpPr>
              <a:stCxn id="1791" idx="6"/>
              <a:endCxn id="1807" idx="2"/>
            </p:cNvCxnSpPr>
            <p:nvPr/>
          </p:nvCxnSpPr>
          <p:spPr>
            <a:xfrm>
              <a:off x="6181560" y="5486040"/>
              <a:ext cx="36252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8" name=""/>
            <p:cNvCxnSpPr>
              <a:stCxn id="1805" idx="6"/>
              <a:endCxn id="1807" idx="2"/>
            </p:cNvCxnSpPr>
            <p:nvPr/>
          </p:nvCxnSpPr>
          <p:spPr>
            <a:xfrm flipV="1">
              <a:off x="6486120" y="5790960"/>
              <a:ext cx="5796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9" name=""/>
            <p:cNvCxnSpPr>
              <a:stCxn id="1807" idx="6"/>
              <a:endCxn id="1801" idx="2"/>
            </p:cNvCxnSpPr>
            <p:nvPr/>
          </p:nvCxnSpPr>
          <p:spPr>
            <a:xfrm flipV="1">
              <a:off x="7095600" y="5759280"/>
              <a:ext cx="515160" cy="32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10" name=""/>
            <p:cNvGrpSpPr/>
            <p:nvPr/>
          </p:nvGrpSpPr>
          <p:grpSpPr>
            <a:xfrm>
              <a:off x="5486400" y="5257800"/>
              <a:ext cx="685800" cy="457200"/>
              <a:chOff x="5486400" y="5257800"/>
              <a:chExt cx="685800" cy="457200"/>
            </a:xfrm>
          </p:grpSpPr>
          <p:sp>
            <p:nvSpPr>
              <p:cNvPr id="1791" name=""/>
              <p:cNvSpPr/>
              <p:nvPr/>
            </p:nvSpPr>
            <p:spPr>
              <a:xfrm>
                <a:off x="5486400" y="525780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584680" y="532296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r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5257800" y="5943600"/>
              <a:ext cx="533520" cy="457200"/>
              <a:chOff x="5257800" y="5943600"/>
              <a:chExt cx="533520" cy="457200"/>
            </a:xfrm>
          </p:grpSpPr>
          <p:sp>
            <p:nvSpPr>
              <p:cNvPr id="1804" name=""/>
              <p:cNvSpPr/>
              <p:nvPr/>
            </p:nvSpPr>
            <p:spPr>
              <a:xfrm>
                <a:off x="5257800" y="59436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334120" y="6008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4" name=""/>
            <p:cNvGrpSpPr/>
            <p:nvPr/>
          </p:nvGrpSpPr>
          <p:grpSpPr>
            <a:xfrm>
              <a:off x="5943600" y="5943600"/>
              <a:ext cx="533520" cy="457200"/>
              <a:chOff x="5943600" y="5943600"/>
              <a:chExt cx="533520" cy="457200"/>
            </a:xfrm>
          </p:grpSpPr>
          <p:sp>
            <p:nvSpPr>
              <p:cNvPr id="1805" name=""/>
              <p:cNvSpPr/>
              <p:nvPr/>
            </p:nvSpPr>
            <p:spPr>
              <a:xfrm>
                <a:off x="5943600" y="59436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019920" y="6008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6553080" y="5562720"/>
              <a:ext cx="533520" cy="457200"/>
              <a:chOff x="6553080" y="5562720"/>
              <a:chExt cx="533520" cy="457200"/>
            </a:xfrm>
          </p:grpSpPr>
          <p:sp>
            <p:nvSpPr>
              <p:cNvPr id="1807" name=""/>
              <p:cNvSpPr/>
              <p:nvPr/>
            </p:nvSpPr>
            <p:spPr>
              <a:xfrm>
                <a:off x="6553080" y="55627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629400" y="56278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18" name=""/>
            <p:cNvCxnSpPr>
              <a:stCxn id="1789" idx="6"/>
              <a:endCxn id="1804" idx="2"/>
            </p:cNvCxnSpPr>
            <p:nvPr/>
          </p:nvCxnSpPr>
          <p:spPr>
            <a:xfrm>
              <a:off x="4657320" y="617184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9" name=""/>
            <p:cNvCxnSpPr>
              <a:stCxn id="1787" idx="6"/>
              <a:endCxn id="1791" idx="2"/>
            </p:cNvCxnSpPr>
            <p:nvPr/>
          </p:nvCxnSpPr>
          <p:spPr>
            <a:xfrm>
              <a:off x="4657680" y="5486040"/>
              <a:ext cx="820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20" name=""/>
            <p:cNvGrpSpPr/>
            <p:nvPr/>
          </p:nvGrpSpPr>
          <p:grpSpPr>
            <a:xfrm>
              <a:off x="4114800" y="5257800"/>
              <a:ext cx="533520" cy="457200"/>
              <a:chOff x="4114800" y="5257800"/>
              <a:chExt cx="533520" cy="457200"/>
            </a:xfrm>
          </p:grpSpPr>
          <p:sp>
            <p:nvSpPr>
              <p:cNvPr id="1787" name=""/>
              <p:cNvSpPr/>
              <p:nvPr/>
            </p:nvSpPr>
            <p:spPr>
              <a:xfrm>
                <a:off x="4114800" y="5257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191120" y="5322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22" name=""/>
            <p:cNvCxnSpPr>
              <a:stCxn id="1787" idx="6"/>
              <a:endCxn id="1804" idx="2"/>
            </p:cNvCxnSpPr>
            <p:nvPr/>
          </p:nvCxnSpPr>
          <p:spPr>
            <a:xfrm>
              <a:off x="4657320" y="5486040"/>
              <a:ext cx="59112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23" name=""/>
          <p:cNvGrpSpPr/>
          <p:nvPr/>
        </p:nvGrpSpPr>
        <p:grpSpPr>
          <a:xfrm>
            <a:off x="685800" y="2971800"/>
            <a:ext cx="7543800" cy="457200"/>
            <a:chOff x="685800" y="2971800"/>
            <a:chExt cx="7543800" cy="457200"/>
          </a:xfrm>
        </p:grpSpPr>
        <p:grpSp>
          <p:nvGrpSpPr>
            <p:cNvPr id="1824" name=""/>
            <p:cNvGrpSpPr/>
            <p:nvPr/>
          </p:nvGrpSpPr>
          <p:grpSpPr>
            <a:xfrm>
              <a:off x="685800" y="2971800"/>
              <a:ext cx="533520" cy="457200"/>
              <a:chOff x="685800" y="2971800"/>
              <a:chExt cx="533520" cy="457200"/>
            </a:xfrm>
          </p:grpSpPr>
          <p:sp>
            <p:nvSpPr>
              <p:cNvPr id="1825" name=""/>
              <p:cNvSpPr/>
              <p:nvPr/>
            </p:nvSpPr>
            <p:spPr>
              <a:xfrm>
                <a:off x="68580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845640" y="3036960"/>
                <a:ext cx="246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1523880" y="2971800"/>
              <a:ext cx="533520" cy="457200"/>
              <a:chOff x="1523880" y="2971800"/>
              <a:chExt cx="533520" cy="457200"/>
            </a:xfrm>
          </p:grpSpPr>
          <p:sp>
            <p:nvSpPr>
              <p:cNvPr id="1828" name=""/>
              <p:cNvSpPr/>
              <p:nvPr/>
            </p:nvSpPr>
            <p:spPr>
              <a:xfrm>
                <a:off x="15238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6002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30" name=""/>
            <p:cNvCxnSpPr>
              <a:stCxn id="1825" idx="6"/>
              <a:endCxn id="1828" idx="2"/>
            </p:cNvCxnSpPr>
            <p:nvPr/>
          </p:nvCxnSpPr>
          <p:spPr>
            <a:xfrm>
              <a:off x="1228680" y="320004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1" name=""/>
            <p:cNvCxnSpPr>
              <a:stCxn id="1828" idx="6"/>
              <a:endCxn id="1832" idx="2"/>
            </p:cNvCxnSpPr>
            <p:nvPr/>
          </p:nvCxnSpPr>
          <p:spPr>
            <a:xfrm>
              <a:off x="20664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3" name=""/>
            <p:cNvCxnSpPr>
              <a:stCxn id="1832" idx="6"/>
              <a:endCxn id="1834" idx="2"/>
            </p:cNvCxnSpPr>
            <p:nvPr/>
          </p:nvCxnSpPr>
          <p:spPr>
            <a:xfrm>
              <a:off x="27522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5" name=""/>
            <p:cNvCxnSpPr>
              <a:stCxn id="1834" idx="6"/>
              <a:endCxn id="1836" idx="2"/>
            </p:cNvCxnSpPr>
            <p:nvPr/>
          </p:nvCxnSpPr>
          <p:spPr>
            <a:xfrm>
              <a:off x="34380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7" name=""/>
            <p:cNvCxnSpPr>
              <a:stCxn id="1836" idx="6"/>
              <a:endCxn id="1838" idx="2"/>
            </p:cNvCxnSpPr>
            <p:nvPr/>
          </p:nvCxnSpPr>
          <p:spPr>
            <a:xfrm>
              <a:off x="41238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9" name=""/>
            <p:cNvCxnSpPr>
              <a:stCxn id="1838" idx="6"/>
              <a:endCxn id="1840" idx="2"/>
            </p:cNvCxnSpPr>
            <p:nvPr/>
          </p:nvCxnSpPr>
          <p:spPr>
            <a:xfrm>
              <a:off x="48096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41" name=""/>
            <p:cNvGrpSpPr/>
            <p:nvPr/>
          </p:nvGrpSpPr>
          <p:grpSpPr>
            <a:xfrm>
              <a:off x="2209680" y="2971800"/>
              <a:ext cx="533520" cy="457200"/>
              <a:chOff x="2209680" y="2971800"/>
              <a:chExt cx="533520" cy="457200"/>
            </a:xfrm>
          </p:grpSpPr>
          <p:sp>
            <p:nvSpPr>
              <p:cNvPr id="1832" name=""/>
              <p:cNvSpPr/>
              <p:nvPr/>
            </p:nvSpPr>
            <p:spPr>
              <a:xfrm>
                <a:off x="22096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22860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2895480" y="2971800"/>
              <a:ext cx="533520" cy="457200"/>
              <a:chOff x="2895480" y="2971800"/>
              <a:chExt cx="533520" cy="457200"/>
            </a:xfrm>
          </p:grpSpPr>
          <p:sp>
            <p:nvSpPr>
              <p:cNvPr id="1834" name=""/>
              <p:cNvSpPr/>
              <p:nvPr/>
            </p:nvSpPr>
            <p:spPr>
              <a:xfrm>
                <a:off x="28954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9718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3581280" y="2971800"/>
              <a:ext cx="533520" cy="457200"/>
              <a:chOff x="3581280" y="2971800"/>
              <a:chExt cx="533520" cy="457200"/>
            </a:xfrm>
          </p:grpSpPr>
          <p:sp>
            <p:nvSpPr>
              <p:cNvPr id="1836" name=""/>
              <p:cNvSpPr/>
              <p:nvPr/>
            </p:nvSpPr>
            <p:spPr>
              <a:xfrm>
                <a:off x="35812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6576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4267080" y="2971800"/>
              <a:ext cx="533520" cy="457200"/>
              <a:chOff x="4267080" y="2971800"/>
              <a:chExt cx="533520" cy="457200"/>
            </a:xfrm>
          </p:grpSpPr>
          <p:sp>
            <p:nvSpPr>
              <p:cNvPr id="1838" name=""/>
              <p:cNvSpPr/>
              <p:nvPr/>
            </p:nvSpPr>
            <p:spPr>
              <a:xfrm>
                <a:off x="42670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3434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4952880" y="2971800"/>
              <a:ext cx="533520" cy="457200"/>
              <a:chOff x="4952880" y="2971800"/>
              <a:chExt cx="533520" cy="457200"/>
            </a:xfrm>
          </p:grpSpPr>
          <p:sp>
            <p:nvSpPr>
              <p:cNvPr id="1840" name=""/>
              <p:cNvSpPr/>
              <p:nvPr/>
            </p:nvSpPr>
            <p:spPr>
              <a:xfrm>
                <a:off x="49528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0292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5638680" y="2971800"/>
              <a:ext cx="533520" cy="457200"/>
              <a:chOff x="5638680" y="2971800"/>
              <a:chExt cx="533520" cy="457200"/>
            </a:xfrm>
          </p:grpSpPr>
          <p:sp>
            <p:nvSpPr>
              <p:cNvPr id="1852" name=""/>
              <p:cNvSpPr/>
              <p:nvPr/>
            </p:nvSpPr>
            <p:spPr>
              <a:xfrm>
                <a:off x="56386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7150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4" name=""/>
            <p:cNvGrpSpPr/>
            <p:nvPr/>
          </p:nvGrpSpPr>
          <p:grpSpPr>
            <a:xfrm>
              <a:off x="6324480" y="2971800"/>
              <a:ext cx="533520" cy="457200"/>
              <a:chOff x="6324480" y="2971800"/>
              <a:chExt cx="533520" cy="457200"/>
            </a:xfrm>
          </p:grpSpPr>
          <p:sp>
            <p:nvSpPr>
              <p:cNvPr id="1855" name=""/>
              <p:cNvSpPr/>
              <p:nvPr/>
            </p:nvSpPr>
            <p:spPr>
              <a:xfrm>
                <a:off x="63244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4008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7" name=""/>
            <p:cNvGrpSpPr/>
            <p:nvPr/>
          </p:nvGrpSpPr>
          <p:grpSpPr>
            <a:xfrm>
              <a:off x="7010280" y="2971800"/>
              <a:ext cx="533520" cy="457200"/>
              <a:chOff x="7010280" y="2971800"/>
              <a:chExt cx="533520" cy="457200"/>
            </a:xfrm>
          </p:grpSpPr>
          <p:sp>
            <p:nvSpPr>
              <p:cNvPr id="1858" name=""/>
              <p:cNvSpPr/>
              <p:nvPr/>
            </p:nvSpPr>
            <p:spPr>
              <a:xfrm>
                <a:off x="70102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0866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0" name=""/>
            <p:cNvGrpSpPr/>
            <p:nvPr/>
          </p:nvGrpSpPr>
          <p:grpSpPr>
            <a:xfrm>
              <a:off x="7772400" y="2971800"/>
              <a:ext cx="457200" cy="457200"/>
              <a:chOff x="7772400" y="2971800"/>
              <a:chExt cx="457200" cy="457200"/>
            </a:xfrm>
          </p:grpSpPr>
          <p:sp>
            <p:nvSpPr>
              <p:cNvPr id="1861" name=""/>
              <p:cNvSpPr/>
              <p:nvPr/>
            </p:nvSpPr>
            <p:spPr>
              <a:xfrm>
                <a:off x="7772400" y="2971800"/>
                <a:ext cx="4572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903800" y="3036960"/>
                <a:ext cx="22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63" name=""/>
            <p:cNvCxnSpPr>
              <a:stCxn id="1840" idx="6"/>
              <a:endCxn id="1852" idx="2"/>
            </p:cNvCxnSpPr>
            <p:nvPr/>
          </p:nvCxnSpPr>
          <p:spPr>
            <a:xfrm>
              <a:off x="54954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4" name=""/>
            <p:cNvCxnSpPr>
              <a:stCxn id="1855" idx="6"/>
              <a:endCxn id="1858" idx="2"/>
            </p:cNvCxnSpPr>
            <p:nvPr/>
          </p:nvCxnSpPr>
          <p:spPr>
            <a:xfrm>
              <a:off x="68670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5" name=""/>
            <p:cNvCxnSpPr>
              <a:stCxn id="1858" idx="6"/>
              <a:endCxn id="1861" idx="2"/>
            </p:cNvCxnSpPr>
            <p:nvPr/>
          </p:nvCxnSpPr>
          <p:spPr>
            <a:xfrm>
              <a:off x="7552800" y="3200040"/>
              <a:ext cx="210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6" name=""/>
            <p:cNvCxnSpPr>
              <a:stCxn id="1852" idx="6"/>
              <a:endCxn id="1855" idx="2"/>
            </p:cNvCxnSpPr>
            <p:nvPr/>
          </p:nvCxnSpPr>
          <p:spPr>
            <a:xfrm>
              <a:off x="61812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7" name=""/>
          <p:cNvGrpSpPr/>
          <p:nvPr/>
        </p:nvGrpSpPr>
        <p:grpSpPr>
          <a:xfrm>
            <a:off x="3276720" y="2209680"/>
            <a:ext cx="1751760" cy="609480"/>
            <a:chOff x="3276720" y="2209680"/>
            <a:chExt cx="1751760" cy="609480"/>
          </a:xfrm>
        </p:grpSpPr>
        <p:sp>
          <p:nvSpPr>
            <p:cNvPr id="1868" name=""/>
            <p:cNvSpPr/>
            <p:nvPr/>
          </p:nvSpPr>
          <p:spPr>
            <a:xfrm>
              <a:off x="3276720" y="2209680"/>
              <a:ext cx="175176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718440" y="2311200"/>
              <a:ext cx="87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1 : p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1219320" y="2743200"/>
            <a:ext cx="669600" cy="609120"/>
            <a:chOff x="1219320" y="2743200"/>
            <a:chExt cx="669600" cy="609120"/>
          </a:xfrm>
        </p:grpSpPr>
        <p:sp>
          <p:nvSpPr>
            <p:cNvPr id="1871" name=""/>
            <p:cNvSpPr/>
            <p:nvPr/>
          </p:nvSpPr>
          <p:spPr>
            <a:xfrm>
              <a:off x="1219320" y="2743200"/>
              <a:ext cx="669600" cy="609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386360" y="2844720"/>
              <a:ext cx="33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73" name=""/>
          <p:cNvCxnSpPr>
            <a:stCxn id="1871" idx="6"/>
            <a:endCxn id="1868" idx="2"/>
          </p:cNvCxnSpPr>
          <p:nvPr/>
        </p:nvCxnSpPr>
        <p:spPr>
          <a:xfrm flipV="1">
            <a:off x="1901520" y="2514240"/>
            <a:ext cx="136260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74" name=""/>
          <p:cNvGrpSpPr/>
          <p:nvPr/>
        </p:nvGrpSpPr>
        <p:grpSpPr>
          <a:xfrm>
            <a:off x="3276720" y="3809880"/>
            <a:ext cx="1751760" cy="609480"/>
            <a:chOff x="3276720" y="3809880"/>
            <a:chExt cx="1751760" cy="609480"/>
          </a:xfrm>
        </p:grpSpPr>
        <p:sp>
          <p:nvSpPr>
            <p:cNvPr id="1875" name=""/>
            <p:cNvSpPr/>
            <p:nvPr/>
          </p:nvSpPr>
          <p:spPr>
            <a:xfrm>
              <a:off x="3276720" y="3809880"/>
              <a:ext cx="175176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718440" y="3911400"/>
              <a:ext cx="87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2 : 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77" name=""/>
          <p:cNvCxnSpPr>
            <a:stCxn id="1871" idx="6"/>
            <a:endCxn id="1875" idx="2"/>
          </p:cNvCxnSpPr>
          <p:nvPr/>
        </p:nvCxnSpPr>
        <p:spPr>
          <a:xfrm>
            <a:off x="1901520" y="3047760"/>
            <a:ext cx="136260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8" name=""/>
          <p:cNvCxnSpPr>
            <a:stCxn id="1868" idx="3"/>
            <a:endCxn id="1875" idx="1"/>
          </p:cNvCxnSpPr>
          <p:nvPr/>
        </p:nvCxnSpPr>
        <p:spPr>
          <a:xfrm>
            <a:off x="3533400" y="2742840"/>
            <a:ext cx="108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9" name=""/>
          <p:cNvCxnSpPr>
            <a:stCxn id="1875" idx="7"/>
            <a:endCxn id="1868" idx="5"/>
          </p:cNvCxnSpPr>
          <p:nvPr/>
        </p:nvCxnSpPr>
        <p:spPr>
          <a:xfrm flipV="1">
            <a:off x="4771800" y="2742480"/>
            <a:ext cx="108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0" name=""/>
          <p:cNvCxnSpPr>
            <a:stCxn id="1868" idx="1"/>
            <a:endCxn id="1868" idx="7"/>
          </p:cNvCxnSpPr>
          <p:nvPr/>
        </p:nvCxnSpPr>
        <p:spPr>
          <a:xfrm flipH="1" rot="16200000">
            <a:off x="4152240" y="1667160"/>
            <a:ext cx="2160" cy="1239120"/>
          </a:xfrm>
          <a:prstGeom prst="curvedConnector5">
            <a:avLst>
              <a:gd name="adj1" fmla="val -19200000"/>
              <a:gd name="adj2" fmla="val 49985"/>
              <a:gd name="adj3" fmla="val -192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1" name=""/>
          <p:cNvSpPr/>
          <p:nvPr/>
        </p:nvSpPr>
        <p:spPr>
          <a:xfrm>
            <a:off x="1981080" y="25909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2209680" y="3581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124080" y="31240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800600" y="3124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809880" y="16765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6" name=""/>
          <p:cNvCxnSpPr>
            <a:stCxn id="1875" idx="3"/>
            <a:endCxn id="1875" idx="5"/>
          </p:cNvCxnSpPr>
          <p:nvPr/>
        </p:nvCxnSpPr>
        <p:spPr>
          <a:xfrm flipH="1" rot="16200000">
            <a:off x="4152240" y="3724560"/>
            <a:ext cx="2160" cy="1239120"/>
          </a:xfrm>
          <a:prstGeom prst="curvedConnector5">
            <a:avLst>
              <a:gd name="adj1" fmla="val 19200000"/>
              <a:gd name="adj2" fmla="val 49985"/>
              <a:gd name="adj3" fmla="val 192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7" name=""/>
          <p:cNvSpPr/>
          <p:nvPr/>
        </p:nvSpPr>
        <p:spPr>
          <a:xfrm>
            <a:off x="3809880" y="4724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/>
          <p:nvPr/>
        </p:nvSpPr>
        <p:spPr>
          <a:xfrm>
            <a:off x="2057400" y="2209680"/>
            <a:ext cx="1981080" cy="60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362320" y="220968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1 : pièce non truqu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838080" y="2743200"/>
            <a:ext cx="66996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006560" y="2844720"/>
            <a:ext cx="33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2" name=""/>
          <p:cNvCxnSpPr>
            <a:stCxn id="1890" idx="6"/>
            <a:endCxn id="1888" idx="2"/>
          </p:cNvCxnSpPr>
          <p:nvPr/>
        </p:nvCxnSpPr>
        <p:spPr>
          <a:xfrm flipV="1">
            <a:off x="1520640" y="2514240"/>
            <a:ext cx="5241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3" name=""/>
          <p:cNvSpPr/>
          <p:nvPr/>
        </p:nvSpPr>
        <p:spPr>
          <a:xfrm>
            <a:off x="2057400" y="3809880"/>
            <a:ext cx="1981080" cy="60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286000" y="391176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2 : pièce truqu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5" name=""/>
          <p:cNvCxnSpPr>
            <a:stCxn id="1890" idx="6"/>
            <a:endCxn id="1893" idx="2"/>
          </p:cNvCxnSpPr>
          <p:nvPr/>
        </p:nvCxnSpPr>
        <p:spPr>
          <a:xfrm>
            <a:off x="1520640" y="3047760"/>
            <a:ext cx="52416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6" name=""/>
          <p:cNvCxnSpPr>
            <a:stCxn id="1888" idx="3"/>
            <a:endCxn id="1893" idx="1"/>
          </p:cNvCxnSpPr>
          <p:nvPr/>
        </p:nvCxnSpPr>
        <p:spPr>
          <a:xfrm>
            <a:off x="2347560" y="2742840"/>
            <a:ext cx="108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7" name=""/>
          <p:cNvCxnSpPr>
            <a:stCxn id="1893" idx="7"/>
            <a:endCxn id="1888" idx="5"/>
          </p:cNvCxnSpPr>
          <p:nvPr/>
        </p:nvCxnSpPr>
        <p:spPr>
          <a:xfrm flipV="1">
            <a:off x="3747600" y="2742480"/>
            <a:ext cx="108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8" name=""/>
          <p:cNvCxnSpPr>
            <a:stCxn id="1888" idx="1"/>
            <a:endCxn id="1888" idx="7"/>
          </p:cNvCxnSpPr>
          <p:nvPr/>
        </p:nvCxnSpPr>
        <p:spPr>
          <a:xfrm flipH="1" rot="16200000">
            <a:off x="3046680" y="1586520"/>
            <a:ext cx="2160" cy="1400400"/>
          </a:xfrm>
          <a:prstGeom prst="curvedConnector5">
            <a:avLst>
              <a:gd name="adj1" fmla="val -19200000"/>
              <a:gd name="adj2" fmla="val 49987"/>
              <a:gd name="adj3" fmla="val -192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9" name=""/>
          <p:cNvSpPr/>
          <p:nvPr/>
        </p:nvSpPr>
        <p:spPr>
          <a:xfrm>
            <a:off x="1447920" y="2438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447920" y="3581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286000" y="3200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352680" y="3200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743200" y="1676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248520" y="2286000"/>
            <a:ext cx="990360" cy="6094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400800" y="23875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1 : p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324480" y="3581280"/>
            <a:ext cx="1067040" cy="60984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553080" y="368316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2 : 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8" name=""/>
          <p:cNvCxnSpPr>
            <a:stCxn id="1893" idx="6"/>
            <a:endCxn id="1906" idx="2"/>
          </p:cNvCxnSpPr>
          <p:nvPr/>
        </p:nvCxnSpPr>
        <p:spPr>
          <a:xfrm flipV="1">
            <a:off x="4051080" y="3885480"/>
            <a:ext cx="2261160" cy="2293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909" name=""/>
          <p:cNvCxnSpPr>
            <a:stCxn id="1893" idx="6"/>
            <a:endCxn id="1904" idx="2"/>
          </p:cNvCxnSpPr>
          <p:nvPr/>
        </p:nvCxnSpPr>
        <p:spPr>
          <a:xfrm flipV="1">
            <a:off x="4051080" y="2590200"/>
            <a:ext cx="2184840" cy="15246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910" name=""/>
          <p:cNvCxnSpPr>
            <a:stCxn id="1888" idx="6"/>
            <a:endCxn id="1904" idx="2"/>
          </p:cNvCxnSpPr>
          <p:nvPr/>
        </p:nvCxnSpPr>
        <p:spPr>
          <a:xfrm>
            <a:off x="4051080" y="2514600"/>
            <a:ext cx="2184840" cy="7668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911" name=""/>
          <p:cNvCxnSpPr>
            <a:stCxn id="1888" idx="6"/>
            <a:endCxn id="1906" idx="2"/>
          </p:cNvCxnSpPr>
          <p:nvPr/>
        </p:nvCxnSpPr>
        <p:spPr>
          <a:xfrm>
            <a:off x="4051080" y="2514600"/>
            <a:ext cx="2261160" cy="13723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12" name=""/>
          <p:cNvSpPr/>
          <p:nvPr/>
        </p:nvSpPr>
        <p:spPr>
          <a:xfrm>
            <a:off x="5029200" y="2286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800600" y="2743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800600" y="3962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48769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4572000" y="1676520"/>
            <a:ext cx="3200400" cy="3200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248520" y="1143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é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219320" y="5638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57200" y="1143000"/>
            <a:ext cx="3962520" cy="4419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0" name=""/>
          <p:cNvCxnSpPr>
            <a:stCxn id="1893" idx="3"/>
            <a:endCxn id="1893" idx="5"/>
          </p:cNvCxnSpPr>
          <p:nvPr/>
        </p:nvCxnSpPr>
        <p:spPr>
          <a:xfrm flipH="1" rot="16200000">
            <a:off x="3045960" y="3643920"/>
            <a:ext cx="2160" cy="1400400"/>
          </a:xfrm>
          <a:prstGeom prst="curvedConnector5">
            <a:avLst>
              <a:gd name="adj1" fmla="val 19200000"/>
              <a:gd name="adj2" fmla="val 49987"/>
              <a:gd name="adj3" fmla="val 192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1" name=""/>
          <p:cNvSpPr/>
          <p:nvPr/>
        </p:nvSpPr>
        <p:spPr>
          <a:xfrm>
            <a:off x="2743200" y="4648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"/>
          <p:cNvSpPr/>
          <p:nvPr/>
        </p:nvSpPr>
        <p:spPr>
          <a:xfrm>
            <a:off x="3429000" y="3809880"/>
            <a:ext cx="5334120" cy="1143000"/>
          </a:xfrm>
          <a:prstGeom prst="rect">
            <a:avLst/>
          </a:prstGeom>
          <a:solidFill>
            <a:srgbClr val="ffcccc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800600" y="990720"/>
            <a:ext cx="2362320" cy="1371600"/>
          </a:xfrm>
          <a:prstGeom prst="rect">
            <a:avLst/>
          </a:prstGeom>
          <a:solidFill>
            <a:srgbClr val="ccec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4" name=""/>
          <p:cNvGraphicFramePr/>
          <p:nvPr/>
        </p:nvGraphicFramePr>
        <p:xfrm>
          <a:off x="1447920" y="609480"/>
          <a:ext cx="67608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76080" cy="3906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6" name=""/>
          <p:cNvGraphicFramePr/>
          <p:nvPr/>
        </p:nvGraphicFramePr>
        <p:xfrm>
          <a:off x="838080" y="2057400"/>
          <a:ext cx="3715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057400"/>
                    <a:ext cx="371520" cy="3808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8" name=""/>
          <p:cNvGraphicFramePr/>
          <p:nvPr/>
        </p:nvGraphicFramePr>
        <p:xfrm>
          <a:off x="1600200" y="2057400"/>
          <a:ext cx="4096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057400"/>
                    <a:ext cx="409680" cy="3808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30" name=""/>
          <p:cNvGraphicFramePr/>
          <p:nvPr/>
        </p:nvGraphicFramePr>
        <p:xfrm>
          <a:off x="2362320" y="2057400"/>
          <a:ext cx="39024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2057400"/>
                    <a:ext cx="390240" cy="3808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32" name=""/>
          <p:cNvSpPr/>
          <p:nvPr/>
        </p:nvSpPr>
        <p:spPr>
          <a:xfrm>
            <a:off x="4876920" y="4191120"/>
            <a:ext cx="53316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800600" y="4267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791320" y="4191120"/>
            <a:ext cx="53316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715000" y="4267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6" name=""/>
          <p:cNvCxnSpPr/>
          <p:nvPr/>
        </p:nvCxnSpPr>
        <p:spPr>
          <a:xfrm>
            <a:off x="1785600" y="1009800"/>
            <a:ext cx="19800" cy="1038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7" name=""/>
          <p:cNvCxnSpPr/>
          <p:nvPr/>
        </p:nvCxnSpPr>
        <p:spPr>
          <a:xfrm>
            <a:off x="1785600" y="1009800"/>
            <a:ext cx="772200" cy="1038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8" name=""/>
          <p:cNvCxnSpPr/>
          <p:nvPr/>
        </p:nvCxnSpPr>
        <p:spPr>
          <a:xfrm flipH="1">
            <a:off x="1023120" y="1009800"/>
            <a:ext cx="762840" cy="1038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9" name=""/>
          <p:cNvSpPr/>
          <p:nvPr/>
        </p:nvSpPr>
        <p:spPr>
          <a:xfrm>
            <a:off x="762120" y="3200400"/>
            <a:ext cx="2057400" cy="52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 graphèmes identiques composent la lettre 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248520" y="1600200"/>
            <a:ext cx="53316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172200" y="1676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2" name=""/>
          <p:cNvCxnSpPr>
            <a:stCxn id="1943" idx="3"/>
            <a:endCxn id="1940" idx="2"/>
          </p:cNvCxnSpPr>
          <p:nvPr/>
        </p:nvCxnSpPr>
        <p:spPr>
          <a:xfrm>
            <a:off x="5648400" y="1838160"/>
            <a:ext cx="591120" cy="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4" name=""/>
          <p:cNvCxnSpPr/>
          <p:nvPr/>
        </p:nvCxnSpPr>
        <p:spPr>
          <a:xfrm rot="5400000">
            <a:off x="6512040" y="1488240"/>
            <a:ext cx="2160" cy="378720"/>
          </a:xfrm>
          <a:prstGeom prst="curvedConnector5">
            <a:avLst>
              <a:gd name="adj1" fmla="val -18700000"/>
              <a:gd name="adj2" fmla="val 49952"/>
              <a:gd name="adj3" fmla="val -187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5" name=""/>
          <p:cNvSpPr/>
          <p:nvPr/>
        </p:nvSpPr>
        <p:spPr>
          <a:xfrm>
            <a:off x="6248520" y="1066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715000" y="1523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7" name=""/>
          <p:cNvCxnSpPr>
            <a:endCxn id="1939" idx="0"/>
          </p:cNvCxnSpPr>
          <p:nvPr/>
        </p:nvCxnSpPr>
        <p:spPr>
          <a:xfrm flipH="1">
            <a:off x="1790280" y="2448000"/>
            <a:ext cx="15120" cy="7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8" name=""/>
          <p:cNvCxnSpPr>
            <a:endCxn id="1939" idx="0"/>
          </p:cNvCxnSpPr>
          <p:nvPr/>
        </p:nvCxnSpPr>
        <p:spPr>
          <a:xfrm flipH="1">
            <a:off x="1790280" y="2448000"/>
            <a:ext cx="767520" cy="7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9" name=""/>
          <p:cNvCxnSpPr>
            <a:endCxn id="1939" idx="0"/>
          </p:cNvCxnSpPr>
          <p:nvPr/>
        </p:nvCxnSpPr>
        <p:spPr>
          <a:xfrm>
            <a:off x="1023840" y="2448000"/>
            <a:ext cx="767520" cy="7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0" name=""/>
          <p:cNvCxnSpPr>
            <a:stCxn id="1939" idx="3"/>
            <a:endCxn id="1923" idx="1"/>
          </p:cNvCxnSpPr>
          <p:nvPr/>
        </p:nvCxnSpPr>
        <p:spPr>
          <a:xfrm flipV="1">
            <a:off x="2828520" y="1676160"/>
            <a:ext cx="1963080" cy="179280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951" name=""/>
          <p:cNvGraphicFramePr/>
          <p:nvPr/>
        </p:nvGraphicFramePr>
        <p:xfrm>
          <a:off x="6019920" y="2819520"/>
          <a:ext cx="457200" cy="45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9920" y="2819520"/>
                    <a:ext cx="457200" cy="4521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953" name=""/>
          <p:cNvCxnSpPr>
            <a:stCxn id="1940" idx="4"/>
          </p:cNvCxnSpPr>
          <p:nvPr/>
        </p:nvCxnSpPr>
        <p:spPr>
          <a:xfrm flipH="1">
            <a:off x="6248160" y="2143080"/>
            <a:ext cx="267120" cy="667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54" name=""/>
          <p:cNvSpPr/>
          <p:nvPr/>
        </p:nvSpPr>
        <p:spPr>
          <a:xfrm>
            <a:off x="6705720" y="4191120"/>
            <a:ext cx="53316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629400" y="4267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876920" y="1676520"/>
            <a:ext cx="76176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6" name=""/>
          <p:cNvCxnSpPr>
            <a:stCxn id="1932" idx="6"/>
            <a:endCxn id="1934" idx="2"/>
          </p:cNvCxnSpPr>
          <p:nvPr/>
        </p:nvCxnSpPr>
        <p:spPr>
          <a:xfrm>
            <a:off x="5419440" y="4457520"/>
            <a:ext cx="362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7" name=""/>
          <p:cNvCxnSpPr>
            <a:stCxn id="1934" idx="6"/>
            <a:endCxn id="1954" idx="2"/>
          </p:cNvCxnSpPr>
          <p:nvPr/>
        </p:nvCxnSpPr>
        <p:spPr>
          <a:xfrm>
            <a:off x="6333840" y="4457520"/>
            <a:ext cx="362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8" name=""/>
          <p:cNvCxnSpPr>
            <a:stCxn id="1959" idx="3"/>
            <a:endCxn id="1932" idx="2"/>
          </p:cNvCxnSpPr>
          <p:nvPr/>
        </p:nvCxnSpPr>
        <p:spPr>
          <a:xfrm>
            <a:off x="4505040" y="4429080"/>
            <a:ext cx="362520" cy="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9" name=""/>
          <p:cNvSpPr/>
          <p:nvPr/>
        </p:nvSpPr>
        <p:spPr>
          <a:xfrm>
            <a:off x="3733920" y="4267080"/>
            <a:ext cx="76176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7696080" y="4267080"/>
            <a:ext cx="76212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or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1" name=""/>
          <p:cNvCxnSpPr>
            <a:stCxn id="1954" idx="6"/>
            <a:endCxn id="1960" idx="1"/>
          </p:cNvCxnSpPr>
          <p:nvPr/>
        </p:nvCxnSpPr>
        <p:spPr>
          <a:xfrm flipV="1">
            <a:off x="7248240" y="4428720"/>
            <a:ext cx="438840" cy="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2" name=""/>
          <p:cNvCxnSpPr>
            <a:stCxn id="1932" idx="0"/>
          </p:cNvCxnSpPr>
          <p:nvPr/>
        </p:nvCxnSpPr>
        <p:spPr>
          <a:xfrm flipV="1">
            <a:off x="5143320" y="3281040"/>
            <a:ext cx="1105560" cy="900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963" name=""/>
          <p:cNvCxnSpPr>
            <a:stCxn id="1934" idx="0"/>
          </p:cNvCxnSpPr>
          <p:nvPr/>
        </p:nvCxnSpPr>
        <p:spPr>
          <a:xfrm flipV="1">
            <a:off x="6057720" y="3281040"/>
            <a:ext cx="191160" cy="900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964" name=""/>
          <p:cNvCxnSpPr>
            <a:stCxn id="1954" idx="0"/>
          </p:cNvCxnSpPr>
          <p:nvPr/>
        </p:nvCxnSpPr>
        <p:spPr>
          <a:xfrm flipH="1" flipV="1">
            <a:off x="6247800" y="3281040"/>
            <a:ext cx="724680" cy="900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5" name=""/>
          <p:cNvSpPr/>
          <p:nvPr/>
        </p:nvSpPr>
        <p:spPr>
          <a:xfrm>
            <a:off x="4495680" y="41148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5410080" y="41911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324480" y="41911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238880" y="41911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9" name=""/>
          <p:cNvCxnSpPr>
            <a:stCxn id="1939" idx="3"/>
            <a:endCxn id="1922" idx="1"/>
          </p:cNvCxnSpPr>
          <p:nvPr/>
        </p:nvCxnSpPr>
        <p:spPr>
          <a:xfrm>
            <a:off x="2828520" y="3468600"/>
            <a:ext cx="591120" cy="913680"/>
          </a:xfrm>
          <a:prstGeom prst="curvedConnector5">
            <a:avLst>
              <a:gd name="adj1" fmla="val 49969"/>
              <a:gd name="adj2" fmla="val 49980"/>
              <a:gd name="adj3" fmla="val 4996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0" name=""/>
          <p:cNvSpPr/>
          <p:nvPr/>
        </p:nvSpPr>
        <p:spPr>
          <a:xfrm>
            <a:off x="4800600" y="2514600"/>
            <a:ext cx="2819520" cy="121932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47712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800600" y="685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odèle optimal sans sortie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800600" y="495288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odèle optimal avec sortie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4" name=""/>
          <p:cNvGrpSpPr/>
          <p:nvPr/>
        </p:nvGrpSpPr>
        <p:grpSpPr>
          <a:xfrm>
            <a:off x="685800" y="1447560"/>
            <a:ext cx="7238880" cy="2974320"/>
            <a:chOff x="685800" y="1447560"/>
            <a:chExt cx="7238880" cy="2974320"/>
          </a:xfrm>
        </p:grpSpPr>
        <p:sp>
          <p:nvSpPr>
            <p:cNvPr id="1975" name=""/>
            <p:cNvSpPr/>
            <p:nvPr/>
          </p:nvSpPr>
          <p:spPr>
            <a:xfrm>
              <a:off x="2971800" y="2590920"/>
              <a:ext cx="53352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895480" y="27432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257800" y="2590920"/>
              <a:ext cx="53352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181480" y="27432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9" name=""/>
            <p:cNvCxnSpPr>
              <a:stCxn id="1975" idx="6"/>
              <a:endCxn id="1977" idx="2"/>
            </p:cNvCxnSpPr>
            <p:nvPr/>
          </p:nvCxnSpPr>
          <p:spPr>
            <a:xfrm>
              <a:off x="3514680" y="2895120"/>
              <a:ext cx="17344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0" name=""/>
            <p:cNvCxnSpPr>
              <a:endCxn id="1975" idx="2"/>
            </p:cNvCxnSpPr>
            <p:nvPr/>
          </p:nvCxnSpPr>
          <p:spPr>
            <a:xfrm>
              <a:off x="1981080" y="2895120"/>
              <a:ext cx="98208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1" name=""/>
            <p:cNvCxnSpPr>
              <a:stCxn id="1977" idx="6"/>
            </p:cNvCxnSpPr>
            <p:nvPr/>
          </p:nvCxnSpPr>
          <p:spPr>
            <a:xfrm flipV="1">
              <a:off x="5800680" y="1980720"/>
              <a:ext cx="829440" cy="91512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2" name=""/>
            <p:cNvCxnSpPr>
              <a:stCxn id="1977" idx="6"/>
            </p:cNvCxnSpPr>
            <p:nvPr/>
          </p:nvCxnSpPr>
          <p:spPr>
            <a:xfrm>
              <a:off x="5800680" y="2895120"/>
              <a:ext cx="829440" cy="68652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3" name=""/>
            <p:cNvCxnSpPr>
              <a:stCxn id="1977" idx="6"/>
            </p:cNvCxnSpPr>
            <p:nvPr/>
          </p:nvCxnSpPr>
          <p:spPr>
            <a:xfrm>
              <a:off x="5800680" y="2895120"/>
              <a:ext cx="82944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4" name=""/>
            <p:cNvCxnSpPr>
              <a:stCxn id="1975" idx="6"/>
            </p:cNvCxnSpPr>
            <p:nvPr/>
          </p:nvCxnSpPr>
          <p:spPr>
            <a:xfrm flipV="1">
              <a:off x="3514680" y="2208960"/>
              <a:ext cx="820080" cy="68652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5" name=""/>
            <p:cNvCxnSpPr>
              <a:stCxn id="1975" idx="6"/>
            </p:cNvCxnSpPr>
            <p:nvPr/>
          </p:nvCxnSpPr>
          <p:spPr>
            <a:xfrm>
              <a:off x="3514680" y="2895120"/>
              <a:ext cx="753120" cy="76284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6" name=""/>
            <p:cNvCxnSpPr>
              <a:endCxn id="1975" idx="2"/>
            </p:cNvCxnSpPr>
            <p:nvPr/>
          </p:nvCxnSpPr>
          <p:spPr>
            <a:xfrm>
              <a:off x="1904760" y="2285640"/>
              <a:ext cx="1058040" cy="61020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7" name=""/>
            <p:cNvCxnSpPr>
              <a:endCxn id="1975" idx="2"/>
            </p:cNvCxnSpPr>
            <p:nvPr/>
          </p:nvCxnSpPr>
          <p:spPr>
            <a:xfrm flipV="1">
              <a:off x="1981080" y="2895120"/>
              <a:ext cx="982080" cy="61056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988" name=""/>
            <p:cNvSpPr/>
            <p:nvPr/>
          </p:nvSpPr>
          <p:spPr>
            <a:xfrm>
              <a:off x="762120" y="1905120"/>
              <a:ext cx="2327040" cy="1914480"/>
            </a:xfrm>
            <a:custGeom>
              <a:avLst/>
              <a:gdLst/>
              <a:ahLst/>
              <a:rect l="l" t="t" r="r" b="b"/>
              <a:pathLst>
                <a:path w="1658" h="1206">
                  <a:moveTo>
                    <a:pt x="0" y="762"/>
                  </a:moveTo>
                  <a:cubicBezTo>
                    <a:pt x="9" y="721"/>
                    <a:pt x="17" y="676"/>
                    <a:pt x="30" y="636"/>
                  </a:cubicBezTo>
                  <a:cubicBezTo>
                    <a:pt x="34" y="596"/>
                    <a:pt x="38" y="556"/>
                    <a:pt x="42" y="516"/>
                  </a:cubicBezTo>
                  <a:cubicBezTo>
                    <a:pt x="59" y="342"/>
                    <a:pt x="10" y="71"/>
                    <a:pt x="222" y="0"/>
                  </a:cubicBezTo>
                  <a:cubicBezTo>
                    <a:pt x="274" y="9"/>
                    <a:pt x="255" y="5"/>
                    <a:pt x="276" y="48"/>
                  </a:cubicBezTo>
                  <a:cubicBezTo>
                    <a:pt x="283" y="100"/>
                    <a:pt x="287" y="153"/>
                    <a:pt x="300" y="204"/>
                  </a:cubicBezTo>
                  <a:cubicBezTo>
                    <a:pt x="308" y="293"/>
                    <a:pt x="290" y="391"/>
                    <a:pt x="318" y="474"/>
                  </a:cubicBezTo>
                  <a:cubicBezTo>
                    <a:pt x="324" y="653"/>
                    <a:pt x="312" y="837"/>
                    <a:pt x="342" y="1014"/>
                  </a:cubicBezTo>
                  <a:cubicBezTo>
                    <a:pt x="350" y="1063"/>
                    <a:pt x="363" y="1138"/>
                    <a:pt x="396" y="1176"/>
                  </a:cubicBezTo>
                  <a:cubicBezTo>
                    <a:pt x="412" y="1194"/>
                    <a:pt x="462" y="1206"/>
                    <a:pt x="462" y="1206"/>
                  </a:cubicBezTo>
                  <a:cubicBezTo>
                    <a:pt x="486" y="1202"/>
                    <a:pt x="511" y="1201"/>
                    <a:pt x="534" y="1194"/>
                  </a:cubicBezTo>
                  <a:cubicBezTo>
                    <a:pt x="565" y="1184"/>
                    <a:pt x="578" y="1140"/>
                    <a:pt x="594" y="1116"/>
                  </a:cubicBezTo>
                  <a:cubicBezTo>
                    <a:pt x="604" y="1068"/>
                    <a:pt x="595" y="1095"/>
                    <a:pt x="624" y="1038"/>
                  </a:cubicBezTo>
                  <a:cubicBezTo>
                    <a:pt x="642" y="1002"/>
                    <a:pt x="637" y="964"/>
                    <a:pt x="660" y="930"/>
                  </a:cubicBezTo>
                  <a:cubicBezTo>
                    <a:pt x="667" y="883"/>
                    <a:pt x="678" y="839"/>
                    <a:pt x="684" y="792"/>
                  </a:cubicBezTo>
                  <a:cubicBezTo>
                    <a:pt x="686" y="738"/>
                    <a:pt x="687" y="684"/>
                    <a:pt x="690" y="630"/>
                  </a:cubicBezTo>
                  <a:cubicBezTo>
                    <a:pt x="691" y="618"/>
                    <a:pt x="695" y="606"/>
                    <a:pt x="696" y="594"/>
                  </a:cubicBezTo>
                  <a:cubicBezTo>
                    <a:pt x="703" y="444"/>
                    <a:pt x="686" y="425"/>
                    <a:pt x="720" y="324"/>
                  </a:cubicBezTo>
                  <a:cubicBezTo>
                    <a:pt x="728" y="256"/>
                    <a:pt x="736" y="128"/>
                    <a:pt x="786" y="78"/>
                  </a:cubicBezTo>
                  <a:cubicBezTo>
                    <a:pt x="807" y="57"/>
                    <a:pt x="842" y="45"/>
                    <a:pt x="870" y="36"/>
                  </a:cubicBezTo>
                  <a:cubicBezTo>
                    <a:pt x="892" y="38"/>
                    <a:pt x="915" y="36"/>
                    <a:pt x="936" y="42"/>
                  </a:cubicBezTo>
                  <a:cubicBezTo>
                    <a:pt x="953" y="47"/>
                    <a:pt x="958" y="113"/>
                    <a:pt x="966" y="138"/>
                  </a:cubicBezTo>
                  <a:cubicBezTo>
                    <a:pt x="981" y="257"/>
                    <a:pt x="1018" y="372"/>
                    <a:pt x="1056" y="486"/>
                  </a:cubicBezTo>
                  <a:cubicBezTo>
                    <a:pt x="1060" y="517"/>
                    <a:pt x="1067" y="541"/>
                    <a:pt x="1074" y="570"/>
                  </a:cubicBezTo>
                  <a:cubicBezTo>
                    <a:pt x="1080" y="624"/>
                    <a:pt x="1087" y="678"/>
                    <a:pt x="1092" y="732"/>
                  </a:cubicBezTo>
                  <a:cubicBezTo>
                    <a:pt x="1093" y="761"/>
                    <a:pt x="1085" y="1026"/>
                    <a:pt x="1140" y="1092"/>
                  </a:cubicBezTo>
                  <a:cubicBezTo>
                    <a:pt x="1150" y="1104"/>
                    <a:pt x="1165" y="1111"/>
                    <a:pt x="1176" y="1122"/>
                  </a:cubicBezTo>
                  <a:cubicBezTo>
                    <a:pt x="1197" y="1118"/>
                    <a:pt x="1219" y="1119"/>
                    <a:pt x="1236" y="1104"/>
                  </a:cubicBezTo>
                  <a:cubicBezTo>
                    <a:pt x="1264" y="1081"/>
                    <a:pt x="1284" y="1046"/>
                    <a:pt x="1314" y="1026"/>
                  </a:cubicBezTo>
                  <a:cubicBezTo>
                    <a:pt x="1320" y="1016"/>
                    <a:pt x="1327" y="1007"/>
                    <a:pt x="1332" y="996"/>
                  </a:cubicBezTo>
                  <a:cubicBezTo>
                    <a:pt x="1337" y="984"/>
                    <a:pt x="1344" y="960"/>
                    <a:pt x="1344" y="960"/>
                  </a:cubicBezTo>
                  <a:cubicBezTo>
                    <a:pt x="1353" y="884"/>
                    <a:pt x="1353" y="808"/>
                    <a:pt x="1362" y="732"/>
                  </a:cubicBezTo>
                  <a:cubicBezTo>
                    <a:pt x="1360" y="690"/>
                    <a:pt x="1363" y="647"/>
                    <a:pt x="1356" y="606"/>
                  </a:cubicBezTo>
                  <a:cubicBezTo>
                    <a:pt x="1353" y="588"/>
                    <a:pt x="1340" y="574"/>
                    <a:pt x="1332" y="558"/>
                  </a:cubicBezTo>
                  <a:cubicBezTo>
                    <a:pt x="1327" y="548"/>
                    <a:pt x="1317" y="496"/>
                    <a:pt x="1314" y="480"/>
                  </a:cubicBezTo>
                  <a:cubicBezTo>
                    <a:pt x="1309" y="425"/>
                    <a:pt x="1294" y="355"/>
                    <a:pt x="1326" y="306"/>
                  </a:cubicBezTo>
                  <a:cubicBezTo>
                    <a:pt x="1346" y="310"/>
                    <a:pt x="1367" y="309"/>
                    <a:pt x="1386" y="318"/>
                  </a:cubicBezTo>
                  <a:cubicBezTo>
                    <a:pt x="1408" y="328"/>
                    <a:pt x="1414" y="358"/>
                    <a:pt x="1428" y="378"/>
                  </a:cubicBezTo>
                  <a:cubicBezTo>
                    <a:pt x="1450" y="411"/>
                    <a:pt x="1472" y="446"/>
                    <a:pt x="1500" y="474"/>
                  </a:cubicBezTo>
                  <a:cubicBezTo>
                    <a:pt x="1522" y="540"/>
                    <a:pt x="1487" y="440"/>
                    <a:pt x="1518" y="510"/>
                  </a:cubicBezTo>
                  <a:cubicBezTo>
                    <a:pt x="1535" y="547"/>
                    <a:pt x="1538" y="608"/>
                    <a:pt x="1560" y="642"/>
                  </a:cubicBezTo>
                  <a:cubicBezTo>
                    <a:pt x="1576" y="665"/>
                    <a:pt x="1570" y="653"/>
                    <a:pt x="1578" y="678"/>
                  </a:cubicBezTo>
                  <a:cubicBezTo>
                    <a:pt x="1590" y="676"/>
                    <a:pt x="1603" y="677"/>
                    <a:pt x="1614" y="672"/>
                  </a:cubicBezTo>
                  <a:cubicBezTo>
                    <a:pt x="1658" y="653"/>
                    <a:pt x="1618" y="654"/>
                    <a:pt x="1638" y="654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5714280" y="1828800"/>
              <a:ext cx="1981080" cy="1914480"/>
            </a:xfrm>
            <a:custGeom>
              <a:avLst/>
              <a:gdLst/>
              <a:ahLst/>
              <a:rect l="l" t="t" r="r" b="b"/>
              <a:pathLst>
                <a:path w="1658" h="1206">
                  <a:moveTo>
                    <a:pt x="0" y="762"/>
                  </a:moveTo>
                  <a:cubicBezTo>
                    <a:pt x="9" y="721"/>
                    <a:pt x="17" y="676"/>
                    <a:pt x="30" y="636"/>
                  </a:cubicBezTo>
                  <a:cubicBezTo>
                    <a:pt x="34" y="596"/>
                    <a:pt x="38" y="556"/>
                    <a:pt x="42" y="516"/>
                  </a:cubicBezTo>
                  <a:cubicBezTo>
                    <a:pt x="59" y="342"/>
                    <a:pt x="10" y="71"/>
                    <a:pt x="222" y="0"/>
                  </a:cubicBezTo>
                  <a:cubicBezTo>
                    <a:pt x="274" y="9"/>
                    <a:pt x="255" y="5"/>
                    <a:pt x="276" y="48"/>
                  </a:cubicBezTo>
                  <a:cubicBezTo>
                    <a:pt x="283" y="100"/>
                    <a:pt x="287" y="153"/>
                    <a:pt x="300" y="204"/>
                  </a:cubicBezTo>
                  <a:cubicBezTo>
                    <a:pt x="308" y="293"/>
                    <a:pt x="290" y="391"/>
                    <a:pt x="318" y="474"/>
                  </a:cubicBezTo>
                  <a:cubicBezTo>
                    <a:pt x="324" y="653"/>
                    <a:pt x="312" y="837"/>
                    <a:pt x="342" y="1014"/>
                  </a:cubicBezTo>
                  <a:cubicBezTo>
                    <a:pt x="350" y="1063"/>
                    <a:pt x="363" y="1138"/>
                    <a:pt x="396" y="1176"/>
                  </a:cubicBezTo>
                  <a:cubicBezTo>
                    <a:pt x="412" y="1194"/>
                    <a:pt x="462" y="1206"/>
                    <a:pt x="462" y="1206"/>
                  </a:cubicBezTo>
                  <a:cubicBezTo>
                    <a:pt x="486" y="1202"/>
                    <a:pt x="511" y="1201"/>
                    <a:pt x="534" y="1194"/>
                  </a:cubicBezTo>
                  <a:cubicBezTo>
                    <a:pt x="565" y="1184"/>
                    <a:pt x="578" y="1140"/>
                    <a:pt x="594" y="1116"/>
                  </a:cubicBezTo>
                  <a:cubicBezTo>
                    <a:pt x="604" y="1068"/>
                    <a:pt x="595" y="1095"/>
                    <a:pt x="624" y="1038"/>
                  </a:cubicBezTo>
                  <a:cubicBezTo>
                    <a:pt x="642" y="1002"/>
                    <a:pt x="637" y="964"/>
                    <a:pt x="660" y="930"/>
                  </a:cubicBezTo>
                  <a:cubicBezTo>
                    <a:pt x="667" y="883"/>
                    <a:pt x="678" y="839"/>
                    <a:pt x="684" y="792"/>
                  </a:cubicBezTo>
                  <a:cubicBezTo>
                    <a:pt x="686" y="738"/>
                    <a:pt x="687" y="684"/>
                    <a:pt x="690" y="630"/>
                  </a:cubicBezTo>
                  <a:cubicBezTo>
                    <a:pt x="691" y="618"/>
                    <a:pt x="695" y="606"/>
                    <a:pt x="696" y="594"/>
                  </a:cubicBezTo>
                  <a:cubicBezTo>
                    <a:pt x="703" y="444"/>
                    <a:pt x="686" y="425"/>
                    <a:pt x="720" y="324"/>
                  </a:cubicBezTo>
                  <a:cubicBezTo>
                    <a:pt x="728" y="256"/>
                    <a:pt x="736" y="128"/>
                    <a:pt x="786" y="78"/>
                  </a:cubicBezTo>
                  <a:cubicBezTo>
                    <a:pt x="807" y="57"/>
                    <a:pt x="842" y="45"/>
                    <a:pt x="870" y="36"/>
                  </a:cubicBezTo>
                  <a:cubicBezTo>
                    <a:pt x="892" y="38"/>
                    <a:pt x="915" y="36"/>
                    <a:pt x="936" y="42"/>
                  </a:cubicBezTo>
                  <a:cubicBezTo>
                    <a:pt x="953" y="47"/>
                    <a:pt x="958" y="113"/>
                    <a:pt x="966" y="138"/>
                  </a:cubicBezTo>
                  <a:cubicBezTo>
                    <a:pt x="981" y="257"/>
                    <a:pt x="1018" y="372"/>
                    <a:pt x="1056" y="486"/>
                  </a:cubicBezTo>
                  <a:cubicBezTo>
                    <a:pt x="1060" y="517"/>
                    <a:pt x="1067" y="541"/>
                    <a:pt x="1074" y="570"/>
                  </a:cubicBezTo>
                  <a:cubicBezTo>
                    <a:pt x="1080" y="624"/>
                    <a:pt x="1087" y="678"/>
                    <a:pt x="1092" y="732"/>
                  </a:cubicBezTo>
                  <a:cubicBezTo>
                    <a:pt x="1093" y="761"/>
                    <a:pt x="1085" y="1026"/>
                    <a:pt x="1140" y="1092"/>
                  </a:cubicBezTo>
                  <a:cubicBezTo>
                    <a:pt x="1150" y="1104"/>
                    <a:pt x="1165" y="1111"/>
                    <a:pt x="1176" y="1122"/>
                  </a:cubicBezTo>
                  <a:cubicBezTo>
                    <a:pt x="1197" y="1118"/>
                    <a:pt x="1219" y="1119"/>
                    <a:pt x="1236" y="1104"/>
                  </a:cubicBezTo>
                  <a:cubicBezTo>
                    <a:pt x="1264" y="1081"/>
                    <a:pt x="1284" y="1046"/>
                    <a:pt x="1314" y="1026"/>
                  </a:cubicBezTo>
                  <a:cubicBezTo>
                    <a:pt x="1320" y="1016"/>
                    <a:pt x="1327" y="1007"/>
                    <a:pt x="1332" y="996"/>
                  </a:cubicBezTo>
                  <a:cubicBezTo>
                    <a:pt x="1337" y="984"/>
                    <a:pt x="1344" y="960"/>
                    <a:pt x="1344" y="960"/>
                  </a:cubicBezTo>
                  <a:cubicBezTo>
                    <a:pt x="1353" y="884"/>
                    <a:pt x="1353" y="808"/>
                    <a:pt x="1362" y="732"/>
                  </a:cubicBezTo>
                  <a:cubicBezTo>
                    <a:pt x="1360" y="690"/>
                    <a:pt x="1363" y="647"/>
                    <a:pt x="1356" y="606"/>
                  </a:cubicBezTo>
                  <a:cubicBezTo>
                    <a:pt x="1353" y="588"/>
                    <a:pt x="1340" y="574"/>
                    <a:pt x="1332" y="558"/>
                  </a:cubicBezTo>
                  <a:cubicBezTo>
                    <a:pt x="1327" y="548"/>
                    <a:pt x="1317" y="496"/>
                    <a:pt x="1314" y="480"/>
                  </a:cubicBezTo>
                  <a:cubicBezTo>
                    <a:pt x="1309" y="425"/>
                    <a:pt x="1294" y="355"/>
                    <a:pt x="1326" y="306"/>
                  </a:cubicBezTo>
                  <a:cubicBezTo>
                    <a:pt x="1346" y="310"/>
                    <a:pt x="1367" y="309"/>
                    <a:pt x="1386" y="318"/>
                  </a:cubicBezTo>
                  <a:cubicBezTo>
                    <a:pt x="1408" y="328"/>
                    <a:pt x="1414" y="358"/>
                    <a:pt x="1428" y="378"/>
                  </a:cubicBezTo>
                  <a:cubicBezTo>
                    <a:pt x="1450" y="411"/>
                    <a:pt x="1472" y="446"/>
                    <a:pt x="1500" y="474"/>
                  </a:cubicBezTo>
                  <a:cubicBezTo>
                    <a:pt x="1522" y="540"/>
                    <a:pt x="1487" y="440"/>
                    <a:pt x="1518" y="510"/>
                  </a:cubicBezTo>
                  <a:cubicBezTo>
                    <a:pt x="1535" y="547"/>
                    <a:pt x="1538" y="608"/>
                    <a:pt x="1560" y="642"/>
                  </a:cubicBezTo>
                  <a:cubicBezTo>
                    <a:pt x="1576" y="665"/>
                    <a:pt x="1570" y="653"/>
                    <a:pt x="1578" y="678"/>
                  </a:cubicBezTo>
                  <a:cubicBezTo>
                    <a:pt x="1590" y="676"/>
                    <a:pt x="1603" y="677"/>
                    <a:pt x="1614" y="672"/>
                  </a:cubicBezTo>
                  <a:cubicBezTo>
                    <a:pt x="1658" y="653"/>
                    <a:pt x="1618" y="654"/>
                    <a:pt x="1638" y="654"/>
                  </a:cubicBezTo>
                </a:path>
              </a:pathLst>
            </a:custGeom>
            <a:noFill/>
            <a:ln w="63360">
              <a:solidFill>
                <a:srgbClr val="00cc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85800" y="388620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Times New Roman"/>
                </a:rPr>
                <a:t>chemins arrivant à l'état </a:t>
              </a:r>
              <a:r>
                <a:rPr b="1" i="1" lang="fr-FR" sz="1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715000" y="3809880"/>
              <a:ext cx="220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cc99"/>
                  </a:solidFill>
                  <a:latin typeface="Times New Roman"/>
                </a:rPr>
                <a:t>chemins partant de l'état </a:t>
              </a:r>
              <a:r>
                <a:rPr b="0" i="1" lang="fr-FR" sz="1400" spc="-1" strike="noStrike">
                  <a:solidFill>
                    <a:srgbClr val="00cc99"/>
                  </a:solidFill>
                  <a:latin typeface="Times New Roman"/>
                </a:rPr>
                <a:t>i</a:t>
              </a:r>
              <a:r>
                <a:rPr b="1" lang="fr-FR" sz="1400" spc="-1" strike="noStrike">
                  <a:solidFill>
                    <a:srgbClr val="00cc99"/>
                  </a:solidFill>
                  <a:latin typeface="Times New Roman"/>
                </a:rPr>
                <a:t> et passant par </a:t>
              </a:r>
              <a:r>
                <a:rPr b="0" i="1" lang="fr-FR" sz="1400" spc="-1" strike="noStrike">
                  <a:solidFill>
                    <a:srgbClr val="00cc99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3505320" y="1446840"/>
              <a:ext cx="1523880" cy="1447560"/>
            </a:xfrm>
            <a:custGeom>
              <a:avLst/>
              <a:gdLst/>
              <a:ahLst/>
              <a:rect l="l" t="t" r="r" b="b"/>
              <a:pathLst>
                <a:path w="1434" h="1338">
                  <a:moveTo>
                    <a:pt x="0" y="6"/>
                  </a:moveTo>
                  <a:cubicBezTo>
                    <a:pt x="69" y="9"/>
                    <a:pt x="120" y="0"/>
                    <a:pt x="174" y="36"/>
                  </a:cubicBezTo>
                  <a:cubicBezTo>
                    <a:pt x="199" y="73"/>
                    <a:pt x="220" y="114"/>
                    <a:pt x="234" y="156"/>
                  </a:cubicBezTo>
                  <a:cubicBezTo>
                    <a:pt x="243" y="218"/>
                    <a:pt x="192" y="369"/>
                    <a:pt x="276" y="348"/>
                  </a:cubicBezTo>
                  <a:cubicBezTo>
                    <a:pt x="307" y="327"/>
                    <a:pt x="336" y="313"/>
                    <a:pt x="372" y="306"/>
                  </a:cubicBezTo>
                  <a:cubicBezTo>
                    <a:pt x="411" y="286"/>
                    <a:pt x="445" y="278"/>
                    <a:pt x="486" y="264"/>
                  </a:cubicBezTo>
                  <a:cubicBezTo>
                    <a:pt x="558" y="280"/>
                    <a:pt x="538" y="271"/>
                    <a:pt x="564" y="330"/>
                  </a:cubicBezTo>
                  <a:cubicBezTo>
                    <a:pt x="568" y="340"/>
                    <a:pt x="572" y="350"/>
                    <a:pt x="576" y="360"/>
                  </a:cubicBezTo>
                  <a:cubicBezTo>
                    <a:pt x="580" y="372"/>
                    <a:pt x="588" y="396"/>
                    <a:pt x="588" y="396"/>
                  </a:cubicBezTo>
                  <a:cubicBezTo>
                    <a:pt x="602" y="491"/>
                    <a:pt x="600" y="587"/>
                    <a:pt x="570" y="678"/>
                  </a:cubicBezTo>
                  <a:cubicBezTo>
                    <a:pt x="632" y="690"/>
                    <a:pt x="684" y="647"/>
                    <a:pt x="732" y="612"/>
                  </a:cubicBezTo>
                  <a:cubicBezTo>
                    <a:pt x="755" y="596"/>
                    <a:pt x="783" y="592"/>
                    <a:pt x="810" y="588"/>
                  </a:cubicBezTo>
                  <a:cubicBezTo>
                    <a:pt x="876" y="607"/>
                    <a:pt x="857" y="612"/>
                    <a:pt x="864" y="684"/>
                  </a:cubicBezTo>
                  <a:cubicBezTo>
                    <a:pt x="862" y="740"/>
                    <a:pt x="861" y="796"/>
                    <a:pt x="858" y="852"/>
                  </a:cubicBezTo>
                  <a:cubicBezTo>
                    <a:pt x="855" y="904"/>
                    <a:pt x="844" y="953"/>
                    <a:pt x="828" y="1002"/>
                  </a:cubicBezTo>
                  <a:cubicBezTo>
                    <a:pt x="821" y="1024"/>
                    <a:pt x="874" y="994"/>
                    <a:pt x="894" y="984"/>
                  </a:cubicBezTo>
                  <a:cubicBezTo>
                    <a:pt x="938" y="962"/>
                    <a:pt x="972" y="930"/>
                    <a:pt x="1020" y="918"/>
                  </a:cubicBezTo>
                  <a:cubicBezTo>
                    <a:pt x="1062" y="890"/>
                    <a:pt x="1071" y="901"/>
                    <a:pt x="1134" y="906"/>
                  </a:cubicBezTo>
                  <a:cubicBezTo>
                    <a:pt x="1154" y="932"/>
                    <a:pt x="1154" y="954"/>
                    <a:pt x="1164" y="984"/>
                  </a:cubicBezTo>
                  <a:cubicBezTo>
                    <a:pt x="1166" y="1046"/>
                    <a:pt x="1158" y="1109"/>
                    <a:pt x="1170" y="1170"/>
                  </a:cubicBezTo>
                  <a:cubicBezTo>
                    <a:pt x="1172" y="1180"/>
                    <a:pt x="1190" y="1168"/>
                    <a:pt x="1200" y="1164"/>
                  </a:cubicBezTo>
                  <a:cubicBezTo>
                    <a:pt x="1236" y="1151"/>
                    <a:pt x="1270" y="1131"/>
                    <a:pt x="1308" y="1122"/>
                  </a:cubicBezTo>
                  <a:cubicBezTo>
                    <a:pt x="1396" y="1127"/>
                    <a:pt x="1407" y="1108"/>
                    <a:pt x="1434" y="1176"/>
                  </a:cubicBezTo>
                  <a:cubicBezTo>
                    <a:pt x="1428" y="1322"/>
                    <a:pt x="1428" y="1268"/>
                    <a:pt x="1428" y="1338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666960" y="3067200"/>
              <a:ext cx="1209960" cy="1199880"/>
            </a:xfrm>
            <a:custGeom>
              <a:avLst/>
              <a:gdLst/>
              <a:ahLst/>
              <a:rect l="l" t="t" r="r" b="b"/>
              <a:pathLst>
                <a:path w="1434" h="1338">
                  <a:moveTo>
                    <a:pt x="0" y="6"/>
                  </a:moveTo>
                  <a:cubicBezTo>
                    <a:pt x="69" y="9"/>
                    <a:pt x="120" y="0"/>
                    <a:pt x="174" y="36"/>
                  </a:cubicBezTo>
                  <a:cubicBezTo>
                    <a:pt x="199" y="73"/>
                    <a:pt x="220" y="114"/>
                    <a:pt x="234" y="156"/>
                  </a:cubicBezTo>
                  <a:cubicBezTo>
                    <a:pt x="243" y="218"/>
                    <a:pt x="192" y="369"/>
                    <a:pt x="276" y="348"/>
                  </a:cubicBezTo>
                  <a:cubicBezTo>
                    <a:pt x="307" y="327"/>
                    <a:pt x="336" y="313"/>
                    <a:pt x="372" y="306"/>
                  </a:cubicBezTo>
                  <a:cubicBezTo>
                    <a:pt x="411" y="286"/>
                    <a:pt x="445" y="278"/>
                    <a:pt x="486" y="264"/>
                  </a:cubicBezTo>
                  <a:cubicBezTo>
                    <a:pt x="558" y="280"/>
                    <a:pt x="538" y="271"/>
                    <a:pt x="564" y="330"/>
                  </a:cubicBezTo>
                  <a:cubicBezTo>
                    <a:pt x="568" y="340"/>
                    <a:pt x="572" y="350"/>
                    <a:pt x="576" y="360"/>
                  </a:cubicBezTo>
                  <a:cubicBezTo>
                    <a:pt x="580" y="372"/>
                    <a:pt x="588" y="396"/>
                    <a:pt x="588" y="396"/>
                  </a:cubicBezTo>
                  <a:cubicBezTo>
                    <a:pt x="602" y="491"/>
                    <a:pt x="600" y="587"/>
                    <a:pt x="570" y="678"/>
                  </a:cubicBezTo>
                  <a:cubicBezTo>
                    <a:pt x="632" y="690"/>
                    <a:pt x="684" y="647"/>
                    <a:pt x="732" y="612"/>
                  </a:cubicBezTo>
                  <a:cubicBezTo>
                    <a:pt x="755" y="596"/>
                    <a:pt x="783" y="592"/>
                    <a:pt x="810" y="588"/>
                  </a:cubicBezTo>
                  <a:cubicBezTo>
                    <a:pt x="876" y="607"/>
                    <a:pt x="857" y="612"/>
                    <a:pt x="864" y="684"/>
                  </a:cubicBezTo>
                  <a:cubicBezTo>
                    <a:pt x="862" y="740"/>
                    <a:pt x="861" y="796"/>
                    <a:pt x="858" y="852"/>
                  </a:cubicBezTo>
                  <a:cubicBezTo>
                    <a:pt x="855" y="904"/>
                    <a:pt x="844" y="953"/>
                    <a:pt x="828" y="1002"/>
                  </a:cubicBezTo>
                  <a:cubicBezTo>
                    <a:pt x="821" y="1024"/>
                    <a:pt x="874" y="994"/>
                    <a:pt x="894" y="984"/>
                  </a:cubicBezTo>
                  <a:cubicBezTo>
                    <a:pt x="938" y="962"/>
                    <a:pt x="972" y="930"/>
                    <a:pt x="1020" y="918"/>
                  </a:cubicBezTo>
                  <a:cubicBezTo>
                    <a:pt x="1062" y="890"/>
                    <a:pt x="1071" y="901"/>
                    <a:pt x="1134" y="906"/>
                  </a:cubicBezTo>
                  <a:cubicBezTo>
                    <a:pt x="1154" y="932"/>
                    <a:pt x="1154" y="954"/>
                    <a:pt x="1164" y="984"/>
                  </a:cubicBezTo>
                  <a:cubicBezTo>
                    <a:pt x="1166" y="1046"/>
                    <a:pt x="1158" y="1109"/>
                    <a:pt x="1170" y="1170"/>
                  </a:cubicBezTo>
                  <a:cubicBezTo>
                    <a:pt x="1172" y="1180"/>
                    <a:pt x="1190" y="1168"/>
                    <a:pt x="1200" y="1164"/>
                  </a:cubicBezTo>
                  <a:cubicBezTo>
                    <a:pt x="1236" y="1151"/>
                    <a:pt x="1270" y="1131"/>
                    <a:pt x="1308" y="1122"/>
                  </a:cubicBezTo>
                  <a:cubicBezTo>
                    <a:pt x="1396" y="1127"/>
                    <a:pt x="1407" y="1108"/>
                    <a:pt x="1434" y="1176"/>
                  </a:cubicBezTo>
                  <a:cubicBezTo>
                    <a:pt x="1428" y="1322"/>
                    <a:pt x="1428" y="1268"/>
                    <a:pt x="1428" y="1338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505320" y="411480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808080"/>
                  </a:solidFill>
                  <a:latin typeface="Times New Roman"/>
                </a:rPr>
                <a:t>chemins partant de l'état </a:t>
              </a:r>
              <a:r>
                <a:rPr b="1" i="1" lang="fr-FR" sz="1400" spc="-1" strike="noStrike">
                  <a:solidFill>
                    <a:srgbClr val="80808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505320" y="2819520"/>
              <a:ext cx="1752480" cy="152280"/>
            </a:xfrm>
            <a:custGeom>
              <a:avLst/>
              <a:gdLst/>
              <a:ahLst/>
              <a:rect l="l" t="t" r="r" b="b"/>
              <a:pathLst>
                <a:path w="1434" h="1338">
                  <a:moveTo>
                    <a:pt x="0" y="6"/>
                  </a:moveTo>
                  <a:cubicBezTo>
                    <a:pt x="69" y="9"/>
                    <a:pt x="120" y="0"/>
                    <a:pt x="174" y="36"/>
                  </a:cubicBezTo>
                  <a:cubicBezTo>
                    <a:pt x="199" y="73"/>
                    <a:pt x="220" y="114"/>
                    <a:pt x="234" y="156"/>
                  </a:cubicBezTo>
                  <a:cubicBezTo>
                    <a:pt x="243" y="218"/>
                    <a:pt x="192" y="369"/>
                    <a:pt x="276" y="348"/>
                  </a:cubicBezTo>
                  <a:cubicBezTo>
                    <a:pt x="307" y="327"/>
                    <a:pt x="336" y="313"/>
                    <a:pt x="372" y="306"/>
                  </a:cubicBezTo>
                  <a:cubicBezTo>
                    <a:pt x="411" y="286"/>
                    <a:pt x="445" y="278"/>
                    <a:pt x="486" y="264"/>
                  </a:cubicBezTo>
                  <a:cubicBezTo>
                    <a:pt x="558" y="280"/>
                    <a:pt x="538" y="271"/>
                    <a:pt x="564" y="330"/>
                  </a:cubicBezTo>
                  <a:cubicBezTo>
                    <a:pt x="568" y="340"/>
                    <a:pt x="572" y="350"/>
                    <a:pt x="576" y="360"/>
                  </a:cubicBezTo>
                  <a:cubicBezTo>
                    <a:pt x="580" y="372"/>
                    <a:pt x="588" y="396"/>
                    <a:pt x="588" y="396"/>
                  </a:cubicBezTo>
                  <a:cubicBezTo>
                    <a:pt x="602" y="491"/>
                    <a:pt x="600" y="587"/>
                    <a:pt x="570" y="678"/>
                  </a:cubicBezTo>
                  <a:cubicBezTo>
                    <a:pt x="632" y="690"/>
                    <a:pt x="684" y="647"/>
                    <a:pt x="732" y="612"/>
                  </a:cubicBezTo>
                  <a:cubicBezTo>
                    <a:pt x="755" y="596"/>
                    <a:pt x="783" y="592"/>
                    <a:pt x="810" y="588"/>
                  </a:cubicBezTo>
                  <a:cubicBezTo>
                    <a:pt x="876" y="607"/>
                    <a:pt x="857" y="612"/>
                    <a:pt x="864" y="684"/>
                  </a:cubicBezTo>
                  <a:cubicBezTo>
                    <a:pt x="862" y="740"/>
                    <a:pt x="861" y="796"/>
                    <a:pt x="858" y="852"/>
                  </a:cubicBezTo>
                  <a:cubicBezTo>
                    <a:pt x="855" y="904"/>
                    <a:pt x="844" y="953"/>
                    <a:pt x="828" y="1002"/>
                  </a:cubicBezTo>
                  <a:cubicBezTo>
                    <a:pt x="821" y="1024"/>
                    <a:pt x="874" y="994"/>
                    <a:pt x="894" y="984"/>
                  </a:cubicBezTo>
                  <a:cubicBezTo>
                    <a:pt x="938" y="962"/>
                    <a:pt x="972" y="930"/>
                    <a:pt x="1020" y="918"/>
                  </a:cubicBezTo>
                  <a:cubicBezTo>
                    <a:pt x="1062" y="890"/>
                    <a:pt x="1071" y="901"/>
                    <a:pt x="1134" y="906"/>
                  </a:cubicBezTo>
                  <a:cubicBezTo>
                    <a:pt x="1154" y="932"/>
                    <a:pt x="1154" y="954"/>
                    <a:pt x="1164" y="984"/>
                  </a:cubicBezTo>
                  <a:cubicBezTo>
                    <a:pt x="1166" y="1046"/>
                    <a:pt x="1158" y="1109"/>
                    <a:pt x="1170" y="1170"/>
                  </a:cubicBezTo>
                  <a:cubicBezTo>
                    <a:pt x="1172" y="1180"/>
                    <a:pt x="1190" y="1168"/>
                    <a:pt x="1200" y="1164"/>
                  </a:cubicBezTo>
                  <a:cubicBezTo>
                    <a:pt x="1236" y="1151"/>
                    <a:pt x="1270" y="1131"/>
                    <a:pt x="1308" y="1122"/>
                  </a:cubicBezTo>
                  <a:cubicBezTo>
                    <a:pt x="1396" y="1127"/>
                    <a:pt x="1407" y="1108"/>
                    <a:pt x="1434" y="1176"/>
                  </a:cubicBezTo>
                  <a:cubicBezTo>
                    <a:pt x="1428" y="1322"/>
                    <a:pt x="1428" y="1268"/>
                    <a:pt x="1428" y="1338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914400" y="716400"/>
            <a:ext cx="3276720" cy="2179080"/>
            <a:chOff x="914400" y="716400"/>
            <a:chExt cx="3276720" cy="2179080"/>
          </a:xfrm>
        </p:grpSpPr>
        <p:grpSp>
          <p:nvGrpSpPr>
            <p:cNvPr id="322" name=""/>
            <p:cNvGrpSpPr/>
            <p:nvPr/>
          </p:nvGrpSpPr>
          <p:grpSpPr>
            <a:xfrm>
              <a:off x="914400" y="716400"/>
              <a:ext cx="3276720" cy="2179080"/>
              <a:chOff x="914400" y="716400"/>
              <a:chExt cx="3276720" cy="217908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2209680" y="1600200"/>
                <a:ext cx="533520" cy="533520"/>
                <a:chOff x="2209680" y="1600200"/>
                <a:chExt cx="533520" cy="5335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209680" y="1600200"/>
                  <a:ext cx="53352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286000" y="167652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914400" y="762120"/>
                <a:ext cx="533520" cy="533160"/>
                <a:chOff x="914400" y="762120"/>
                <a:chExt cx="533520" cy="5331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914400" y="7621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990720" y="8380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914400" y="2362320"/>
                <a:ext cx="533520" cy="533160"/>
                <a:chOff x="914400" y="2362320"/>
                <a:chExt cx="533520" cy="5331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914400" y="23623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990720" y="24382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914400" y="1600200"/>
                <a:ext cx="533520" cy="533520"/>
                <a:chOff x="914400" y="1600200"/>
                <a:chExt cx="533520" cy="5335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914400" y="1600200"/>
                  <a:ext cx="53352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990720" y="167652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fr-FR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657600" y="762120"/>
                <a:ext cx="533520" cy="533160"/>
                <a:chOff x="3657600" y="762120"/>
                <a:chExt cx="533520" cy="5331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657600" y="7621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733920" y="8380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657600" y="2362320"/>
                <a:ext cx="533520" cy="533160"/>
                <a:chOff x="3657600" y="2362320"/>
                <a:chExt cx="533520" cy="5331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657600" y="23623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733920" y="24382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fr-FR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3657600" y="1600200"/>
                <a:ext cx="533520" cy="533520"/>
                <a:chOff x="3657600" y="1600200"/>
                <a:chExt cx="533520" cy="5335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3657600" y="1600200"/>
                  <a:ext cx="53352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733920" y="167652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44" name=""/>
              <p:cNvCxnSpPr>
                <a:stCxn id="327" idx="6"/>
                <a:endCxn id="324" idx="2"/>
              </p:cNvCxnSpPr>
              <p:nvPr/>
            </p:nvCxnSpPr>
            <p:spPr>
              <a:xfrm>
                <a:off x="1457280" y="1028880"/>
                <a:ext cx="743760" cy="838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5" name=""/>
              <p:cNvCxnSpPr>
                <a:stCxn id="330" idx="6"/>
                <a:endCxn id="324" idx="2"/>
              </p:cNvCxnSpPr>
              <p:nvPr/>
            </p:nvCxnSpPr>
            <p:spPr>
              <a:xfrm flipV="1">
                <a:off x="1457280" y="1866240"/>
                <a:ext cx="743760" cy="7628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6" name=""/>
              <p:cNvCxnSpPr>
                <a:stCxn id="324" idx="6"/>
                <a:endCxn id="339" idx="2"/>
              </p:cNvCxnSpPr>
              <p:nvPr/>
            </p:nvCxnSpPr>
            <p:spPr>
              <a:xfrm>
                <a:off x="2752560" y="1866600"/>
                <a:ext cx="896400" cy="7628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7" name=""/>
              <p:cNvCxnSpPr>
                <a:stCxn id="324" idx="6"/>
                <a:endCxn id="342" idx="2"/>
              </p:cNvCxnSpPr>
              <p:nvPr/>
            </p:nvCxnSpPr>
            <p:spPr>
              <a:xfrm>
                <a:off x="2752560" y="1866600"/>
                <a:ext cx="8964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348" name=""/>
              <p:cNvCxnSpPr>
                <a:stCxn id="333" idx="6"/>
                <a:endCxn id="324" idx="2"/>
              </p:cNvCxnSpPr>
              <p:nvPr/>
            </p:nvCxnSpPr>
            <p:spPr>
              <a:xfrm>
                <a:off x="1457280" y="1866600"/>
                <a:ext cx="7437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349" name=""/>
              <p:cNvCxnSpPr>
                <a:stCxn id="324" idx="6"/>
                <a:endCxn id="336" idx="2"/>
              </p:cNvCxnSpPr>
              <p:nvPr/>
            </p:nvCxnSpPr>
            <p:spPr>
              <a:xfrm flipV="1">
                <a:off x="2752560" y="1028520"/>
                <a:ext cx="896400" cy="838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0" name=""/>
              <p:cNvCxnSpPr>
                <a:stCxn id="324" idx="1"/>
                <a:endCxn id="324" idx="7"/>
              </p:cNvCxnSpPr>
              <p:nvPr/>
            </p:nvCxnSpPr>
            <p:spPr>
              <a:xfrm flipH="1" rot="16200000">
                <a:off x="2475720" y="1479960"/>
                <a:ext cx="2160" cy="378720"/>
              </a:xfrm>
              <a:prstGeom prst="curvedConnector5">
                <a:avLst>
                  <a:gd name="adj1" fmla="val -52900000"/>
                  <a:gd name="adj2" fmla="val 49952"/>
                  <a:gd name="adj3" fmla="val -52900000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51" name=""/>
            <p:cNvSpPr/>
            <p:nvPr/>
          </p:nvSpPr>
          <p:spPr>
            <a:xfrm>
              <a:off x="1447920" y="137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e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48120" y="18288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q,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324480" y="533520"/>
            <a:ext cx="685800" cy="312408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029200" y="838080"/>
            <a:ext cx="3276720" cy="2249640"/>
            <a:chOff x="5029200" y="838080"/>
            <a:chExt cx="3276720" cy="2249640"/>
          </a:xfrm>
        </p:grpSpPr>
        <p:grpSp>
          <p:nvGrpSpPr>
            <p:cNvPr id="355" name=""/>
            <p:cNvGrpSpPr/>
            <p:nvPr/>
          </p:nvGrpSpPr>
          <p:grpSpPr>
            <a:xfrm>
              <a:off x="6400800" y="1219320"/>
              <a:ext cx="533520" cy="533160"/>
              <a:chOff x="6400800" y="1219320"/>
              <a:chExt cx="533520" cy="533160"/>
            </a:xfrm>
          </p:grpSpPr>
          <p:sp>
            <p:nvSpPr>
              <p:cNvPr id="356" name=""/>
              <p:cNvSpPr/>
              <p:nvPr/>
            </p:nvSpPr>
            <p:spPr>
              <a:xfrm>
                <a:off x="6400800" y="12193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477120" y="12952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029200" y="838080"/>
              <a:ext cx="533520" cy="533520"/>
              <a:chOff x="5029200" y="838080"/>
              <a:chExt cx="533520" cy="533520"/>
            </a:xfrm>
          </p:grpSpPr>
          <p:sp>
            <p:nvSpPr>
              <p:cNvPr id="359" name=""/>
              <p:cNvSpPr/>
              <p:nvPr/>
            </p:nvSpPr>
            <p:spPr>
              <a:xfrm>
                <a:off x="5029200" y="8380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05520" y="91440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029200" y="2438280"/>
              <a:ext cx="533520" cy="533520"/>
              <a:chOff x="5029200" y="2438280"/>
              <a:chExt cx="533520" cy="533520"/>
            </a:xfrm>
          </p:grpSpPr>
          <p:sp>
            <p:nvSpPr>
              <p:cNvPr id="362" name=""/>
              <p:cNvSpPr/>
              <p:nvPr/>
            </p:nvSpPr>
            <p:spPr>
              <a:xfrm>
                <a:off x="5029200" y="24382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05520" y="251460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5029200" y="1676520"/>
              <a:ext cx="533520" cy="533160"/>
              <a:chOff x="5029200" y="1676520"/>
              <a:chExt cx="533520" cy="533160"/>
            </a:xfrm>
          </p:grpSpPr>
          <p:sp>
            <p:nvSpPr>
              <p:cNvPr id="365" name=""/>
              <p:cNvSpPr/>
              <p:nvPr/>
            </p:nvSpPr>
            <p:spPr>
              <a:xfrm>
                <a:off x="5029200" y="16765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105520" y="17524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7772400" y="838080"/>
              <a:ext cx="533520" cy="533520"/>
              <a:chOff x="7772400" y="838080"/>
              <a:chExt cx="533520" cy="533520"/>
            </a:xfrm>
          </p:grpSpPr>
          <p:sp>
            <p:nvSpPr>
              <p:cNvPr id="368" name=""/>
              <p:cNvSpPr/>
              <p:nvPr/>
            </p:nvSpPr>
            <p:spPr>
              <a:xfrm>
                <a:off x="7772400" y="8380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848720" y="91440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7772400" y="2438280"/>
              <a:ext cx="533520" cy="533520"/>
              <a:chOff x="7772400" y="2438280"/>
              <a:chExt cx="533520" cy="533520"/>
            </a:xfrm>
          </p:grpSpPr>
          <p:sp>
            <p:nvSpPr>
              <p:cNvPr id="371" name=""/>
              <p:cNvSpPr/>
              <p:nvPr/>
            </p:nvSpPr>
            <p:spPr>
              <a:xfrm>
                <a:off x="7772400" y="24382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848720" y="251460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7772400" y="1676520"/>
              <a:ext cx="533520" cy="533160"/>
              <a:chOff x="7772400" y="1676520"/>
              <a:chExt cx="533520" cy="533160"/>
            </a:xfrm>
          </p:grpSpPr>
          <p:sp>
            <p:nvSpPr>
              <p:cNvPr id="374" name=""/>
              <p:cNvSpPr/>
              <p:nvPr/>
            </p:nvSpPr>
            <p:spPr>
              <a:xfrm>
                <a:off x="7772400" y="16765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848720" y="17524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76" name=""/>
            <p:cNvCxnSpPr>
              <a:stCxn id="359" idx="6"/>
              <a:endCxn id="356" idx="2"/>
            </p:cNvCxnSpPr>
            <p:nvPr/>
          </p:nvCxnSpPr>
          <p:spPr>
            <a:xfrm>
              <a:off x="5572080" y="1104480"/>
              <a:ext cx="820080" cy="381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7" name=""/>
            <p:cNvCxnSpPr>
              <a:stCxn id="362" idx="6"/>
              <a:endCxn id="356" idx="2"/>
            </p:cNvCxnSpPr>
            <p:nvPr/>
          </p:nvCxnSpPr>
          <p:spPr>
            <a:xfrm flipV="1">
              <a:off x="5572080" y="1485720"/>
              <a:ext cx="820080" cy="1219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"/>
            <p:cNvCxnSpPr>
              <a:stCxn id="356" idx="6"/>
              <a:endCxn id="371" idx="2"/>
            </p:cNvCxnSpPr>
            <p:nvPr/>
          </p:nvCxnSpPr>
          <p:spPr>
            <a:xfrm>
              <a:off x="6943680" y="1486080"/>
              <a:ext cx="820080" cy="1219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"/>
            <p:cNvCxnSpPr>
              <a:stCxn id="356" idx="6"/>
              <a:endCxn id="374" idx="2"/>
            </p:cNvCxnSpPr>
            <p:nvPr/>
          </p:nvCxnSpPr>
          <p:spPr>
            <a:xfrm>
              <a:off x="6943680" y="1486080"/>
              <a:ext cx="82008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80" name=""/>
            <p:cNvCxnSpPr>
              <a:stCxn id="365" idx="6"/>
              <a:endCxn id="356" idx="2"/>
            </p:cNvCxnSpPr>
            <p:nvPr/>
          </p:nvCxnSpPr>
          <p:spPr>
            <a:xfrm flipV="1">
              <a:off x="5572080" y="1485720"/>
              <a:ext cx="82008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81" name=""/>
            <p:cNvCxnSpPr>
              <a:stCxn id="356" idx="6"/>
              <a:endCxn id="368" idx="2"/>
            </p:cNvCxnSpPr>
            <p:nvPr/>
          </p:nvCxnSpPr>
          <p:spPr>
            <a:xfrm flipV="1">
              <a:off x="6943680" y="1104120"/>
              <a:ext cx="820080" cy="381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"/>
            <p:cNvCxnSpPr>
              <a:stCxn id="356" idx="1"/>
              <a:endCxn id="356" idx="7"/>
            </p:cNvCxnSpPr>
            <p:nvPr/>
          </p:nvCxnSpPr>
          <p:spPr>
            <a:xfrm flipH="1" rot="16200000">
              <a:off x="6666480" y="1098000"/>
              <a:ext cx="2520" cy="378720"/>
            </a:xfrm>
            <a:prstGeom prst="curvedConnector5">
              <a:avLst>
                <a:gd name="adj1" fmla="val -18700000"/>
                <a:gd name="adj2" fmla="val 49952"/>
                <a:gd name="adj3" fmla="val -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3" name=""/>
            <p:cNvGrpSpPr/>
            <p:nvPr/>
          </p:nvGrpSpPr>
          <p:grpSpPr>
            <a:xfrm>
              <a:off x="6400800" y="2286000"/>
              <a:ext cx="533520" cy="533520"/>
              <a:chOff x="6400800" y="2286000"/>
              <a:chExt cx="533520" cy="533520"/>
            </a:xfrm>
          </p:grpSpPr>
          <p:sp>
            <p:nvSpPr>
              <p:cNvPr id="384" name=""/>
              <p:cNvSpPr/>
              <p:nvPr/>
            </p:nvSpPr>
            <p:spPr>
              <a:xfrm>
                <a:off x="6400800" y="22860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77120" y="236232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6" name=""/>
            <p:cNvCxnSpPr>
              <a:stCxn id="384" idx="3"/>
              <a:endCxn id="384" idx="5"/>
            </p:cNvCxnSpPr>
            <p:nvPr/>
          </p:nvCxnSpPr>
          <p:spPr>
            <a:xfrm flipH="1" rot="16200000">
              <a:off x="6666840" y="2562480"/>
              <a:ext cx="2160" cy="378720"/>
            </a:xfrm>
            <a:prstGeom prst="curvedConnector5">
              <a:avLst>
                <a:gd name="adj1" fmla="val 18700000"/>
                <a:gd name="adj2" fmla="val 49952"/>
                <a:gd name="adj3" fmla="val 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59" idx="6"/>
              <a:endCxn id="384" idx="2"/>
            </p:cNvCxnSpPr>
            <p:nvPr/>
          </p:nvCxnSpPr>
          <p:spPr>
            <a:xfrm>
              <a:off x="5572080" y="1104840"/>
              <a:ext cx="820080" cy="1448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"/>
            <p:cNvCxnSpPr>
              <a:stCxn id="362" idx="6"/>
              <a:endCxn id="384" idx="2"/>
            </p:cNvCxnSpPr>
            <p:nvPr/>
          </p:nvCxnSpPr>
          <p:spPr>
            <a:xfrm flipV="1">
              <a:off x="5572080" y="2552040"/>
              <a:ext cx="820080" cy="153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9" name=""/>
            <p:cNvCxnSpPr>
              <a:stCxn id="365" idx="6"/>
              <a:endCxn id="384" idx="2"/>
            </p:cNvCxnSpPr>
            <p:nvPr/>
          </p:nvCxnSpPr>
          <p:spPr>
            <a:xfrm>
              <a:off x="5572080" y="1942920"/>
              <a:ext cx="82008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90" name=""/>
            <p:cNvCxnSpPr>
              <a:stCxn id="384" idx="6"/>
              <a:endCxn id="368" idx="2"/>
            </p:cNvCxnSpPr>
            <p:nvPr/>
          </p:nvCxnSpPr>
          <p:spPr>
            <a:xfrm flipV="1">
              <a:off x="6943680" y="1104480"/>
              <a:ext cx="820080" cy="1448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4" idx="6"/>
              <a:endCxn id="374" idx="2"/>
            </p:cNvCxnSpPr>
            <p:nvPr/>
          </p:nvCxnSpPr>
          <p:spPr>
            <a:xfrm flipV="1">
              <a:off x="6943680" y="1942560"/>
              <a:ext cx="82008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4" idx="6"/>
            </p:cNvCxnSpPr>
            <p:nvPr/>
          </p:nvCxnSpPr>
          <p:spPr>
            <a:xfrm>
              <a:off x="6943680" y="2552760"/>
              <a:ext cx="829440" cy="38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4" idx="1"/>
              <a:endCxn id="356" idx="3"/>
            </p:cNvCxnSpPr>
            <p:nvPr/>
          </p:nvCxnSpPr>
          <p:spPr>
            <a:xfrm flipV="1">
              <a:off x="6478200" y="1683720"/>
              <a:ext cx="1080" cy="670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"/>
            <p:cNvCxnSpPr>
              <a:stCxn id="356" idx="5"/>
              <a:endCxn id="384" idx="7"/>
            </p:cNvCxnSpPr>
            <p:nvPr/>
          </p:nvCxnSpPr>
          <p:spPr>
            <a:xfrm>
              <a:off x="6856200" y="1684080"/>
              <a:ext cx="1080" cy="670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5" name=""/>
          <p:cNvSpPr/>
          <p:nvPr/>
        </p:nvSpPr>
        <p:spPr>
          <a:xfrm>
            <a:off x="5562720" y="762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ei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10280" y="25909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q,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3657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itions cycl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6" name=""/>
          <p:cNvGrpSpPr/>
          <p:nvPr/>
        </p:nvGrpSpPr>
        <p:grpSpPr>
          <a:xfrm>
            <a:off x="914400" y="1219320"/>
            <a:ext cx="3733920" cy="1828800"/>
            <a:chOff x="914400" y="1219320"/>
            <a:chExt cx="3733920" cy="1828800"/>
          </a:xfrm>
        </p:grpSpPr>
        <p:sp>
          <p:nvSpPr>
            <p:cNvPr id="1997" name=""/>
            <p:cNvSpPr/>
            <p:nvPr/>
          </p:nvSpPr>
          <p:spPr>
            <a:xfrm>
              <a:off x="990720" y="1981080"/>
              <a:ext cx="533160" cy="609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914400" y="21337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590920" y="1219320"/>
              <a:ext cx="53316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514600" y="13716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209680" y="2438280"/>
              <a:ext cx="533520" cy="609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133720" y="25909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200400" y="2438280"/>
              <a:ext cx="533520" cy="609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124080" y="25909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038480" y="1905120"/>
              <a:ext cx="53352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6" name=""/>
            <p:cNvCxnSpPr>
              <a:stCxn id="1997" idx="6"/>
              <a:endCxn id="1999" idx="2"/>
            </p:cNvCxnSpPr>
            <p:nvPr/>
          </p:nvCxnSpPr>
          <p:spPr>
            <a:xfrm flipV="1">
              <a:off x="1533600" y="1523160"/>
              <a:ext cx="1048320" cy="762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7" name=""/>
            <p:cNvCxnSpPr>
              <a:stCxn id="1997" idx="6"/>
              <a:endCxn id="2001" idx="2"/>
            </p:cNvCxnSpPr>
            <p:nvPr/>
          </p:nvCxnSpPr>
          <p:spPr>
            <a:xfrm>
              <a:off x="1533600" y="2286000"/>
              <a:ext cx="66744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8" name=""/>
            <p:cNvCxnSpPr>
              <a:stCxn id="2001" idx="6"/>
              <a:endCxn id="2003" idx="2"/>
            </p:cNvCxnSpPr>
            <p:nvPr/>
          </p:nvCxnSpPr>
          <p:spPr>
            <a:xfrm>
              <a:off x="2752560" y="2742840"/>
              <a:ext cx="4392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9" name=""/>
            <p:cNvCxnSpPr>
              <a:stCxn id="1999" idx="6"/>
              <a:endCxn id="2005" idx="2"/>
            </p:cNvCxnSpPr>
            <p:nvPr/>
          </p:nvCxnSpPr>
          <p:spPr>
            <a:xfrm>
              <a:off x="3133440" y="1523520"/>
              <a:ext cx="89604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0" name=""/>
            <p:cNvCxnSpPr>
              <a:stCxn id="2003" idx="6"/>
              <a:endCxn id="2005" idx="2"/>
            </p:cNvCxnSpPr>
            <p:nvPr/>
          </p:nvCxnSpPr>
          <p:spPr>
            <a:xfrm flipV="1">
              <a:off x="3743280" y="2209320"/>
              <a:ext cx="286560" cy="534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11" name=""/>
            <p:cNvSpPr/>
            <p:nvPr/>
          </p:nvSpPr>
          <p:spPr>
            <a:xfrm>
              <a:off x="3962520" y="20574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523880" y="16765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447920" y="25146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590920" y="24382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276720" y="15238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81280" y="24382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7" name=""/>
          <p:cNvSpPr/>
          <p:nvPr/>
        </p:nvSpPr>
        <p:spPr>
          <a:xfrm>
            <a:off x="762120" y="3352680"/>
            <a:ext cx="3276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le modèle doit apprendre les séquenc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"0", "00", "00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"/>
          <p:cNvSpPr/>
          <p:nvPr/>
        </p:nvSpPr>
        <p:spPr>
          <a:xfrm>
            <a:off x="1828800" y="1295280"/>
            <a:ext cx="533520" cy="609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1752480" y="1447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828800" y="297180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182880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1676520" y="1143000"/>
            <a:ext cx="838080" cy="2590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809880" y="1295280"/>
            <a:ext cx="533520" cy="609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809880" y="297180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80988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657600" y="1143000"/>
            <a:ext cx="838080" cy="2590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5791320" y="1295280"/>
            <a:ext cx="533160" cy="609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791320" y="2971800"/>
            <a:ext cx="53316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5791320" y="2133720"/>
            <a:ext cx="533160" cy="6094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638680" y="1143000"/>
            <a:ext cx="838440" cy="2590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920" y="2133720"/>
            <a:ext cx="53316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31520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3" name=""/>
          <p:cNvCxnSpPr>
            <a:stCxn id="2031" idx="6"/>
            <a:endCxn id="2018" idx="2"/>
          </p:cNvCxnSpPr>
          <p:nvPr/>
        </p:nvCxnSpPr>
        <p:spPr>
          <a:xfrm flipV="1">
            <a:off x="847440" y="1599840"/>
            <a:ext cx="97236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4" name=""/>
          <p:cNvCxnSpPr>
            <a:stCxn id="2031" idx="6"/>
            <a:endCxn id="2020" idx="2"/>
          </p:cNvCxnSpPr>
          <p:nvPr/>
        </p:nvCxnSpPr>
        <p:spPr>
          <a:xfrm>
            <a:off x="847440" y="2437920"/>
            <a:ext cx="9723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5" name=""/>
          <p:cNvCxnSpPr>
            <a:stCxn id="2031" idx="6"/>
            <a:endCxn id="2021" idx="2"/>
          </p:cNvCxnSpPr>
          <p:nvPr/>
        </p:nvCxnSpPr>
        <p:spPr>
          <a:xfrm>
            <a:off x="847440" y="2437920"/>
            <a:ext cx="9723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36" name=""/>
          <p:cNvCxnSpPr>
            <a:stCxn id="2018" idx="6"/>
            <a:endCxn id="2023" idx="2"/>
          </p:cNvCxnSpPr>
          <p:nvPr/>
        </p:nvCxnSpPr>
        <p:spPr>
          <a:xfrm>
            <a:off x="2371320" y="159984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7" name=""/>
          <p:cNvCxnSpPr>
            <a:stCxn id="2020" idx="6"/>
            <a:endCxn id="2024" idx="2"/>
          </p:cNvCxnSpPr>
          <p:nvPr/>
        </p:nvCxnSpPr>
        <p:spPr>
          <a:xfrm>
            <a:off x="2371320" y="327636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8" name=""/>
          <p:cNvCxnSpPr>
            <a:stCxn id="2021" idx="6"/>
            <a:endCxn id="2025" idx="2"/>
          </p:cNvCxnSpPr>
          <p:nvPr/>
        </p:nvCxnSpPr>
        <p:spPr>
          <a:xfrm>
            <a:off x="2371320" y="243792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39" name=""/>
          <p:cNvCxnSpPr>
            <a:stCxn id="2018" idx="6"/>
            <a:endCxn id="2025" idx="2"/>
          </p:cNvCxnSpPr>
          <p:nvPr/>
        </p:nvCxnSpPr>
        <p:spPr>
          <a:xfrm>
            <a:off x="2371320" y="1600200"/>
            <a:ext cx="1429560" cy="8388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0" name=""/>
          <p:cNvCxnSpPr>
            <a:stCxn id="2021" idx="6"/>
            <a:endCxn id="2024" idx="2"/>
          </p:cNvCxnSpPr>
          <p:nvPr/>
        </p:nvCxnSpPr>
        <p:spPr>
          <a:xfrm>
            <a:off x="2371320" y="243792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1" name=""/>
          <p:cNvCxnSpPr>
            <a:stCxn id="2020" idx="6"/>
            <a:endCxn id="2025" idx="2"/>
          </p:cNvCxnSpPr>
          <p:nvPr/>
        </p:nvCxnSpPr>
        <p:spPr>
          <a:xfrm flipV="1">
            <a:off x="2371320" y="243756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2" name=""/>
          <p:cNvCxnSpPr>
            <a:stCxn id="2018" idx="6"/>
            <a:endCxn id="2024" idx="2"/>
          </p:cNvCxnSpPr>
          <p:nvPr/>
        </p:nvCxnSpPr>
        <p:spPr>
          <a:xfrm>
            <a:off x="2371320" y="1599840"/>
            <a:ext cx="142956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3" name=""/>
          <p:cNvCxnSpPr>
            <a:stCxn id="2021" idx="6"/>
            <a:endCxn id="2023" idx="2"/>
          </p:cNvCxnSpPr>
          <p:nvPr/>
        </p:nvCxnSpPr>
        <p:spPr>
          <a:xfrm flipV="1">
            <a:off x="2371320" y="1599840"/>
            <a:ext cx="1429560" cy="8388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4" name=""/>
          <p:cNvCxnSpPr>
            <a:stCxn id="2020" idx="6"/>
            <a:endCxn id="2023" idx="2"/>
          </p:cNvCxnSpPr>
          <p:nvPr/>
        </p:nvCxnSpPr>
        <p:spPr>
          <a:xfrm flipV="1">
            <a:off x="2371320" y="1599480"/>
            <a:ext cx="142956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5" name=""/>
          <p:cNvCxnSpPr/>
          <p:nvPr/>
        </p:nvCxnSpPr>
        <p:spPr>
          <a:xfrm>
            <a:off x="4343040" y="159984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6" name=""/>
          <p:cNvCxnSpPr/>
          <p:nvPr/>
        </p:nvCxnSpPr>
        <p:spPr>
          <a:xfrm>
            <a:off x="4343040" y="327636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7" name=""/>
          <p:cNvCxnSpPr/>
          <p:nvPr/>
        </p:nvCxnSpPr>
        <p:spPr>
          <a:xfrm>
            <a:off x="4343040" y="243792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8" name=""/>
          <p:cNvCxnSpPr/>
          <p:nvPr/>
        </p:nvCxnSpPr>
        <p:spPr>
          <a:xfrm>
            <a:off x="4343040" y="1600200"/>
            <a:ext cx="1429560" cy="8388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9" name=""/>
          <p:cNvCxnSpPr/>
          <p:nvPr/>
        </p:nvCxnSpPr>
        <p:spPr>
          <a:xfrm>
            <a:off x="4343040" y="243792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50" name=""/>
          <p:cNvCxnSpPr/>
          <p:nvPr/>
        </p:nvCxnSpPr>
        <p:spPr>
          <a:xfrm flipV="1">
            <a:off x="4343040" y="243756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51" name=""/>
          <p:cNvCxnSpPr/>
          <p:nvPr/>
        </p:nvCxnSpPr>
        <p:spPr>
          <a:xfrm>
            <a:off x="4343040" y="1599840"/>
            <a:ext cx="142956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2" name=""/>
          <p:cNvCxnSpPr/>
          <p:nvPr/>
        </p:nvCxnSpPr>
        <p:spPr>
          <a:xfrm flipV="1">
            <a:off x="4343040" y="1599840"/>
            <a:ext cx="1429560" cy="8388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53" name=""/>
          <p:cNvCxnSpPr/>
          <p:nvPr/>
        </p:nvCxnSpPr>
        <p:spPr>
          <a:xfrm flipV="1">
            <a:off x="4343040" y="1599480"/>
            <a:ext cx="142956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4" name=""/>
          <p:cNvCxnSpPr>
            <a:stCxn id="2027" idx="6"/>
            <a:endCxn id="2032" idx="2"/>
          </p:cNvCxnSpPr>
          <p:nvPr/>
        </p:nvCxnSpPr>
        <p:spPr>
          <a:xfrm>
            <a:off x="6333840" y="1600200"/>
            <a:ext cx="97236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5" name=""/>
          <p:cNvCxnSpPr>
            <a:stCxn id="2028" idx="6"/>
            <a:endCxn id="2032" idx="2"/>
          </p:cNvCxnSpPr>
          <p:nvPr/>
        </p:nvCxnSpPr>
        <p:spPr>
          <a:xfrm flipV="1">
            <a:off x="6333840" y="2437560"/>
            <a:ext cx="9723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6" name=""/>
          <p:cNvCxnSpPr>
            <a:stCxn id="2029" idx="6"/>
            <a:endCxn id="2032" idx="2"/>
          </p:cNvCxnSpPr>
          <p:nvPr/>
        </p:nvCxnSpPr>
        <p:spPr>
          <a:xfrm>
            <a:off x="6333840" y="2437920"/>
            <a:ext cx="9723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057" name=""/>
          <p:cNvSpPr/>
          <p:nvPr/>
        </p:nvSpPr>
        <p:spPr>
          <a:xfrm>
            <a:off x="175248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75248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733920" y="1447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73392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71500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715000" y="1447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73392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71500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2860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23888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7" name=""/>
          <p:cNvCxnSpPr>
            <a:stCxn id="2031" idx="0"/>
          </p:cNvCxnSpPr>
          <p:nvPr/>
        </p:nvCxnSpPr>
        <p:spPr>
          <a:xfrm flipH="1" flipV="1" rot="5400000">
            <a:off x="2233440" y="-748080"/>
            <a:ext cx="1210320" cy="4534560"/>
          </a:xfrm>
          <a:prstGeom prst="bentConnector2">
            <a:avLst/>
          </a:prstGeom>
          <a:ln w="19080">
            <a:solidFill>
              <a:srgbClr val="3366ff"/>
            </a:solidFill>
            <a:miter/>
          </a:ln>
        </p:spPr>
      </p:cxnSp>
      <p:cxnSp>
        <p:nvCxnSpPr>
          <p:cNvPr id="2068" name=""/>
          <p:cNvCxnSpPr>
            <a:endCxn id="2063" idx="1"/>
          </p:cNvCxnSpPr>
          <p:nvPr/>
        </p:nvCxnSpPr>
        <p:spPr>
          <a:xfrm>
            <a:off x="3124080" y="914040"/>
            <a:ext cx="610560" cy="1524600"/>
          </a:xfrm>
          <a:prstGeom prst="straightConnector1">
            <a:avLst/>
          </a:prstGeom>
          <a:ln w="19080">
            <a:solidFill>
              <a:srgbClr val="3366ff"/>
            </a:solidFill>
            <a:prstDash val="dash"/>
            <a:miter/>
            <a:tailEnd len="med" type="triangle" w="med"/>
          </a:ln>
        </p:spPr>
      </p:cxnSp>
      <p:cxnSp>
        <p:nvCxnSpPr>
          <p:cNvPr id="2069" name=""/>
          <p:cNvCxnSpPr>
            <a:endCxn id="2059" idx="1"/>
          </p:cNvCxnSpPr>
          <p:nvPr/>
        </p:nvCxnSpPr>
        <p:spPr>
          <a:xfrm>
            <a:off x="3124080" y="914040"/>
            <a:ext cx="610560" cy="68652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70" name=""/>
          <p:cNvCxnSpPr>
            <a:endCxn id="2060" idx="1"/>
          </p:cNvCxnSpPr>
          <p:nvPr/>
        </p:nvCxnSpPr>
        <p:spPr>
          <a:xfrm>
            <a:off x="3124080" y="914400"/>
            <a:ext cx="610560" cy="236304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71" name=""/>
          <p:cNvCxnSpPr/>
          <p:nvPr/>
        </p:nvCxnSpPr>
        <p:spPr>
          <a:xfrm>
            <a:off x="5105160" y="914040"/>
            <a:ext cx="610200" cy="1524600"/>
          </a:xfrm>
          <a:prstGeom prst="straightConnector1">
            <a:avLst/>
          </a:prstGeom>
          <a:ln w="19080">
            <a:solidFill>
              <a:srgbClr val="3366ff"/>
            </a:solidFill>
            <a:prstDash val="dash"/>
            <a:miter/>
            <a:tailEnd len="med" type="triangle" w="med"/>
          </a:ln>
        </p:spPr>
      </p:cxnSp>
      <p:cxnSp>
        <p:nvCxnSpPr>
          <p:cNvPr id="2072" name=""/>
          <p:cNvCxnSpPr/>
          <p:nvPr/>
        </p:nvCxnSpPr>
        <p:spPr>
          <a:xfrm>
            <a:off x="5105160" y="914040"/>
            <a:ext cx="610200" cy="68652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73" name=""/>
          <p:cNvCxnSpPr/>
          <p:nvPr/>
        </p:nvCxnSpPr>
        <p:spPr>
          <a:xfrm>
            <a:off x="5105160" y="914400"/>
            <a:ext cx="610200" cy="236304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74" name=""/>
          <p:cNvCxnSpPr>
            <a:endCxn id="2032" idx="4"/>
          </p:cNvCxnSpPr>
          <p:nvPr/>
        </p:nvCxnSpPr>
        <p:spPr>
          <a:xfrm flipV="1">
            <a:off x="2895480" y="2751840"/>
            <a:ext cx="4687200" cy="15915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75" name=""/>
          <p:cNvCxnSpPr>
            <a:stCxn id="2019" idx="3"/>
          </p:cNvCxnSpPr>
          <p:nvPr/>
        </p:nvCxnSpPr>
        <p:spPr>
          <a:xfrm>
            <a:off x="2438280" y="1600200"/>
            <a:ext cx="457920" cy="274392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2076" name=""/>
          <p:cNvCxnSpPr>
            <a:stCxn id="2057" idx="3"/>
          </p:cNvCxnSpPr>
          <p:nvPr/>
        </p:nvCxnSpPr>
        <p:spPr>
          <a:xfrm>
            <a:off x="2438280" y="2438280"/>
            <a:ext cx="457920" cy="190584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</a:ln>
        </p:spPr>
      </p:cxnSp>
      <p:cxnSp>
        <p:nvCxnSpPr>
          <p:cNvPr id="2077" name=""/>
          <p:cNvCxnSpPr>
            <a:stCxn id="2058" idx="3"/>
          </p:cNvCxnSpPr>
          <p:nvPr/>
        </p:nvCxnSpPr>
        <p:spPr>
          <a:xfrm>
            <a:off x="2438280" y="3276360"/>
            <a:ext cx="4579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2078" name=""/>
          <p:cNvCxnSpPr/>
          <p:nvPr/>
        </p:nvCxnSpPr>
        <p:spPr>
          <a:xfrm>
            <a:off x="4419720" y="1600200"/>
            <a:ext cx="457920" cy="274392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2079" name=""/>
          <p:cNvCxnSpPr/>
          <p:nvPr/>
        </p:nvCxnSpPr>
        <p:spPr>
          <a:xfrm>
            <a:off x="4419720" y="2438280"/>
            <a:ext cx="457920" cy="190584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</a:ln>
        </p:spPr>
      </p:cxnSp>
      <p:cxnSp>
        <p:nvCxnSpPr>
          <p:cNvPr id="2080" name=""/>
          <p:cNvCxnSpPr/>
          <p:nvPr/>
        </p:nvCxnSpPr>
        <p:spPr>
          <a:xfrm>
            <a:off x="4419720" y="3276360"/>
            <a:ext cx="4579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2081" name=""/>
          <p:cNvSpPr/>
          <p:nvPr/>
        </p:nvSpPr>
        <p:spPr>
          <a:xfrm>
            <a:off x="1523880" y="44956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505320" y="44956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5410080" y="44956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"/>
          <p:cNvSpPr/>
          <p:nvPr/>
        </p:nvSpPr>
        <p:spPr>
          <a:xfrm>
            <a:off x="182880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75248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828800" y="297180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676520" y="1981080"/>
            <a:ext cx="838080" cy="175284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80988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809880" y="297180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657600" y="1981080"/>
            <a:ext cx="838080" cy="175284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5791320" y="2133720"/>
            <a:ext cx="53316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5638680" y="1981080"/>
            <a:ext cx="838440" cy="175284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04920" y="2133720"/>
            <a:ext cx="53316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731520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5" name=""/>
          <p:cNvCxnSpPr>
            <a:stCxn id="2093" idx="6"/>
            <a:endCxn id="2084" idx="2"/>
          </p:cNvCxnSpPr>
          <p:nvPr/>
        </p:nvCxnSpPr>
        <p:spPr>
          <a:xfrm>
            <a:off x="847440" y="2437920"/>
            <a:ext cx="972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6" name=""/>
          <p:cNvCxnSpPr>
            <a:stCxn id="2093" idx="6"/>
            <a:endCxn id="2086" idx="2"/>
          </p:cNvCxnSpPr>
          <p:nvPr/>
        </p:nvCxnSpPr>
        <p:spPr>
          <a:xfrm>
            <a:off x="847440" y="2437920"/>
            <a:ext cx="9723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7" name=""/>
          <p:cNvCxnSpPr>
            <a:stCxn id="2084" idx="6"/>
            <a:endCxn id="2088" idx="2"/>
          </p:cNvCxnSpPr>
          <p:nvPr/>
        </p:nvCxnSpPr>
        <p:spPr>
          <a:xfrm>
            <a:off x="2371320" y="243792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8" name=""/>
          <p:cNvCxnSpPr>
            <a:stCxn id="2086" idx="6"/>
            <a:endCxn id="2088" idx="2"/>
          </p:cNvCxnSpPr>
          <p:nvPr/>
        </p:nvCxnSpPr>
        <p:spPr>
          <a:xfrm flipV="1">
            <a:off x="2371320" y="243756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9" name=""/>
          <p:cNvCxnSpPr>
            <a:stCxn id="2084" idx="6"/>
            <a:endCxn id="2089" idx="2"/>
          </p:cNvCxnSpPr>
          <p:nvPr/>
        </p:nvCxnSpPr>
        <p:spPr>
          <a:xfrm>
            <a:off x="2371320" y="243792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0" name=""/>
          <p:cNvCxnSpPr>
            <a:stCxn id="2088" idx="6"/>
            <a:endCxn id="2091" idx="2"/>
          </p:cNvCxnSpPr>
          <p:nvPr/>
        </p:nvCxnSpPr>
        <p:spPr>
          <a:xfrm>
            <a:off x="4352400" y="243792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1" name=""/>
          <p:cNvCxnSpPr>
            <a:stCxn id="2089" idx="6"/>
            <a:endCxn id="2091" idx="2"/>
          </p:cNvCxnSpPr>
          <p:nvPr/>
        </p:nvCxnSpPr>
        <p:spPr>
          <a:xfrm flipV="1">
            <a:off x="4352400" y="243756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2" name=""/>
          <p:cNvCxnSpPr>
            <a:stCxn id="2091" idx="6"/>
            <a:endCxn id="2094" idx="2"/>
          </p:cNvCxnSpPr>
          <p:nvPr/>
        </p:nvCxnSpPr>
        <p:spPr>
          <a:xfrm>
            <a:off x="6333840" y="2437920"/>
            <a:ext cx="972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3" name=""/>
          <p:cNvSpPr/>
          <p:nvPr/>
        </p:nvSpPr>
        <p:spPr>
          <a:xfrm>
            <a:off x="175248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73392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3392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71500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2860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723888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9" name=""/>
          <p:cNvCxnSpPr>
            <a:stCxn id="2093" idx="0"/>
          </p:cNvCxnSpPr>
          <p:nvPr/>
        </p:nvCxnSpPr>
        <p:spPr>
          <a:xfrm flipH="1" flipV="1" rot="5400000">
            <a:off x="1623600" y="699480"/>
            <a:ext cx="372240" cy="2477160"/>
          </a:xfrm>
          <a:prstGeom prst="bentConnector2">
            <a:avLst/>
          </a:prstGeom>
          <a:ln w="19080">
            <a:solidFill>
              <a:srgbClr val="3366ff"/>
            </a:solidFill>
            <a:miter/>
          </a:ln>
        </p:spPr>
      </p:cxnSp>
      <p:cxnSp>
        <p:nvCxnSpPr>
          <p:cNvPr id="2110" name=""/>
          <p:cNvCxnSpPr>
            <a:endCxn id="2088" idx="2"/>
          </p:cNvCxnSpPr>
          <p:nvPr/>
        </p:nvCxnSpPr>
        <p:spPr>
          <a:xfrm>
            <a:off x="3048120" y="1752120"/>
            <a:ext cx="753120" cy="68652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111" name=""/>
          <p:cNvCxnSpPr>
            <a:endCxn id="2094" idx="4"/>
          </p:cNvCxnSpPr>
          <p:nvPr/>
        </p:nvCxnSpPr>
        <p:spPr>
          <a:xfrm flipV="1">
            <a:off x="4952520" y="2751840"/>
            <a:ext cx="2629800" cy="121068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12" name=""/>
          <p:cNvCxnSpPr>
            <a:stCxn id="2089" idx="6"/>
          </p:cNvCxnSpPr>
          <p:nvPr/>
        </p:nvCxnSpPr>
        <p:spPr>
          <a:xfrm>
            <a:off x="4352400" y="3276360"/>
            <a:ext cx="600840" cy="68652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2113" name=""/>
          <p:cNvSpPr/>
          <p:nvPr/>
        </p:nvSpPr>
        <p:spPr>
          <a:xfrm>
            <a:off x="1447920" y="40384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05320" y="40384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410080" y="40384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/>
          <p:nvPr/>
        </p:nvSpPr>
        <p:spPr>
          <a:xfrm>
            <a:off x="2895480" y="1219320"/>
            <a:ext cx="533520" cy="6094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819520" y="1371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962520" y="1219320"/>
            <a:ext cx="53316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752480" y="12193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0" name=""/>
          <p:cNvCxnSpPr>
            <a:stCxn id="2119" idx="6"/>
            <a:endCxn id="2116" idx="2"/>
          </p:cNvCxnSpPr>
          <p:nvPr/>
        </p:nvCxnSpPr>
        <p:spPr>
          <a:xfrm>
            <a:off x="2295000" y="1523520"/>
            <a:ext cx="591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1" name=""/>
          <p:cNvCxnSpPr>
            <a:stCxn id="2116" idx="6"/>
            <a:endCxn id="2118" idx="2"/>
          </p:cNvCxnSpPr>
          <p:nvPr/>
        </p:nvCxnSpPr>
        <p:spPr>
          <a:xfrm>
            <a:off x="3438000" y="15235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2" name=""/>
          <p:cNvCxnSpPr>
            <a:stCxn id="2123" idx="6"/>
            <a:endCxn id="2124" idx="2"/>
          </p:cNvCxnSpPr>
          <p:nvPr/>
        </p:nvCxnSpPr>
        <p:spPr>
          <a:xfrm>
            <a:off x="5571720" y="15235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5" name=""/>
          <p:cNvSpPr/>
          <p:nvPr/>
        </p:nvSpPr>
        <p:spPr>
          <a:xfrm>
            <a:off x="3886200" y="1371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676520" y="1371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095880" y="12193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6019920" y="1371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5029200" y="1219320"/>
            <a:ext cx="533520" cy="60948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952880" y="1371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9" name=""/>
          <p:cNvCxnSpPr>
            <a:stCxn id="2118" idx="6"/>
            <a:endCxn id="2123" idx="2"/>
          </p:cNvCxnSpPr>
          <p:nvPr/>
        </p:nvCxnSpPr>
        <p:spPr>
          <a:xfrm>
            <a:off x="4505040" y="15235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0" name=""/>
          <p:cNvSpPr/>
          <p:nvPr/>
        </p:nvSpPr>
        <p:spPr>
          <a:xfrm>
            <a:off x="2743200" y="1066680"/>
            <a:ext cx="838080" cy="91440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914400"/>
              <a:gd name="textAreaBottom" fmla="*/ 873720 h 914400"/>
            </a:gdLst>
            <a:ahLst/>
            <a:rect l="textAreaLeft" t="textAreaTop" r="textAreaRight" b="textAreaBottom"/>
            <a:pathLst>
              <a:path w="21600" h="23566">
                <a:moveTo>
                  <a:pt x="3600" y="0"/>
                </a:moveTo>
                <a:arcTo wR="3600" hR="3600" stAng="16200000" swAng="-5400000"/>
                <a:lnTo>
                  <a:pt x="0" y="19966"/>
                </a:lnTo>
                <a:arcTo wR="3600" hR="3600" stAng="10800000" swAng="-5400000"/>
                <a:lnTo>
                  <a:pt x="18000" y="23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590920" y="914400"/>
            <a:ext cx="2057400" cy="1219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886200" y="1066680"/>
            <a:ext cx="1828800" cy="914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57400" y="2286000"/>
            <a:ext cx="533520" cy="45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6668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s concernés par l'état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286000" y="2362320"/>
            <a:ext cx="304920" cy="30456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2209680" y="2362320"/>
            <a:ext cx="3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"/>
          <p:cNvSpPr/>
          <p:nvPr/>
        </p:nvSpPr>
        <p:spPr>
          <a:xfrm>
            <a:off x="2895480" y="2590920"/>
            <a:ext cx="533520" cy="6094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819520" y="2743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962520" y="1905120"/>
            <a:ext cx="53316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752480" y="25909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1" name=""/>
          <p:cNvCxnSpPr>
            <a:stCxn id="2140" idx="6"/>
            <a:endCxn id="2137" idx="2"/>
          </p:cNvCxnSpPr>
          <p:nvPr/>
        </p:nvCxnSpPr>
        <p:spPr>
          <a:xfrm>
            <a:off x="2295000" y="2895120"/>
            <a:ext cx="591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2" name=""/>
          <p:cNvCxnSpPr>
            <a:stCxn id="2137" idx="6"/>
            <a:endCxn id="2139" idx="2"/>
          </p:cNvCxnSpPr>
          <p:nvPr/>
        </p:nvCxnSpPr>
        <p:spPr>
          <a:xfrm flipV="1">
            <a:off x="3438000" y="2208960"/>
            <a:ext cx="51516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3" name=""/>
          <p:cNvCxnSpPr>
            <a:stCxn id="2144" idx="6"/>
            <a:endCxn id="2145" idx="2"/>
          </p:cNvCxnSpPr>
          <p:nvPr/>
        </p:nvCxnSpPr>
        <p:spPr>
          <a:xfrm>
            <a:off x="5495400" y="1828440"/>
            <a:ext cx="5911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6" name=""/>
          <p:cNvSpPr/>
          <p:nvPr/>
        </p:nvSpPr>
        <p:spPr>
          <a:xfrm>
            <a:off x="3886200" y="19051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676520" y="2743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6095880" y="25909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6019920" y="2743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4952880" y="1523880"/>
            <a:ext cx="533520" cy="60984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4876920" y="16002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0" name=""/>
          <p:cNvCxnSpPr>
            <a:stCxn id="2139" idx="6"/>
            <a:endCxn id="2144" idx="2"/>
          </p:cNvCxnSpPr>
          <p:nvPr/>
        </p:nvCxnSpPr>
        <p:spPr>
          <a:xfrm flipV="1">
            <a:off x="4505040" y="1828440"/>
            <a:ext cx="43884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1" name=""/>
          <p:cNvSpPr/>
          <p:nvPr/>
        </p:nvSpPr>
        <p:spPr>
          <a:xfrm>
            <a:off x="3962520" y="3276720"/>
            <a:ext cx="53316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886200" y="335268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3" name=""/>
          <p:cNvCxnSpPr>
            <a:stCxn id="2137" idx="6"/>
            <a:endCxn id="2151" idx="2"/>
          </p:cNvCxnSpPr>
          <p:nvPr/>
        </p:nvCxnSpPr>
        <p:spPr>
          <a:xfrm>
            <a:off x="3438000" y="2895120"/>
            <a:ext cx="51516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4" name=""/>
          <p:cNvSpPr/>
          <p:nvPr/>
        </p:nvSpPr>
        <p:spPr>
          <a:xfrm>
            <a:off x="4952880" y="2895480"/>
            <a:ext cx="533520" cy="60984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876920" y="22860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952880" y="2209680"/>
            <a:ext cx="533520" cy="60984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876920" y="36576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952880" y="3581280"/>
            <a:ext cx="533520" cy="60984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876920" y="2971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0" name=""/>
          <p:cNvCxnSpPr>
            <a:stCxn id="2156" idx="6"/>
            <a:endCxn id="2145" idx="2"/>
          </p:cNvCxnSpPr>
          <p:nvPr/>
        </p:nvCxnSpPr>
        <p:spPr>
          <a:xfrm>
            <a:off x="5495400" y="2514600"/>
            <a:ext cx="59112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1" name=""/>
          <p:cNvCxnSpPr>
            <a:stCxn id="2154" idx="6"/>
            <a:endCxn id="2145" idx="2"/>
          </p:cNvCxnSpPr>
          <p:nvPr/>
        </p:nvCxnSpPr>
        <p:spPr>
          <a:xfrm flipV="1">
            <a:off x="5495400" y="2894760"/>
            <a:ext cx="59112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2" name=""/>
          <p:cNvCxnSpPr>
            <a:stCxn id="2158" idx="6"/>
            <a:endCxn id="2145" idx="2"/>
          </p:cNvCxnSpPr>
          <p:nvPr/>
        </p:nvCxnSpPr>
        <p:spPr>
          <a:xfrm flipV="1">
            <a:off x="5495400" y="2895120"/>
            <a:ext cx="59112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3" name=""/>
          <p:cNvCxnSpPr>
            <a:stCxn id="2139" idx="6"/>
            <a:endCxn id="2156" idx="2"/>
          </p:cNvCxnSpPr>
          <p:nvPr/>
        </p:nvCxnSpPr>
        <p:spPr>
          <a:xfrm>
            <a:off x="4505040" y="2209320"/>
            <a:ext cx="43884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4" name=""/>
          <p:cNvCxnSpPr>
            <a:stCxn id="2151" idx="6"/>
            <a:endCxn id="2154" idx="2"/>
          </p:cNvCxnSpPr>
          <p:nvPr/>
        </p:nvCxnSpPr>
        <p:spPr>
          <a:xfrm flipV="1">
            <a:off x="4505040" y="3200040"/>
            <a:ext cx="43884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5" name=""/>
          <p:cNvCxnSpPr>
            <a:stCxn id="2151" idx="6"/>
            <a:endCxn id="2158" idx="2"/>
          </p:cNvCxnSpPr>
          <p:nvPr/>
        </p:nvCxnSpPr>
        <p:spPr>
          <a:xfrm>
            <a:off x="4505040" y="3580920"/>
            <a:ext cx="43884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6" name=""/>
          <p:cNvGrpSpPr/>
          <p:nvPr/>
        </p:nvGrpSpPr>
        <p:grpSpPr>
          <a:xfrm>
            <a:off x="2286000" y="2133720"/>
            <a:ext cx="837720" cy="533160"/>
            <a:chOff x="2286000" y="2133720"/>
            <a:chExt cx="837720" cy="533160"/>
          </a:xfrm>
        </p:grpSpPr>
        <p:sp>
          <p:nvSpPr>
            <p:cNvPr id="2167" name=""/>
            <p:cNvSpPr/>
            <p:nvPr/>
          </p:nvSpPr>
          <p:spPr>
            <a:xfrm>
              <a:off x="2286000" y="21337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537280" y="2209680"/>
              <a:ext cx="385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9" name=""/>
          <p:cNvGrpSpPr/>
          <p:nvPr/>
        </p:nvGrpSpPr>
        <p:grpSpPr>
          <a:xfrm>
            <a:off x="1066680" y="2133720"/>
            <a:ext cx="761760" cy="533160"/>
            <a:chOff x="1066680" y="2133720"/>
            <a:chExt cx="761760" cy="533160"/>
          </a:xfrm>
        </p:grpSpPr>
        <p:sp>
          <p:nvSpPr>
            <p:cNvPr id="2170" name=""/>
            <p:cNvSpPr/>
            <p:nvPr/>
          </p:nvSpPr>
          <p:spPr>
            <a:xfrm>
              <a:off x="1066680" y="21337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295280" y="22096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2" name=""/>
          <p:cNvGrpSpPr/>
          <p:nvPr/>
        </p:nvGrpSpPr>
        <p:grpSpPr>
          <a:xfrm>
            <a:off x="3581280" y="2133720"/>
            <a:ext cx="761760" cy="533160"/>
            <a:chOff x="3581280" y="2133720"/>
            <a:chExt cx="761760" cy="533160"/>
          </a:xfrm>
        </p:grpSpPr>
        <p:sp>
          <p:nvSpPr>
            <p:cNvPr id="2173" name=""/>
            <p:cNvSpPr/>
            <p:nvPr/>
          </p:nvSpPr>
          <p:spPr>
            <a:xfrm>
              <a:off x="3581280" y="21337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809880" y="22096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75" name=""/>
          <p:cNvCxnSpPr>
            <a:stCxn id="2170" idx="6"/>
            <a:endCxn id="2167" idx="2"/>
          </p:cNvCxnSpPr>
          <p:nvPr/>
        </p:nvCxnSpPr>
        <p:spPr>
          <a:xfrm>
            <a:off x="1838160" y="2400120"/>
            <a:ext cx="4392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6" name=""/>
          <p:cNvCxnSpPr>
            <a:stCxn id="2167" idx="6"/>
            <a:endCxn id="2173" idx="2"/>
          </p:cNvCxnSpPr>
          <p:nvPr/>
        </p:nvCxnSpPr>
        <p:spPr>
          <a:xfrm>
            <a:off x="3133440" y="2400120"/>
            <a:ext cx="438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7" name=""/>
          <p:cNvCxnSpPr>
            <a:stCxn id="2167" idx="0"/>
          </p:cNvCxnSpPr>
          <p:nvPr/>
        </p:nvCxnSpPr>
        <p:spPr>
          <a:xfrm flipH="1" flipV="1">
            <a:off x="2247480" y="1523160"/>
            <a:ext cx="457920" cy="600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8" name=""/>
          <p:cNvSpPr/>
          <p:nvPr/>
        </p:nvSpPr>
        <p:spPr>
          <a:xfrm>
            <a:off x="3124080" y="2133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213372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97180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828800" y="2133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2" name=""/>
          <p:cNvCxnSpPr>
            <a:stCxn id="2167" idx="0"/>
          </p:cNvCxnSpPr>
          <p:nvPr/>
        </p:nvCxnSpPr>
        <p:spPr>
          <a:xfrm flipV="1">
            <a:off x="2704680" y="1523160"/>
            <a:ext cx="648360" cy="600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3" name=""/>
          <p:cNvSpPr/>
          <p:nvPr/>
        </p:nvSpPr>
        <p:spPr>
          <a:xfrm>
            <a:off x="1752480" y="1219320"/>
            <a:ext cx="83844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bs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895480" y="1219320"/>
            <a:ext cx="83844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b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5" name=""/>
          <p:cNvGrpSpPr/>
          <p:nvPr/>
        </p:nvGrpSpPr>
        <p:grpSpPr>
          <a:xfrm>
            <a:off x="6172200" y="1371600"/>
            <a:ext cx="837720" cy="533520"/>
            <a:chOff x="6172200" y="1371600"/>
            <a:chExt cx="837720" cy="533520"/>
          </a:xfrm>
        </p:grpSpPr>
        <p:sp>
          <p:nvSpPr>
            <p:cNvPr id="2186" name=""/>
            <p:cNvSpPr/>
            <p:nvPr/>
          </p:nvSpPr>
          <p:spPr>
            <a:xfrm>
              <a:off x="6172200" y="137160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423480" y="1447920"/>
              <a:ext cx="385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8" name=""/>
          <p:cNvGrpSpPr/>
          <p:nvPr/>
        </p:nvGrpSpPr>
        <p:grpSpPr>
          <a:xfrm>
            <a:off x="4952880" y="1752480"/>
            <a:ext cx="761760" cy="533520"/>
            <a:chOff x="4952880" y="1752480"/>
            <a:chExt cx="761760" cy="533520"/>
          </a:xfrm>
        </p:grpSpPr>
        <p:sp>
          <p:nvSpPr>
            <p:cNvPr id="2189" name=""/>
            <p:cNvSpPr/>
            <p:nvPr/>
          </p:nvSpPr>
          <p:spPr>
            <a:xfrm>
              <a:off x="4952880" y="17524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181480" y="18288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1" name=""/>
          <p:cNvGrpSpPr/>
          <p:nvPr/>
        </p:nvGrpSpPr>
        <p:grpSpPr>
          <a:xfrm>
            <a:off x="7467480" y="1752480"/>
            <a:ext cx="761760" cy="533520"/>
            <a:chOff x="7467480" y="1752480"/>
            <a:chExt cx="761760" cy="533520"/>
          </a:xfrm>
        </p:grpSpPr>
        <p:sp>
          <p:nvSpPr>
            <p:cNvPr id="2192" name=""/>
            <p:cNvSpPr/>
            <p:nvPr/>
          </p:nvSpPr>
          <p:spPr>
            <a:xfrm>
              <a:off x="7467480" y="17524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696080" y="18288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4" name=""/>
          <p:cNvCxnSpPr>
            <a:stCxn id="2189" idx="6"/>
            <a:endCxn id="2186" idx="2"/>
          </p:cNvCxnSpPr>
          <p:nvPr/>
        </p:nvCxnSpPr>
        <p:spPr>
          <a:xfrm flipV="1">
            <a:off x="5724360" y="1638000"/>
            <a:ext cx="43920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5" name=""/>
          <p:cNvCxnSpPr>
            <a:stCxn id="2186" idx="6"/>
            <a:endCxn id="2192" idx="2"/>
          </p:cNvCxnSpPr>
          <p:nvPr/>
        </p:nvCxnSpPr>
        <p:spPr>
          <a:xfrm>
            <a:off x="7019640" y="1638360"/>
            <a:ext cx="43884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6" name=""/>
          <p:cNvSpPr/>
          <p:nvPr/>
        </p:nvSpPr>
        <p:spPr>
          <a:xfrm>
            <a:off x="7010280" y="1523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638680" y="2133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5638680" y="1523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010280" y="2133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0" name=""/>
          <p:cNvCxnSpPr>
            <a:stCxn id="2186" idx="0"/>
            <a:endCxn id="2201" idx="2"/>
          </p:cNvCxnSpPr>
          <p:nvPr/>
        </p:nvCxnSpPr>
        <p:spPr>
          <a:xfrm flipV="1">
            <a:off x="6590880" y="942120"/>
            <a:ext cx="1080" cy="420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1" name=""/>
          <p:cNvSpPr/>
          <p:nvPr/>
        </p:nvSpPr>
        <p:spPr>
          <a:xfrm>
            <a:off x="6172200" y="609480"/>
            <a:ext cx="83808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bs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172200" y="2895480"/>
            <a:ext cx="83808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b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6172200" y="1981080"/>
            <a:ext cx="837720" cy="533520"/>
            <a:chOff x="6172200" y="1981080"/>
            <a:chExt cx="837720" cy="533520"/>
          </a:xfrm>
        </p:grpSpPr>
        <p:sp>
          <p:nvSpPr>
            <p:cNvPr id="2204" name=""/>
            <p:cNvSpPr/>
            <p:nvPr/>
          </p:nvSpPr>
          <p:spPr>
            <a:xfrm>
              <a:off x="6172200" y="19810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423480" y="2057400"/>
              <a:ext cx="385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06" name=""/>
          <p:cNvCxnSpPr>
            <a:stCxn id="2204" idx="6"/>
            <a:endCxn id="2192" idx="2"/>
          </p:cNvCxnSpPr>
          <p:nvPr/>
        </p:nvCxnSpPr>
        <p:spPr>
          <a:xfrm flipV="1">
            <a:off x="7019640" y="2018520"/>
            <a:ext cx="43884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7" name=""/>
          <p:cNvCxnSpPr>
            <a:stCxn id="2189" idx="6"/>
            <a:endCxn id="2204" idx="2"/>
          </p:cNvCxnSpPr>
          <p:nvPr/>
        </p:nvCxnSpPr>
        <p:spPr>
          <a:xfrm>
            <a:off x="5724360" y="2018880"/>
            <a:ext cx="43920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8" name=""/>
          <p:cNvCxnSpPr>
            <a:stCxn id="2204" idx="4"/>
            <a:endCxn id="2202" idx="0"/>
          </p:cNvCxnSpPr>
          <p:nvPr/>
        </p:nvCxnSpPr>
        <p:spPr>
          <a:xfrm>
            <a:off x="6590880" y="2523960"/>
            <a:ext cx="1080" cy="36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9" name=""/>
          <p:cNvSpPr/>
          <p:nvPr/>
        </p:nvSpPr>
        <p:spPr>
          <a:xfrm>
            <a:off x="6477120" y="25146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477120" y="1066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1" name=""/>
          <p:cNvGrpSpPr/>
          <p:nvPr/>
        </p:nvGrpSpPr>
        <p:grpSpPr>
          <a:xfrm>
            <a:off x="2514600" y="533520"/>
            <a:ext cx="837720" cy="533160"/>
            <a:chOff x="2514600" y="533520"/>
            <a:chExt cx="837720" cy="533160"/>
          </a:xfrm>
        </p:grpSpPr>
        <p:sp>
          <p:nvSpPr>
            <p:cNvPr id="2212" name=""/>
            <p:cNvSpPr/>
            <p:nvPr/>
          </p:nvSpPr>
          <p:spPr>
            <a:xfrm>
              <a:off x="2514600" y="5335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765880" y="6094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4" name=""/>
          <p:cNvGrpSpPr/>
          <p:nvPr/>
        </p:nvGrpSpPr>
        <p:grpSpPr>
          <a:xfrm>
            <a:off x="1295280" y="838080"/>
            <a:ext cx="761760" cy="533520"/>
            <a:chOff x="1295280" y="838080"/>
            <a:chExt cx="761760" cy="533520"/>
          </a:xfrm>
        </p:grpSpPr>
        <p:sp>
          <p:nvSpPr>
            <p:cNvPr id="2215" name=""/>
            <p:cNvSpPr/>
            <p:nvPr/>
          </p:nvSpPr>
          <p:spPr>
            <a:xfrm>
              <a:off x="1295280" y="8380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523880" y="9144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7" name=""/>
          <p:cNvGrpSpPr/>
          <p:nvPr/>
        </p:nvGrpSpPr>
        <p:grpSpPr>
          <a:xfrm>
            <a:off x="6553080" y="838080"/>
            <a:ext cx="761760" cy="533520"/>
            <a:chOff x="6553080" y="838080"/>
            <a:chExt cx="761760" cy="533520"/>
          </a:xfrm>
        </p:grpSpPr>
        <p:sp>
          <p:nvSpPr>
            <p:cNvPr id="2218" name=""/>
            <p:cNvSpPr/>
            <p:nvPr/>
          </p:nvSpPr>
          <p:spPr>
            <a:xfrm>
              <a:off x="6553080" y="8380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781680" y="9144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20" name=""/>
          <p:cNvCxnSpPr>
            <a:stCxn id="2215" idx="6"/>
            <a:endCxn id="2212" idx="2"/>
          </p:cNvCxnSpPr>
          <p:nvPr/>
        </p:nvCxnSpPr>
        <p:spPr>
          <a:xfrm flipV="1">
            <a:off x="2066760" y="799920"/>
            <a:ext cx="43920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1" name=""/>
          <p:cNvCxnSpPr>
            <a:stCxn id="2222" idx="6"/>
            <a:endCxn id="2218" idx="2"/>
          </p:cNvCxnSpPr>
          <p:nvPr/>
        </p:nvCxnSpPr>
        <p:spPr>
          <a:xfrm>
            <a:off x="6105240" y="800280"/>
            <a:ext cx="43884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23" name=""/>
          <p:cNvGrpSpPr/>
          <p:nvPr/>
        </p:nvGrpSpPr>
        <p:grpSpPr>
          <a:xfrm>
            <a:off x="2514600" y="1143000"/>
            <a:ext cx="837720" cy="533520"/>
            <a:chOff x="2514600" y="1143000"/>
            <a:chExt cx="837720" cy="533520"/>
          </a:xfrm>
        </p:grpSpPr>
        <p:sp>
          <p:nvSpPr>
            <p:cNvPr id="2224" name=""/>
            <p:cNvSpPr/>
            <p:nvPr/>
          </p:nvSpPr>
          <p:spPr>
            <a:xfrm>
              <a:off x="2514600" y="114300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765880" y="121932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3886200" y="838080"/>
            <a:ext cx="837720" cy="533520"/>
            <a:chOff x="3886200" y="838080"/>
            <a:chExt cx="837720" cy="533520"/>
          </a:xfrm>
        </p:grpSpPr>
        <p:sp>
          <p:nvSpPr>
            <p:cNvPr id="2227" name=""/>
            <p:cNvSpPr/>
            <p:nvPr/>
          </p:nvSpPr>
          <p:spPr>
            <a:xfrm>
              <a:off x="3886200" y="8380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137480" y="91440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5257800" y="533520"/>
            <a:ext cx="837720" cy="533160"/>
            <a:chOff x="5257800" y="533520"/>
            <a:chExt cx="837720" cy="533160"/>
          </a:xfrm>
        </p:grpSpPr>
        <p:sp>
          <p:nvSpPr>
            <p:cNvPr id="2222" name=""/>
            <p:cNvSpPr/>
            <p:nvPr/>
          </p:nvSpPr>
          <p:spPr>
            <a:xfrm>
              <a:off x="5257800" y="5335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509080" y="6094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1" name=""/>
          <p:cNvGrpSpPr/>
          <p:nvPr/>
        </p:nvGrpSpPr>
        <p:grpSpPr>
          <a:xfrm>
            <a:off x="5257800" y="1143000"/>
            <a:ext cx="837720" cy="533520"/>
            <a:chOff x="5257800" y="1143000"/>
            <a:chExt cx="837720" cy="533520"/>
          </a:xfrm>
        </p:grpSpPr>
        <p:sp>
          <p:nvSpPr>
            <p:cNvPr id="2232" name=""/>
            <p:cNvSpPr/>
            <p:nvPr/>
          </p:nvSpPr>
          <p:spPr>
            <a:xfrm>
              <a:off x="5257800" y="114300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509080" y="121932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34" name=""/>
          <p:cNvCxnSpPr>
            <a:stCxn id="2215" idx="6"/>
            <a:endCxn id="2224" idx="2"/>
          </p:cNvCxnSpPr>
          <p:nvPr/>
        </p:nvCxnSpPr>
        <p:spPr>
          <a:xfrm>
            <a:off x="2066760" y="1104480"/>
            <a:ext cx="43920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5" name=""/>
          <p:cNvCxnSpPr>
            <a:stCxn id="2232" idx="6"/>
            <a:endCxn id="2218" idx="2"/>
          </p:cNvCxnSpPr>
          <p:nvPr/>
        </p:nvCxnSpPr>
        <p:spPr>
          <a:xfrm flipV="1">
            <a:off x="6105240" y="1104120"/>
            <a:ext cx="43884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6" name=""/>
          <p:cNvCxnSpPr>
            <a:stCxn id="2227" idx="6"/>
            <a:endCxn id="2222" idx="2"/>
          </p:cNvCxnSpPr>
          <p:nvPr/>
        </p:nvCxnSpPr>
        <p:spPr>
          <a:xfrm flipV="1">
            <a:off x="4733640" y="799920"/>
            <a:ext cx="51516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7" name=""/>
          <p:cNvCxnSpPr>
            <a:stCxn id="2227" idx="6"/>
            <a:endCxn id="2232" idx="2"/>
          </p:cNvCxnSpPr>
          <p:nvPr/>
        </p:nvCxnSpPr>
        <p:spPr>
          <a:xfrm>
            <a:off x="4733640" y="1104480"/>
            <a:ext cx="51516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8" name=""/>
          <p:cNvCxnSpPr>
            <a:stCxn id="2212" idx="6"/>
            <a:endCxn id="2227" idx="2"/>
          </p:cNvCxnSpPr>
          <p:nvPr/>
        </p:nvCxnSpPr>
        <p:spPr>
          <a:xfrm>
            <a:off x="3362040" y="800280"/>
            <a:ext cx="51516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9" name=""/>
          <p:cNvCxnSpPr>
            <a:stCxn id="2224" idx="6"/>
            <a:endCxn id="2227" idx="2"/>
          </p:cNvCxnSpPr>
          <p:nvPr/>
        </p:nvCxnSpPr>
        <p:spPr>
          <a:xfrm flipV="1">
            <a:off x="3362040" y="1104120"/>
            <a:ext cx="51516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40" name=""/>
          <p:cNvGrpSpPr/>
          <p:nvPr/>
        </p:nvGrpSpPr>
        <p:grpSpPr>
          <a:xfrm>
            <a:off x="2590920" y="2209680"/>
            <a:ext cx="837720" cy="533520"/>
            <a:chOff x="2590920" y="2209680"/>
            <a:chExt cx="837720" cy="533520"/>
          </a:xfrm>
        </p:grpSpPr>
        <p:sp>
          <p:nvSpPr>
            <p:cNvPr id="2241" name=""/>
            <p:cNvSpPr/>
            <p:nvPr/>
          </p:nvSpPr>
          <p:spPr>
            <a:xfrm>
              <a:off x="2590920" y="22096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842200" y="228600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1371600" y="2514600"/>
            <a:ext cx="761760" cy="533520"/>
            <a:chOff x="1371600" y="2514600"/>
            <a:chExt cx="761760" cy="533520"/>
          </a:xfrm>
        </p:grpSpPr>
        <p:sp>
          <p:nvSpPr>
            <p:cNvPr id="2244" name=""/>
            <p:cNvSpPr/>
            <p:nvPr/>
          </p:nvSpPr>
          <p:spPr>
            <a:xfrm>
              <a:off x="1371600" y="251460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600200" y="2590920"/>
              <a:ext cx="35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6" name=""/>
          <p:cNvGrpSpPr/>
          <p:nvPr/>
        </p:nvGrpSpPr>
        <p:grpSpPr>
          <a:xfrm>
            <a:off x="6629400" y="2514600"/>
            <a:ext cx="761760" cy="533520"/>
            <a:chOff x="6629400" y="2514600"/>
            <a:chExt cx="761760" cy="533520"/>
          </a:xfrm>
        </p:grpSpPr>
        <p:sp>
          <p:nvSpPr>
            <p:cNvPr id="2247" name=""/>
            <p:cNvSpPr/>
            <p:nvPr/>
          </p:nvSpPr>
          <p:spPr>
            <a:xfrm>
              <a:off x="6629400" y="251460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858000" y="2590920"/>
              <a:ext cx="35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49" name=""/>
          <p:cNvCxnSpPr>
            <a:stCxn id="2244" idx="6"/>
            <a:endCxn id="2241" idx="2"/>
          </p:cNvCxnSpPr>
          <p:nvPr/>
        </p:nvCxnSpPr>
        <p:spPr>
          <a:xfrm flipV="1">
            <a:off x="2142720" y="2475720"/>
            <a:ext cx="43884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0" name=""/>
          <p:cNvCxnSpPr>
            <a:stCxn id="2251" idx="6"/>
            <a:endCxn id="2247" idx="2"/>
          </p:cNvCxnSpPr>
          <p:nvPr/>
        </p:nvCxnSpPr>
        <p:spPr>
          <a:xfrm>
            <a:off x="6181560" y="2476080"/>
            <a:ext cx="43920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52" name=""/>
          <p:cNvGrpSpPr/>
          <p:nvPr/>
        </p:nvGrpSpPr>
        <p:grpSpPr>
          <a:xfrm>
            <a:off x="2590920" y="2819520"/>
            <a:ext cx="837720" cy="533160"/>
            <a:chOff x="2590920" y="2819520"/>
            <a:chExt cx="837720" cy="533160"/>
          </a:xfrm>
        </p:grpSpPr>
        <p:sp>
          <p:nvSpPr>
            <p:cNvPr id="2253" name=""/>
            <p:cNvSpPr/>
            <p:nvPr/>
          </p:nvSpPr>
          <p:spPr>
            <a:xfrm>
              <a:off x="2590920" y="28195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842200" y="28954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5" name=""/>
          <p:cNvGrpSpPr/>
          <p:nvPr/>
        </p:nvGrpSpPr>
        <p:grpSpPr>
          <a:xfrm>
            <a:off x="3962520" y="2209680"/>
            <a:ext cx="837720" cy="533520"/>
            <a:chOff x="3962520" y="2209680"/>
            <a:chExt cx="837720" cy="533520"/>
          </a:xfrm>
        </p:grpSpPr>
        <p:sp>
          <p:nvSpPr>
            <p:cNvPr id="2256" name=""/>
            <p:cNvSpPr/>
            <p:nvPr/>
          </p:nvSpPr>
          <p:spPr>
            <a:xfrm>
              <a:off x="3962520" y="22096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213800" y="228600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5334120" y="2209680"/>
            <a:ext cx="837720" cy="533520"/>
            <a:chOff x="5334120" y="2209680"/>
            <a:chExt cx="837720" cy="533520"/>
          </a:xfrm>
        </p:grpSpPr>
        <p:sp>
          <p:nvSpPr>
            <p:cNvPr id="2251" name=""/>
            <p:cNvSpPr/>
            <p:nvPr/>
          </p:nvSpPr>
          <p:spPr>
            <a:xfrm>
              <a:off x="5334120" y="22096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585400" y="228600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0" name=""/>
          <p:cNvGrpSpPr/>
          <p:nvPr/>
        </p:nvGrpSpPr>
        <p:grpSpPr>
          <a:xfrm>
            <a:off x="5334120" y="2819520"/>
            <a:ext cx="837720" cy="533160"/>
            <a:chOff x="5334120" y="2819520"/>
            <a:chExt cx="837720" cy="533160"/>
          </a:xfrm>
        </p:grpSpPr>
        <p:sp>
          <p:nvSpPr>
            <p:cNvPr id="2261" name=""/>
            <p:cNvSpPr/>
            <p:nvPr/>
          </p:nvSpPr>
          <p:spPr>
            <a:xfrm>
              <a:off x="5334120" y="28195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585400" y="28954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63" name=""/>
          <p:cNvCxnSpPr>
            <a:stCxn id="2244" idx="6"/>
            <a:endCxn id="2253" idx="2"/>
          </p:cNvCxnSpPr>
          <p:nvPr/>
        </p:nvCxnSpPr>
        <p:spPr>
          <a:xfrm>
            <a:off x="2142720" y="2781000"/>
            <a:ext cx="43884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4" name=""/>
          <p:cNvCxnSpPr>
            <a:stCxn id="2261" idx="6"/>
            <a:endCxn id="2247" idx="2"/>
          </p:cNvCxnSpPr>
          <p:nvPr/>
        </p:nvCxnSpPr>
        <p:spPr>
          <a:xfrm flipV="1">
            <a:off x="6181560" y="2780640"/>
            <a:ext cx="43920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5" name=""/>
          <p:cNvCxnSpPr>
            <a:stCxn id="2256" idx="6"/>
            <a:endCxn id="2251" idx="2"/>
          </p:cNvCxnSpPr>
          <p:nvPr/>
        </p:nvCxnSpPr>
        <p:spPr>
          <a:xfrm>
            <a:off x="4809600" y="24760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6" name=""/>
          <p:cNvCxnSpPr>
            <a:stCxn id="2267" idx="6"/>
            <a:endCxn id="2261" idx="2"/>
          </p:cNvCxnSpPr>
          <p:nvPr/>
        </p:nvCxnSpPr>
        <p:spPr>
          <a:xfrm>
            <a:off x="4809600" y="30859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8" name=""/>
          <p:cNvCxnSpPr>
            <a:stCxn id="2241" idx="6"/>
            <a:endCxn id="2256" idx="2"/>
          </p:cNvCxnSpPr>
          <p:nvPr/>
        </p:nvCxnSpPr>
        <p:spPr>
          <a:xfrm>
            <a:off x="3438000" y="24760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9" name=""/>
          <p:cNvCxnSpPr>
            <a:stCxn id="2253" idx="6"/>
            <a:endCxn id="2267" idx="2"/>
          </p:cNvCxnSpPr>
          <p:nvPr/>
        </p:nvCxnSpPr>
        <p:spPr>
          <a:xfrm>
            <a:off x="3438000" y="30859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70" name=""/>
          <p:cNvGrpSpPr/>
          <p:nvPr/>
        </p:nvGrpSpPr>
        <p:grpSpPr>
          <a:xfrm>
            <a:off x="3962520" y="2819520"/>
            <a:ext cx="837720" cy="533160"/>
            <a:chOff x="3962520" y="2819520"/>
            <a:chExt cx="837720" cy="533160"/>
          </a:xfrm>
        </p:grpSpPr>
        <p:sp>
          <p:nvSpPr>
            <p:cNvPr id="2267" name=""/>
            <p:cNvSpPr/>
            <p:nvPr/>
          </p:nvSpPr>
          <p:spPr>
            <a:xfrm>
              <a:off x="3962520" y="28195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13800" y="28954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2" name=""/>
          <p:cNvGrpSpPr/>
          <p:nvPr/>
        </p:nvGrpSpPr>
        <p:grpSpPr>
          <a:xfrm>
            <a:off x="2971800" y="4419720"/>
            <a:ext cx="837720" cy="533160"/>
            <a:chOff x="2971800" y="4419720"/>
            <a:chExt cx="837720" cy="533160"/>
          </a:xfrm>
        </p:grpSpPr>
        <p:sp>
          <p:nvSpPr>
            <p:cNvPr id="2273" name=""/>
            <p:cNvSpPr/>
            <p:nvPr/>
          </p:nvSpPr>
          <p:spPr>
            <a:xfrm>
              <a:off x="2971800" y="44197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223080" y="44956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1219320" y="4800600"/>
            <a:ext cx="761760" cy="533520"/>
            <a:chOff x="1219320" y="4800600"/>
            <a:chExt cx="761760" cy="533520"/>
          </a:xfrm>
        </p:grpSpPr>
        <p:sp>
          <p:nvSpPr>
            <p:cNvPr id="2276" name=""/>
            <p:cNvSpPr/>
            <p:nvPr/>
          </p:nvSpPr>
          <p:spPr>
            <a:xfrm>
              <a:off x="1219320" y="480060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447920" y="487692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78" name=""/>
          <p:cNvCxnSpPr>
            <a:stCxn id="2276" idx="6"/>
            <a:endCxn id="2273" idx="2"/>
          </p:cNvCxnSpPr>
          <p:nvPr/>
        </p:nvCxnSpPr>
        <p:spPr>
          <a:xfrm flipV="1">
            <a:off x="1990440" y="4686120"/>
            <a:ext cx="9723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79" name=""/>
          <p:cNvGrpSpPr/>
          <p:nvPr/>
        </p:nvGrpSpPr>
        <p:grpSpPr>
          <a:xfrm>
            <a:off x="4648320" y="4952880"/>
            <a:ext cx="837720" cy="533520"/>
            <a:chOff x="4648320" y="4952880"/>
            <a:chExt cx="837720" cy="533520"/>
          </a:xfrm>
        </p:grpSpPr>
        <p:sp>
          <p:nvSpPr>
            <p:cNvPr id="2280" name=""/>
            <p:cNvSpPr/>
            <p:nvPr/>
          </p:nvSpPr>
          <p:spPr>
            <a:xfrm>
              <a:off x="4648320" y="49528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899600" y="502920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6019920" y="4648320"/>
            <a:ext cx="837720" cy="533160"/>
            <a:chOff x="6019920" y="4648320"/>
            <a:chExt cx="837720" cy="533160"/>
          </a:xfrm>
        </p:grpSpPr>
        <p:sp>
          <p:nvSpPr>
            <p:cNvPr id="2283" name=""/>
            <p:cNvSpPr/>
            <p:nvPr/>
          </p:nvSpPr>
          <p:spPr>
            <a:xfrm>
              <a:off x="6019920" y="46483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271200" y="47242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85" name=""/>
          <p:cNvCxnSpPr>
            <a:stCxn id="2276" idx="6"/>
            <a:endCxn id="2280" idx="2"/>
          </p:cNvCxnSpPr>
          <p:nvPr/>
        </p:nvCxnSpPr>
        <p:spPr>
          <a:xfrm>
            <a:off x="1990440" y="5067000"/>
            <a:ext cx="26485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6" name=""/>
          <p:cNvCxnSpPr>
            <a:stCxn id="2273" idx="6"/>
            <a:endCxn id="2283" idx="2"/>
          </p:cNvCxnSpPr>
          <p:nvPr/>
        </p:nvCxnSpPr>
        <p:spPr>
          <a:xfrm>
            <a:off x="3819240" y="4686120"/>
            <a:ext cx="219132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7" name=""/>
          <p:cNvCxnSpPr>
            <a:stCxn id="2280" idx="6"/>
            <a:endCxn id="2283" idx="2"/>
          </p:cNvCxnSpPr>
          <p:nvPr/>
        </p:nvCxnSpPr>
        <p:spPr>
          <a:xfrm flipV="1">
            <a:off x="5495400" y="4914720"/>
            <a:ext cx="515160" cy="305280"/>
          </a:xfrm>
          <a:prstGeom prst="curvedConnector5">
            <a:avLst>
              <a:gd name="adj1" fmla="val 50000"/>
              <a:gd name="adj2" fmla="val 4994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8" name=""/>
          <p:cNvSpPr/>
          <p:nvPr/>
        </p:nvSpPr>
        <p:spPr>
          <a:xfrm>
            <a:off x="2590920" y="4343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11480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2514600" y="4191120"/>
            <a:ext cx="1295280" cy="144756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590920" y="579132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4419720" y="579132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191120" y="4191120"/>
            <a:ext cx="1371600" cy="144756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286000" y="380880"/>
            <a:ext cx="1295280" cy="1447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3657600" y="380880"/>
            <a:ext cx="1295280" cy="1447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5029200" y="380880"/>
            <a:ext cx="1295280" cy="1447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2286000" y="2133720"/>
            <a:ext cx="1295280" cy="144756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657600" y="2133720"/>
            <a:ext cx="1295280" cy="144756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5029200" y="2133720"/>
            <a:ext cx="1295280" cy="144756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"/>
          <p:cNvSpPr/>
          <p:nvPr/>
        </p:nvSpPr>
        <p:spPr>
          <a:xfrm>
            <a:off x="380880" y="2362320"/>
            <a:ext cx="114300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286000" y="2362320"/>
            <a:ext cx="144792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econnaiss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952880" y="2362320"/>
            <a:ext cx="182880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odule de dé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7692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e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095880" y="32767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5" name=""/>
          <p:cNvCxnSpPr>
            <a:stCxn id="2302" idx="2"/>
            <a:endCxn id="2303" idx="0"/>
          </p:cNvCxnSpPr>
          <p:nvPr/>
        </p:nvCxnSpPr>
        <p:spPr>
          <a:xfrm flipH="1">
            <a:off x="5218920" y="2695680"/>
            <a:ext cx="64836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6" name=""/>
          <p:cNvCxnSpPr>
            <a:stCxn id="2302" idx="2"/>
            <a:endCxn id="2304" idx="0"/>
          </p:cNvCxnSpPr>
          <p:nvPr/>
        </p:nvCxnSpPr>
        <p:spPr>
          <a:xfrm>
            <a:off x="5866920" y="2695680"/>
            <a:ext cx="7246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7" name=""/>
          <p:cNvCxnSpPr>
            <a:stCxn id="2300" idx="3"/>
            <a:endCxn id="2301" idx="1"/>
          </p:cNvCxnSpPr>
          <p:nvPr/>
        </p:nvCxnSpPr>
        <p:spPr>
          <a:xfrm>
            <a:off x="1533600" y="2523600"/>
            <a:ext cx="7437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8" name=""/>
          <p:cNvCxnSpPr>
            <a:stCxn id="2301" idx="3"/>
            <a:endCxn id="2302" idx="1"/>
          </p:cNvCxnSpPr>
          <p:nvPr/>
        </p:nvCxnSpPr>
        <p:spPr>
          <a:xfrm>
            <a:off x="3743280" y="2523600"/>
            <a:ext cx="12009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9" name=""/>
          <p:cNvSpPr/>
          <p:nvPr/>
        </p:nvSpPr>
        <p:spPr>
          <a:xfrm>
            <a:off x="3886200" y="22096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illeure ré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0" name=""/>
          <p:cNvGrpSpPr/>
          <p:nvPr/>
        </p:nvGrpSpPr>
        <p:grpSpPr>
          <a:xfrm>
            <a:off x="2971800" y="3124080"/>
            <a:ext cx="2286000" cy="1295640"/>
            <a:chOff x="2971800" y="3124080"/>
            <a:chExt cx="2286000" cy="1295640"/>
          </a:xfrm>
        </p:grpSpPr>
        <p:graphicFrame>
          <p:nvGraphicFramePr>
            <p:cNvPr id="2311" name=""/>
            <p:cNvGraphicFramePr/>
            <p:nvPr/>
          </p:nvGraphicFramePr>
          <p:xfrm>
            <a:off x="2971800" y="3152520"/>
            <a:ext cx="2228760" cy="126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71800" y="3152520"/>
                      <a:ext cx="2228760" cy="12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3" name=""/>
            <p:cNvSpPr/>
            <p:nvPr/>
          </p:nvSpPr>
          <p:spPr>
            <a:xfrm>
              <a:off x="3451320" y="3237840"/>
              <a:ext cx="377280" cy="34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034880" y="3180240"/>
              <a:ext cx="410760" cy="42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3451320" y="3721320"/>
              <a:ext cx="275040" cy="36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965760" y="3721320"/>
              <a:ext cx="308520" cy="36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412520" y="3806640"/>
              <a:ext cx="444960" cy="17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863520" y="4176000"/>
              <a:ext cx="444960" cy="17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480200" y="4148280"/>
              <a:ext cx="377280" cy="22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971800" y="3124080"/>
              <a:ext cx="2286000" cy="12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21" name=""/>
          <p:cNvCxnSpPr>
            <a:stCxn id="2322" idx="2"/>
            <a:endCxn id="2320" idx="1"/>
          </p:cNvCxnSpPr>
          <p:nvPr/>
        </p:nvCxnSpPr>
        <p:spPr>
          <a:xfrm>
            <a:off x="2438280" y="2371680"/>
            <a:ext cx="524880" cy="140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3" name=""/>
          <p:cNvSpPr/>
          <p:nvPr/>
        </p:nvSpPr>
        <p:spPr>
          <a:xfrm>
            <a:off x="2362320" y="23623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roiss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4" name=""/>
          <p:cNvGrpSpPr/>
          <p:nvPr/>
        </p:nvGrpSpPr>
        <p:grpSpPr>
          <a:xfrm>
            <a:off x="4842000" y="1940040"/>
            <a:ext cx="2127240" cy="761760"/>
            <a:chOff x="4842000" y="1940040"/>
            <a:chExt cx="2127240" cy="761760"/>
          </a:xfrm>
        </p:grpSpPr>
        <p:graphicFrame>
          <p:nvGraphicFramePr>
            <p:cNvPr id="2325" name=""/>
            <p:cNvGraphicFramePr/>
            <p:nvPr/>
          </p:nvGraphicFramePr>
          <p:xfrm>
            <a:off x="4842000" y="1940040"/>
            <a:ext cx="2127240" cy="384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42000" y="1940040"/>
                      <a:ext cx="2127240" cy="38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7" name=""/>
            <p:cNvSpPr/>
            <p:nvPr/>
          </p:nvSpPr>
          <p:spPr>
            <a:xfrm>
              <a:off x="4842000" y="1940040"/>
              <a:ext cx="2127240" cy="38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108760" y="1940040"/>
              <a:ext cx="1860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4419720" y="914400"/>
            <a:ext cx="2819160" cy="1495440"/>
            <a:chOff x="4419720" y="914400"/>
            <a:chExt cx="2819160" cy="1495440"/>
          </a:xfrm>
        </p:grpSpPr>
        <p:grpSp>
          <p:nvGrpSpPr>
            <p:cNvPr id="2330" name=""/>
            <p:cNvGrpSpPr/>
            <p:nvPr/>
          </p:nvGrpSpPr>
          <p:grpSpPr>
            <a:xfrm>
              <a:off x="6497640" y="957240"/>
              <a:ext cx="402840" cy="804600"/>
              <a:chOff x="6497640" y="957240"/>
              <a:chExt cx="402840" cy="804600"/>
            </a:xfrm>
          </p:grpSpPr>
          <p:grpSp>
            <p:nvGrpSpPr>
              <p:cNvPr id="2331" name=""/>
              <p:cNvGrpSpPr/>
              <p:nvPr/>
            </p:nvGrpSpPr>
            <p:grpSpPr>
              <a:xfrm>
                <a:off x="6497640" y="957240"/>
                <a:ext cx="402840" cy="470160"/>
                <a:chOff x="6497640" y="957240"/>
                <a:chExt cx="402840" cy="470160"/>
              </a:xfrm>
            </p:grpSpPr>
            <p:graphicFrame>
              <p:nvGraphicFramePr>
                <p:cNvPr id="2332" name=""/>
                <p:cNvGraphicFramePr/>
                <p:nvPr/>
              </p:nvGraphicFramePr>
              <p:xfrm>
                <a:off x="6497640" y="999720"/>
                <a:ext cx="402840" cy="41148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333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497640" y="999720"/>
                          <a:ext cx="402840" cy="411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334" name=""/>
                <p:cNvSpPr/>
                <p:nvPr/>
              </p:nvSpPr>
              <p:spPr>
                <a:xfrm>
                  <a:off x="6497640" y="957240"/>
                  <a:ext cx="396000" cy="470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5" name=""/>
              <p:cNvSpPr/>
              <p:nvPr/>
            </p:nvSpPr>
            <p:spPr>
              <a:xfrm>
                <a:off x="6498360" y="999720"/>
                <a:ext cx="3441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6" name=""/>
            <p:cNvSpPr/>
            <p:nvPr/>
          </p:nvSpPr>
          <p:spPr>
            <a:xfrm>
              <a:off x="4468680" y="1641600"/>
              <a:ext cx="97920" cy="838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160960" y="1171440"/>
              <a:ext cx="9936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656320" y="1171440"/>
              <a:ext cx="9792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97560" y="1171440"/>
              <a:ext cx="9972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892920" y="1171440"/>
              <a:ext cx="9792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1" name=""/>
            <p:cNvGrpSpPr/>
            <p:nvPr/>
          </p:nvGrpSpPr>
          <p:grpSpPr>
            <a:xfrm>
              <a:off x="5260680" y="1000080"/>
              <a:ext cx="395280" cy="763200"/>
              <a:chOff x="5260680" y="1000080"/>
              <a:chExt cx="395280" cy="763200"/>
            </a:xfrm>
          </p:grpSpPr>
          <p:grpSp>
            <p:nvGrpSpPr>
              <p:cNvPr id="2342" name=""/>
              <p:cNvGrpSpPr/>
              <p:nvPr/>
            </p:nvGrpSpPr>
            <p:grpSpPr>
              <a:xfrm>
                <a:off x="5260680" y="1000080"/>
                <a:ext cx="395280" cy="384480"/>
                <a:chOff x="5260680" y="1000080"/>
                <a:chExt cx="395280" cy="384480"/>
              </a:xfrm>
            </p:grpSpPr>
            <p:graphicFrame>
              <p:nvGraphicFramePr>
                <p:cNvPr id="2343" name=""/>
                <p:cNvGraphicFramePr/>
                <p:nvPr/>
              </p:nvGraphicFramePr>
              <p:xfrm>
                <a:off x="5260680" y="1042560"/>
                <a:ext cx="366480" cy="3373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344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260680" y="1042560"/>
                          <a:ext cx="366480" cy="337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345" name=""/>
                <p:cNvSpPr/>
                <p:nvPr/>
              </p:nvSpPr>
              <p:spPr>
                <a:xfrm>
                  <a:off x="5260680" y="1000080"/>
                  <a:ext cx="395280" cy="384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6" name=""/>
              <p:cNvSpPr/>
              <p:nvPr/>
            </p:nvSpPr>
            <p:spPr>
              <a:xfrm>
                <a:off x="5308920" y="1001520"/>
                <a:ext cx="34668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4765680" y="1000080"/>
              <a:ext cx="394920" cy="763200"/>
              <a:chOff x="4765680" y="1000080"/>
              <a:chExt cx="394920" cy="763200"/>
            </a:xfrm>
          </p:grpSpPr>
          <p:grpSp>
            <p:nvGrpSpPr>
              <p:cNvPr id="2348" name=""/>
              <p:cNvGrpSpPr/>
              <p:nvPr/>
            </p:nvGrpSpPr>
            <p:grpSpPr>
              <a:xfrm>
                <a:off x="4765680" y="1000080"/>
                <a:ext cx="394920" cy="384480"/>
                <a:chOff x="4765680" y="1000080"/>
                <a:chExt cx="394920" cy="384480"/>
              </a:xfrm>
            </p:grpSpPr>
            <p:graphicFrame>
              <p:nvGraphicFramePr>
                <p:cNvPr id="2349" name=""/>
                <p:cNvGraphicFramePr/>
                <p:nvPr/>
              </p:nvGraphicFramePr>
              <p:xfrm>
                <a:off x="4765680" y="1042560"/>
                <a:ext cx="366120" cy="3373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2350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4765680" y="1042560"/>
                          <a:ext cx="366120" cy="337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351" name=""/>
                <p:cNvSpPr/>
                <p:nvPr/>
              </p:nvSpPr>
              <p:spPr>
                <a:xfrm>
                  <a:off x="4765680" y="1000080"/>
                  <a:ext cx="394920" cy="384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2" name=""/>
              <p:cNvSpPr/>
              <p:nvPr/>
            </p:nvSpPr>
            <p:spPr>
              <a:xfrm>
                <a:off x="4812840" y="1001520"/>
                <a:ext cx="34668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6002280" y="1000080"/>
              <a:ext cx="394920" cy="763200"/>
              <a:chOff x="6002280" y="1000080"/>
              <a:chExt cx="394920" cy="763200"/>
            </a:xfrm>
          </p:grpSpPr>
          <p:grpSp>
            <p:nvGrpSpPr>
              <p:cNvPr id="2354" name=""/>
              <p:cNvGrpSpPr/>
              <p:nvPr/>
            </p:nvGrpSpPr>
            <p:grpSpPr>
              <a:xfrm>
                <a:off x="6002280" y="1000080"/>
                <a:ext cx="394920" cy="384480"/>
                <a:chOff x="6002280" y="1000080"/>
                <a:chExt cx="394920" cy="384480"/>
              </a:xfrm>
            </p:grpSpPr>
            <p:graphicFrame>
              <p:nvGraphicFramePr>
                <p:cNvPr id="2355" name=""/>
                <p:cNvGraphicFramePr/>
                <p:nvPr/>
              </p:nvGraphicFramePr>
              <p:xfrm>
                <a:off x="6002280" y="1042560"/>
                <a:ext cx="366120" cy="3373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2356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6002280" y="1042560"/>
                          <a:ext cx="366120" cy="337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357" name=""/>
                <p:cNvSpPr/>
                <p:nvPr/>
              </p:nvSpPr>
              <p:spPr>
                <a:xfrm>
                  <a:off x="6002280" y="1000080"/>
                  <a:ext cx="394920" cy="384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8" name=""/>
              <p:cNvSpPr/>
              <p:nvPr/>
            </p:nvSpPr>
            <p:spPr>
              <a:xfrm>
                <a:off x="6002280" y="1001520"/>
                <a:ext cx="34668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9" name=""/>
            <p:cNvSpPr/>
            <p:nvPr/>
          </p:nvSpPr>
          <p:spPr>
            <a:xfrm>
              <a:off x="4667040" y="1171440"/>
              <a:ext cx="9828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903640" y="1171440"/>
              <a:ext cx="9828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091280" y="1598760"/>
              <a:ext cx="97920" cy="856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903640" y="1641600"/>
              <a:ext cx="98280" cy="838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667040" y="1641600"/>
              <a:ext cx="98280" cy="838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656320" y="1641600"/>
              <a:ext cx="97920" cy="838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667040" y="2068560"/>
              <a:ext cx="98280" cy="856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892920" y="2111400"/>
              <a:ext cx="97920" cy="856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892920" y="1598760"/>
              <a:ext cx="97920" cy="856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8" name=""/>
            <p:cNvCxnSpPr>
              <a:stCxn id="2336" idx="7"/>
              <a:endCxn id="2359" idx="3"/>
            </p:cNvCxnSpPr>
            <p:nvPr/>
          </p:nvCxnSpPr>
          <p:spPr>
            <a:xfrm flipV="1">
              <a:off x="4552920" y="1248480"/>
              <a:ext cx="12888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9" name=""/>
            <p:cNvCxnSpPr>
              <a:stCxn id="2336" idx="5"/>
              <a:endCxn id="2365" idx="1"/>
            </p:cNvCxnSpPr>
            <p:nvPr/>
          </p:nvCxnSpPr>
          <p:spPr>
            <a:xfrm>
              <a:off x="4552920" y="1719360"/>
              <a:ext cx="128880" cy="35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0" name=""/>
            <p:cNvCxnSpPr>
              <a:stCxn id="2336" idx="6"/>
              <a:endCxn id="2363" idx="2"/>
            </p:cNvCxnSpPr>
            <p:nvPr/>
          </p:nvCxnSpPr>
          <p:spPr>
            <a:xfrm>
              <a:off x="4573440" y="1684080"/>
              <a:ext cx="87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1" name=""/>
            <p:cNvCxnSpPr>
              <a:stCxn id="2338" idx="6"/>
              <a:endCxn id="2360" idx="2"/>
            </p:cNvCxnSpPr>
            <p:nvPr/>
          </p:nvCxnSpPr>
          <p:spPr>
            <a:xfrm>
              <a:off x="5761080" y="1212480"/>
              <a:ext cx="136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2" name=""/>
            <p:cNvCxnSpPr>
              <a:stCxn id="2364" idx="6"/>
              <a:endCxn id="2362" idx="2"/>
            </p:cNvCxnSpPr>
            <p:nvPr/>
          </p:nvCxnSpPr>
          <p:spPr>
            <a:xfrm>
              <a:off x="5761080" y="1684080"/>
              <a:ext cx="136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3" name=""/>
            <p:cNvCxnSpPr>
              <a:stCxn id="2364" idx="7"/>
              <a:endCxn id="2360" idx="3"/>
            </p:cNvCxnSpPr>
            <p:nvPr/>
          </p:nvCxnSpPr>
          <p:spPr>
            <a:xfrm flipV="1">
              <a:off x="5739840" y="1248480"/>
              <a:ext cx="17820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4" name=""/>
            <p:cNvCxnSpPr>
              <a:stCxn id="2338" idx="5"/>
              <a:endCxn id="2362" idx="1"/>
            </p:cNvCxnSpPr>
            <p:nvPr/>
          </p:nvCxnSpPr>
          <p:spPr>
            <a:xfrm>
              <a:off x="5739840" y="1248840"/>
              <a:ext cx="17820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5" name=""/>
            <p:cNvCxnSpPr>
              <a:stCxn id="2340" idx="6"/>
              <a:endCxn id="2361" idx="0"/>
            </p:cNvCxnSpPr>
            <p:nvPr/>
          </p:nvCxnSpPr>
          <p:spPr>
            <a:xfrm>
              <a:off x="6997680" y="1212840"/>
              <a:ext cx="143280" cy="38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6" name=""/>
            <p:cNvCxnSpPr>
              <a:stCxn id="2367" idx="6"/>
              <a:endCxn id="2361" idx="2"/>
            </p:cNvCxnSpPr>
            <p:nvPr/>
          </p:nvCxnSpPr>
          <p:spPr>
            <a:xfrm>
              <a:off x="6997320" y="1641240"/>
              <a:ext cx="87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7" name=""/>
            <p:cNvCxnSpPr>
              <a:stCxn id="2366" idx="7"/>
              <a:endCxn id="2361" idx="4"/>
            </p:cNvCxnSpPr>
            <p:nvPr/>
          </p:nvCxnSpPr>
          <p:spPr>
            <a:xfrm flipV="1">
              <a:off x="6976800" y="1688400"/>
              <a:ext cx="164160" cy="42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378" name=""/>
            <p:cNvGrpSpPr/>
            <p:nvPr/>
          </p:nvGrpSpPr>
          <p:grpSpPr>
            <a:xfrm>
              <a:off x="4765680" y="1469880"/>
              <a:ext cx="890280" cy="763560"/>
              <a:chOff x="4765680" y="1469880"/>
              <a:chExt cx="890280" cy="763560"/>
            </a:xfrm>
          </p:grpSpPr>
          <p:graphicFrame>
            <p:nvGraphicFramePr>
              <p:cNvPr id="2379" name=""/>
              <p:cNvGraphicFramePr/>
              <p:nvPr/>
            </p:nvGraphicFramePr>
            <p:xfrm>
              <a:off x="4765680" y="1469880"/>
              <a:ext cx="890280" cy="4269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380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4765680" y="1469880"/>
                        <a:ext cx="89028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1" name=""/>
              <p:cNvSpPr/>
              <p:nvPr/>
            </p:nvSpPr>
            <p:spPr>
              <a:xfrm>
                <a:off x="4765680" y="1469880"/>
                <a:ext cx="890280" cy="384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874760" y="1471680"/>
                <a:ext cx="78120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6002280" y="1469880"/>
              <a:ext cx="890280" cy="763200"/>
              <a:chOff x="6002280" y="1469880"/>
              <a:chExt cx="890280" cy="763200"/>
            </a:xfrm>
          </p:grpSpPr>
          <p:graphicFrame>
            <p:nvGraphicFramePr>
              <p:cNvPr id="2384" name=""/>
              <p:cNvGraphicFramePr/>
              <p:nvPr/>
            </p:nvGraphicFramePr>
            <p:xfrm>
              <a:off x="6002280" y="1469880"/>
              <a:ext cx="890280" cy="42696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385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002280" y="1469880"/>
                        <a:ext cx="89028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6" name=""/>
              <p:cNvSpPr/>
              <p:nvPr/>
            </p:nvSpPr>
            <p:spPr>
              <a:xfrm>
                <a:off x="6002280" y="1469880"/>
                <a:ext cx="890280" cy="384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113520" y="1471320"/>
                <a:ext cx="77868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8" name=""/>
            <p:cNvSpPr/>
            <p:nvPr/>
          </p:nvSpPr>
          <p:spPr>
            <a:xfrm>
              <a:off x="4419720" y="914400"/>
              <a:ext cx="2819160" cy="149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9" name=""/>
          <p:cNvSpPr/>
          <p:nvPr/>
        </p:nvSpPr>
        <p:spPr>
          <a:xfrm>
            <a:off x="4419720" y="2438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croiss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0" name=""/>
          <p:cNvCxnSpPr>
            <a:stCxn id="2388" idx="2"/>
            <a:endCxn id="2320" idx="3"/>
          </p:cNvCxnSpPr>
          <p:nvPr/>
        </p:nvCxnSpPr>
        <p:spPr>
          <a:xfrm flipH="1">
            <a:off x="5266800" y="2419200"/>
            <a:ext cx="563040" cy="135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391" name=""/>
          <p:cNvGrpSpPr/>
          <p:nvPr/>
        </p:nvGrpSpPr>
        <p:grpSpPr>
          <a:xfrm>
            <a:off x="990720" y="914400"/>
            <a:ext cx="2895480" cy="1447920"/>
            <a:chOff x="990720" y="914400"/>
            <a:chExt cx="2895480" cy="1447920"/>
          </a:xfrm>
        </p:grpSpPr>
        <p:grpSp>
          <p:nvGrpSpPr>
            <p:cNvPr id="2392" name=""/>
            <p:cNvGrpSpPr/>
            <p:nvPr/>
          </p:nvGrpSpPr>
          <p:grpSpPr>
            <a:xfrm>
              <a:off x="1058760" y="1573200"/>
              <a:ext cx="552600" cy="393840"/>
              <a:chOff x="1058760" y="1573200"/>
              <a:chExt cx="552600" cy="393840"/>
            </a:xfrm>
          </p:grpSpPr>
          <p:sp>
            <p:nvSpPr>
              <p:cNvPr id="2393" name=""/>
              <p:cNvSpPr/>
              <p:nvPr/>
            </p:nvSpPr>
            <p:spPr>
              <a:xfrm>
                <a:off x="1058760" y="1573200"/>
                <a:ext cx="552600" cy="393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196640" y="1638720"/>
                <a:ext cx="27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3197160" y="1573200"/>
              <a:ext cx="550800" cy="393840"/>
              <a:chOff x="3197160" y="1573200"/>
              <a:chExt cx="550800" cy="393840"/>
            </a:xfrm>
          </p:grpSpPr>
          <p:sp>
            <p:nvSpPr>
              <p:cNvPr id="2396" name=""/>
              <p:cNvSpPr/>
              <p:nvPr/>
            </p:nvSpPr>
            <p:spPr>
              <a:xfrm>
                <a:off x="3197160" y="1573200"/>
                <a:ext cx="550800" cy="393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3334680" y="1638720"/>
                <a:ext cx="27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98" name=""/>
            <p:cNvCxnSpPr>
              <a:stCxn id="2393" idx="6"/>
              <a:endCxn id="2399" idx="1"/>
            </p:cNvCxnSpPr>
            <p:nvPr/>
          </p:nvCxnSpPr>
          <p:spPr>
            <a:xfrm>
              <a:off x="1618920" y="1769760"/>
              <a:ext cx="259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00" name=""/>
            <p:cNvCxnSpPr>
              <a:stCxn id="2399" idx="3"/>
              <a:endCxn id="2396" idx="2"/>
            </p:cNvCxnSpPr>
            <p:nvPr/>
          </p:nvCxnSpPr>
          <p:spPr>
            <a:xfrm>
              <a:off x="2928600" y="1769760"/>
              <a:ext cx="259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401" name=""/>
            <p:cNvGrpSpPr/>
            <p:nvPr/>
          </p:nvGrpSpPr>
          <p:grpSpPr>
            <a:xfrm>
              <a:off x="1887480" y="1243080"/>
              <a:ext cx="1033560" cy="1054080"/>
              <a:chOff x="1887480" y="1243080"/>
              <a:chExt cx="1033560" cy="1054080"/>
            </a:xfrm>
          </p:grpSpPr>
          <p:grpSp>
            <p:nvGrpSpPr>
              <p:cNvPr id="2402" name=""/>
              <p:cNvGrpSpPr/>
              <p:nvPr/>
            </p:nvGrpSpPr>
            <p:grpSpPr>
              <a:xfrm>
                <a:off x="1887480" y="1243080"/>
                <a:ext cx="1033560" cy="1053720"/>
                <a:chOff x="1887480" y="1243080"/>
                <a:chExt cx="1033560" cy="1053720"/>
              </a:xfrm>
            </p:grpSpPr>
            <p:graphicFrame>
              <p:nvGraphicFramePr>
                <p:cNvPr id="2403" name=""/>
                <p:cNvGraphicFramePr/>
                <p:nvPr/>
              </p:nvGraphicFramePr>
              <p:xfrm>
                <a:off x="1887480" y="1243080"/>
                <a:ext cx="561600" cy="52668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2404" name="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1887480" y="1243080"/>
                          <a:ext cx="561600" cy="52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05" name=""/>
                <p:cNvGraphicFramePr/>
                <p:nvPr/>
              </p:nvGraphicFramePr>
              <p:xfrm>
                <a:off x="2201040" y="1243080"/>
                <a:ext cx="520920" cy="52668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2406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2201040" y="1243080"/>
                          <a:ext cx="520920" cy="52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07" name=""/>
                <p:cNvGraphicFramePr/>
                <p:nvPr/>
              </p:nvGraphicFramePr>
              <p:xfrm>
                <a:off x="2485800" y="1243080"/>
                <a:ext cx="433440" cy="52668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2408" name="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2485800" y="1243080"/>
                          <a:ext cx="433440" cy="52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09" name=""/>
                <p:cNvGraphicFramePr/>
                <p:nvPr/>
              </p:nvGraphicFramePr>
              <p:xfrm>
                <a:off x="1887480" y="1769760"/>
                <a:ext cx="231480" cy="52704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2410" name="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1887480" y="1769760"/>
                          <a:ext cx="231480" cy="527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11" name=""/>
                <p:cNvGraphicFramePr/>
                <p:nvPr/>
              </p:nvGraphicFramePr>
              <p:xfrm>
                <a:off x="2494800" y="1769760"/>
                <a:ext cx="426240" cy="510480"/>
              </p:xfrm>
              <a:graphic>
                <a:graphicData uri="http://schemas.openxmlformats.org/presentationml/2006/ole">
                  <p:oleObj r:id="rId25" spid="">
                    <p:embed/>
                    <p:pic>
                      <p:nvPicPr>
                        <p:cNvPr id="2412" name="" descr=""/>
                        <p:cNvPicPr/>
                        <p:nvPr/>
                      </p:nvPicPr>
                      <p:blipFill>
                        <a:blip r:embed="rId26"/>
                        <a:stretch/>
                      </p:blipFill>
                      <p:spPr>
                        <a:xfrm>
                          <a:off x="2494800" y="1769760"/>
                          <a:ext cx="426240" cy="510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13" name=""/>
                <p:cNvGraphicFramePr/>
                <p:nvPr/>
              </p:nvGraphicFramePr>
              <p:xfrm>
                <a:off x="2130120" y="1769760"/>
                <a:ext cx="341280" cy="527040"/>
              </p:xfrm>
              <a:graphic>
                <a:graphicData uri="http://schemas.openxmlformats.org/presentationml/2006/ole">
                  <p:oleObj r:id="rId27" spid="">
                    <p:embed/>
                    <p:pic>
                      <p:nvPicPr>
                        <p:cNvPr id="2414" name="" descr=""/>
                        <p:cNvPicPr/>
                        <p:nvPr/>
                      </p:nvPicPr>
                      <p:blipFill>
                        <a:blip r:embed="rId28"/>
                        <a:stretch/>
                      </p:blipFill>
                      <p:spPr>
                        <a:xfrm>
                          <a:off x="2130120" y="1769760"/>
                          <a:ext cx="341280" cy="527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399" name=""/>
              <p:cNvSpPr/>
              <p:nvPr/>
            </p:nvSpPr>
            <p:spPr>
              <a:xfrm>
                <a:off x="1887480" y="1243080"/>
                <a:ext cx="1033560" cy="1054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2" name=""/>
            <p:cNvSpPr/>
            <p:nvPr/>
          </p:nvSpPr>
          <p:spPr>
            <a:xfrm>
              <a:off x="990720" y="914400"/>
              <a:ext cx="2895480" cy="1447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15" name=""/>
            <p:cNvCxnSpPr>
              <a:stCxn id="2399" idx="1"/>
              <a:endCxn id="2399" idx="3"/>
            </p:cNvCxnSpPr>
            <p:nvPr/>
          </p:nvCxnSpPr>
          <p:spPr>
            <a:xfrm flipH="1" flipV="1" rot="10800000">
              <a:off x="1877040" y="1769760"/>
              <a:ext cx="1051560" cy="2160"/>
            </a:xfrm>
            <a:prstGeom prst="curvedConnector5">
              <a:avLst>
                <a:gd name="adj1" fmla="val -18835"/>
                <a:gd name="adj2" fmla="val -23740000"/>
                <a:gd name="adj3" fmla="val -18835"/>
              </a:avLst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</p:grpSp>
      <p:sp>
        <p:nvSpPr>
          <p:cNvPr id="2416" name=""/>
          <p:cNvSpPr txBox="1"/>
          <p:nvPr/>
        </p:nvSpPr>
        <p:spPr>
          <a:xfrm>
            <a:off x="4648320" y="914400"/>
            <a:ext cx="2590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7" name=""/>
          <p:cNvGrpSpPr/>
          <p:nvPr/>
        </p:nvGrpSpPr>
        <p:grpSpPr>
          <a:xfrm>
            <a:off x="1066680" y="2133720"/>
            <a:ext cx="609480" cy="609480"/>
            <a:chOff x="1066680" y="2133720"/>
            <a:chExt cx="609480" cy="609480"/>
          </a:xfrm>
        </p:grpSpPr>
        <p:sp>
          <p:nvSpPr>
            <p:cNvPr id="2418" name=""/>
            <p:cNvSpPr/>
            <p:nvPr/>
          </p:nvSpPr>
          <p:spPr>
            <a:xfrm>
              <a:off x="1066680" y="2133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143000" y="2286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2819520" y="2133720"/>
            <a:ext cx="609480" cy="609480"/>
            <a:chOff x="2819520" y="2133720"/>
            <a:chExt cx="609480" cy="609480"/>
          </a:xfrm>
        </p:grpSpPr>
        <p:sp>
          <p:nvSpPr>
            <p:cNvPr id="2421" name=""/>
            <p:cNvSpPr/>
            <p:nvPr/>
          </p:nvSpPr>
          <p:spPr>
            <a:xfrm>
              <a:off x="2819520" y="2133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895840" y="22860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3" name=""/>
          <p:cNvGrpSpPr/>
          <p:nvPr/>
        </p:nvGrpSpPr>
        <p:grpSpPr>
          <a:xfrm>
            <a:off x="7315200" y="2133720"/>
            <a:ext cx="609480" cy="609480"/>
            <a:chOff x="7315200" y="2133720"/>
            <a:chExt cx="609480" cy="609480"/>
          </a:xfrm>
        </p:grpSpPr>
        <p:sp>
          <p:nvSpPr>
            <p:cNvPr id="2424" name=""/>
            <p:cNvSpPr/>
            <p:nvPr/>
          </p:nvSpPr>
          <p:spPr>
            <a:xfrm>
              <a:off x="7315200" y="2133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391520" y="2286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26" name=""/>
          <p:cNvCxnSpPr>
            <a:stCxn id="2421" idx="6"/>
            <a:endCxn id="2427" idx="2"/>
          </p:cNvCxnSpPr>
          <p:nvPr/>
        </p:nvCxnSpPr>
        <p:spPr>
          <a:xfrm>
            <a:off x="3438360" y="2437920"/>
            <a:ext cx="820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8" name=""/>
          <p:cNvCxnSpPr>
            <a:endCxn id="2421" idx="2"/>
          </p:cNvCxnSpPr>
          <p:nvPr/>
        </p:nvCxnSpPr>
        <p:spPr>
          <a:xfrm>
            <a:off x="2438280" y="243792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29" name=""/>
          <p:cNvGrpSpPr/>
          <p:nvPr/>
        </p:nvGrpSpPr>
        <p:grpSpPr>
          <a:xfrm>
            <a:off x="4267080" y="2133720"/>
            <a:ext cx="609480" cy="609480"/>
            <a:chOff x="4267080" y="2133720"/>
            <a:chExt cx="609480" cy="609480"/>
          </a:xfrm>
        </p:grpSpPr>
        <p:sp>
          <p:nvSpPr>
            <p:cNvPr id="2427" name=""/>
            <p:cNvSpPr/>
            <p:nvPr/>
          </p:nvSpPr>
          <p:spPr>
            <a:xfrm>
              <a:off x="4267080" y="2133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343400" y="22860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1" name=""/>
          <p:cNvCxnSpPr>
            <a:endCxn id="2424" idx="2"/>
          </p:cNvCxnSpPr>
          <p:nvPr/>
        </p:nvCxnSpPr>
        <p:spPr>
          <a:xfrm>
            <a:off x="6934320" y="243792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32" name=""/>
          <p:cNvGrpSpPr/>
          <p:nvPr/>
        </p:nvGrpSpPr>
        <p:grpSpPr>
          <a:xfrm>
            <a:off x="5715000" y="2133720"/>
            <a:ext cx="609480" cy="609480"/>
            <a:chOff x="5715000" y="2133720"/>
            <a:chExt cx="609480" cy="609480"/>
          </a:xfrm>
        </p:grpSpPr>
        <p:sp>
          <p:nvSpPr>
            <p:cNvPr id="2433" name=""/>
            <p:cNvSpPr/>
            <p:nvPr/>
          </p:nvSpPr>
          <p:spPr>
            <a:xfrm>
              <a:off x="5715000" y="2133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791320" y="22860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5" name=""/>
          <p:cNvCxnSpPr>
            <a:stCxn id="2433" idx="6"/>
          </p:cNvCxnSpPr>
          <p:nvPr/>
        </p:nvCxnSpPr>
        <p:spPr>
          <a:xfrm>
            <a:off x="6334200" y="2437920"/>
            <a:ext cx="295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36" name=""/>
          <p:cNvCxnSpPr>
            <a:stCxn id="2427" idx="6"/>
            <a:endCxn id="2433" idx="2"/>
          </p:cNvCxnSpPr>
          <p:nvPr/>
        </p:nvCxnSpPr>
        <p:spPr>
          <a:xfrm>
            <a:off x="4886280" y="2437920"/>
            <a:ext cx="820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7" name=""/>
          <p:cNvCxnSpPr/>
          <p:nvPr/>
        </p:nvCxnSpPr>
        <p:spPr>
          <a:xfrm>
            <a:off x="1676520" y="243792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38" name=""/>
          <p:cNvCxnSpPr/>
          <p:nvPr/>
        </p:nvCxnSpPr>
        <p:spPr>
          <a:xfrm>
            <a:off x="2057400" y="243792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</a:ln>
        </p:spPr>
      </p:cxnSp>
      <p:cxnSp>
        <p:nvCxnSpPr>
          <p:cNvPr id="2439" name=""/>
          <p:cNvCxnSpPr/>
          <p:nvPr/>
        </p:nvCxnSpPr>
        <p:spPr>
          <a:xfrm>
            <a:off x="6629400" y="2437920"/>
            <a:ext cx="295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</a:ln>
        </p:spPr>
      </p:cxnSp>
      <p:cxnSp>
        <p:nvCxnSpPr>
          <p:cNvPr id="2440" name=""/>
          <p:cNvCxnSpPr>
            <a:stCxn id="2421" idx="0"/>
            <a:endCxn id="2441" idx="4"/>
          </p:cNvCxnSpPr>
          <p:nvPr/>
        </p:nvCxnSpPr>
        <p:spPr>
          <a:xfrm flipV="1">
            <a:off x="3123720" y="1456920"/>
            <a:ext cx="1080" cy="66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42" name=""/>
          <p:cNvGrpSpPr/>
          <p:nvPr/>
        </p:nvGrpSpPr>
        <p:grpSpPr>
          <a:xfrm>
            <a:off x="2819520" y="838080"/>
            <a:ext cx="609480" cy="609480"/>
            <a:chOff x="2819520" y="838080"/>
            <a:chExt cx="609480" cy="609480"/>
          </a:xfrm>
        </p:grpSpPr>
        <p:sp>
          <p:nvSpPr>
            <p:cNvPr id="2441" name=""/>
            <p:cNvSpPr/>
            <p:nvPr/>
          </p:nvSpPr>
          <p:spPr>
            <a:xfrm>
              <a:off x="281952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895840" y="99036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44" name=""/>
          <p:cNvCxnSpPr>
            <a:stCxn id="2427" idx="0"/>
            <a:endCxn id="2445" idx="4"/>
          </p:cNvCxnSpPr>
          <p:nvPr/>
        </p:nvCxnSpPr>
        <p:spPr>
          <a:xfrm flipV="1">
            <a:off x="4571640" y="1456920"/>
            <a:ext cx="1080" cy="66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46" name=""/>
          <p:cNvGrpSpPr/>
          <p:nvPr/>
        </p:nvGrpSpPr>
        <p:grpSpPr>
          <a:xfrm>
            <a:off x="4267080" y="838080"/>
            <a:ext cx="609480" cy="609480"/>
            <a:chOff x="4267080" y="838080"/>
            <a:chExt cx="609480" cy="609480"/>
          </a:xfrm>
        </p:grpSpPr>
        <p:sp>
          <p:nvSpPr>
            <p:cNvPr id="2445" name=""/>
            <p:cNvSpPr/>
            <p:nvPr/>
          </p:nvSpPr>
          <p:spPr>
            <a:xfrm>
              <a:off x="426708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343400" y="99036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48" name=""/>
          <p:cNvCxnSpPr>
            <a:stCxn id="2433" idx="0"/>
            <a:endCxn id="2449" idx="4"/>
          </p:cNvCxnSpPr>
          <p:nvPr/>
        </p:nvCxnSpPr>
        <p:spPr>
          <a:xfrm flipV="1">
            <a:off x="6019560" y="1456920"/>
            <a:ext cx="1080" cy="66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50" name=""/>
          <p:cNvGrpSpPr/>
          <p:nvPr/>
        </p:nvGrpSpPr>
        <p:grpSpPr>
          <a:xfrm>
            <a:off x="5715000" y="838080"/>
            <a:ext cx="609480" cy="609480"/>
            <a:chOff x="5715000" y="838080"/>
            <a:chExt cx="609480" cy="609480"/>
          </a:xfrm>
        </p:grpSpPr>
        <p:sp>
          <p:nvSpPr>
            <p:cNvPr id="2449" name=""/>
            <p:cNvSpPr/>
            <p:nvPr/>
          </p:nvSpPr>
          <p:spPr>
            <a:xfrm>
              <a:off x="571500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791320" y="99036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2" name=""/>
          <p:cNvGrpSpPr/>
          <p:nvPr/>
        </p:nvGrpSpPr>
        <p:grpSpPr>
          <a:xfrm>
            <a:off x="2057400" y="1371600"/>
            <a:ext cx="609480" cy="609480"/>
            <a:chOff x="2057400" y="1371600"/>
            <a:chExt cx="609480" cy="609480"/>
          </a:xfrm>
        </p:grpSpPr>
        <p:sp>
          <p:nvSpPr>
            <p:cNvPr id="2453" name=""/>
            <p:cNvSpPr/>
            <p:nvPr/>
          </p:nvSpPr>
          <p:spPr>
            <a:xfrm>
              <a:off x="2057400" y="13716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133720" y="15238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3505320" y="1447920"/>
            <a:ext cx="609480" cy="609480"/>
            <a:chOff x="3505320" y="1447920"/>
            <a:chExt cx="609480" cy="609480"/>
          </a:xfrm>
        </p:grpSpPr>
        <p:sp>
          <p:nvSpPr>
            <p:cNvPr id="2456" name=""/>
            <p:cNvSpPr/>
            <p:nvPr/>
          </p:nvSpPr>
          <p:spPr>
            <a:xfrm>
              <a:off x="3505320" y="1447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581640" y="16002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4952880" y="1447920"/>
            <a:ext cx="609480" cy="609480"/>
            <a:chOff x="4952880" y="1447920"/>
            <a:chExt cx="609480" cy="609480"/>
          </a:xfrm>
        </p:grpSpPr>
        <p:sp>
          <p:nvSpPr>
            <p:cNvPr id="2459" name=""/>
            <p:cNvSpPr/>
            <p:nvPr/>
          </p:nvSpPr>
          <p:spPr>
            <a:xfrm>
              <a:off x="4952880" y="1447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029200" y="16002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61" name=""/>
          <p:cNvCxnSpPr>
            <a:stCxn id="2453" idx="5"/>
            <a:endCxn id="2421" idx="1"/>
          </p:cNvCxnSpPr>
          <p:nvPr/>
        </p:nvCxnSpPr>
        <p:spPr>
          <a:xfrm>
            <a:off x="2577960" y="1901880"/>
            <a:ext cx="331200" cy="311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2" name=""/>
          <p:cNvCxnSpPr>
            <a:stCxn id="2453" idx="7"/>
            <a:endCxn id="2441" idx="2"/>
          </p:cNvCxnSpPr>
          <p:nvPr/>
        </p:nvCxnSpPr>
        <p:spPr>
          <a:xfrm flipV="1">
            <a:off x="2577960" y="1142280"/>
            <a:ext cx="232560" cy="308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3" name=""/>
          <p:cNvCxnSpPr>
            <a:stCxn id="2456" idx="5"/>
            <a:endCxn id="2427" idx="1"/>
          </p:cNvCxnSpPr>
          <p:nvPr/>
        </p:nvCxnSpPr>
        <p:spPr>
          <a:xfrm>
            <a:off x="4025520" y="1978200"/>
            <a:ext cx="330840" cy="23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4" name=""/>
          <p:cNvCxnSpPr>
            <a:stCxn id="2456" idx="7"/>
            <a:endCxn id="2445" idx="2"/>
          </p:cNvCxnSpPr>
          <p:nvPr/>
        </p:nvCxnSpPr>
        <p:spPr>
          <a:xfrm flipV="1">
            <a:off x="4025880" y="1142280"/>
            <a:ext cx="232560" cy="384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5" name=""/>
          <p:cNvCxnSpPr>
            <a:stCxn id="2459" idx="5"/>
            <a:endCxn id="2433" idx="1"/>
          </p:cNvCxnSpPr>
          <p:nvPr/>
        </p:nvCxnSpPr>
        <p:spPr>
          <a:xfrm>
            <a:off x="5473440" y="1978200"/>
            <a:ext cx="330840" cy="23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6" name=""/>
          <p:cNvCxnSpPr>
            <a:endCxn id="2449" idx="2"/>
          </p:cNvCxnSpPr>
          <p:nvPr/>
        </p:nvCxnSpPr>
        <p:spPr>
          <a:xfrm flipV="1">
            <a:off x="5486040" y="1142280"/>
            <a:ext cx="219960" cy="384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4876920" y="914400"/>
            <a:ext cx="2895480" cy="2133360"/>
            <a:chOff x="4876920" y="914400"/>
            <a:chExt cx="2895480" cy="2133360"/>
          </a:xfrm>
        </p:grpSpPr>
        <p:grpSp>
          <p:nvGrpSpPr>
            <p:cNvPr id="399" name=""/>
            <p:cNvGrpSpPr/>
            <p:nvPr/>
          </p:nvGrpSpPr>
          <p:grpSpPr>
            <a:xfrm>
              <a:off x="6095880" y="1752480"/>
              <a:ext cx="533520" cy="533520"/>
              <a:chOff x="6095880" y="1752480"/>
              <a:chExt cx="533520" cy="533520"/>
            </a:xfrm>
          </p:grpSpPr>
          <p:sp>
            <p:nvSpPr>
              <p:cNvPr id="400" name=""/>
              <p:cNvSpPr/>
              <p:nvPr/>
            </p:nvSpPr>
            <p:spPr>
              <a:xfrm>
                <a:off x="6095880" y="17524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172200" y="18288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4876920" y="914400"/>
              <a:ext cx="533160" cy="533160"/>
              <a:chOff x="4876920" y="914400"/>
              <a:chExt cx="533160" cy="533160"/>
            </a:xfrm>
          </p:grpSpPr>
          <p:sp>
            <p:nvSpPr>
              <p:cNvPr id="403" name=""/>
              <p:cNvSpPr/>
              <p:nvPr/>
            </p:nvSpPr>
            <p:spPr>
              <a:xfrm>
                <a:off x="4876920" y="91440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952880" y="99036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4876920" y="1676520"/>
              <a:ext cx="533160" cy="533160"/>
              <a:chOff x="4876920" y="1676520"/>
              <a:chExt cx="533160" cy="533160"/>
            </a:xfrm>
          </p:grpSpPr>
          <p:sp>
            <p:nvSpPr>
              <p:cNvPr id="406" name=""/>
              <p:cNvSpPr/>
              <p:nvPr/>
            </p:nvSpPr>
            <p:spPr>
              <a:xfrm>
                <a:off x="4876920" y="16765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952880" y="175248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7238880" y="990720"/>
              <a:ext cx="533520" cy="533160"/>
              <a:chOff x="7238880" y="990720"/>
              <a:chExt cx="533520" cy="533160"/>
            </a:xfrm>
          </p:grpSpPr>
          <p:sp>
            <p:nvSpPr>
              <p:cNvPr id="409" name=""/>
              <p:cNvSpPr/>
              <p:nvPr/>
            </p:nvSpPr>
            <p:spPr>
              <a:xfrm>
                <a:off x="7238880" y="9907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315200" y="10666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7238880" y="1752480"/>
              <a:ext cx="533520" cy="533160"/>
              <a:chOff x="7238880" y="1752480"/>
              <a:chExt cx="533520" cy="533160"/>
            </a:xfrm>
          </p:grpSpPr>
          <p:sp>
            <p:nvSpPr>
              <p:cNvPr id="412" name=""/>
              <p:cNvSpPr/>
              <p:nvPr/>
            </p:nvSpPr>
            <p:spPr>
              <a:xfrm>
                <a:off x="7238880" y="175248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15200" y="182844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14" name=""/>
            <p:cNvCxnSpPr>
              <a:stCxn id="403" idx="5"/>
              <a:endCxn id="400" idx="2"/>
            </p:cNvCxnSpPr>
            <p:nvPr/>
          </p:nvCxnSpPr>
          <p:spPr>
            <a:xfrm>
              <a:off x="5331960" y="1379160"/>
              <a:ext cx="754920" cy="640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5" name=""/>
            <p:cNvCxnSpPr>
              <a:stCxn id="406" idx="6"/>
              <a:endCxn id="400" idx="2"/>
            </p:cNvCxnSpPr>
            <p:nvPr/>
          </p:nvCxnSpPr>
          <p:spPr>
            <a:xfrm>
              <a:off x="5419800" y="1942920"/>
              <a:ext cx="667440" cy="7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0" idx="6"/>
              <a:endCxn id="412" idx="2"/>
            </p:cNvCxnSpPr>
            <p:nvPr/>
          </p:nvCxnSpPr>
          <p:spPr>
            <a:xfrm>
              <a:off x="6638400" y="201888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7" name=""/>
            <p:cNvCxnSpPr>
              <a:stCxn id="400" idx="6"/>
              <a:endCxn id="409" idx="2"/>
            </p:cNvCxnSpPr>
            <p:nvPr/>
          </p:nvCxnSpPr>
          <p:spPr>
            <a:xfrm flipV="1">
              <a:off x="6638400" y="1257120"/>
              <a:ext cx="591120" cy="76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18" name=""/>
            <p:cNvGrpSpPr/>
            <p:nvPr/>
          </p:nvGrpSpPr>
          <p:grpSpPr>
            <a:xfrm>
              <a:off x="4876920" y="2438280"/>
              <a:ext cx="533160" cy="533160"/>
              <a:chOff x="4876920" y="2438280"/>
              <a:chExt cx="533160" cy="533160"/>
            </a:xfrm>
          </p:grpSpPr>
          <p:sp>
            <p:nvSpPr>
              <p:cNvPr id="419" name=""/>
              <p:cNvSpPr/>
              <p:nvPr/>
            </p:nvSpPr>
            <p:spPr>
              <a:xfrm>
                <a:off x="4876920" y="243828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952880" y="251424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21" name=""/>
            <p:cNvCxnSpPr>
              <a:stCxn id="419" idx="6"/>
              <a:endCxn id="400" idx="2"/>
            </p:cNvCxnSpPr>
            <p:nvPr/>
          </p:nvCxnSpPr>
          <p:spPr>
            <a:xfrm flipV="1">
              <a:off x="5419800" y="2018520"/>
              <a:ext cx="66744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22" name=""/>
            <p:cNvGrpSpPr/>
            <p:nvPr/>
          </p:nvGrpSpPr>
          <p:grpSpPr>
            <a:xfrm>
              <a:off x="7238880" y="2514600"/>
              <a:ext cx="533520" cy="533160"/>
              <a:chOff x="7238880" y="2514600"/>
              <a:chExt cx="533520" cy="533160"/>
            </a:xfrm>
          </p:grpSpPr>
          <p:sp>
            <p:nvSpPr>
              <p:cNvPr id="423" name=""/>
              <p:cNvSpPr/>
              <p:nvPr/>
            </p:nvSpPr>
            <p:spPr>
              <a:xfrm>
                <a:off x="7238880" y="251460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15200" y="259056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25" name=""/>
            <p:cNvCxnSpPr>
              <a:stCxn id="400" idx="6"/>
              <a:endCxn id="423" idx="2"/>
            </p:cNvCxnSpPr>
            <p:nvPr/>
          </p:nvCxnSpPr>
          <p:spPr>
            <a:xfrm>
              <a:off x="6638400" y="2018880"/>
              <a:ext cx="591120" cy="762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6" name=""/>
            <p:cNvCxnSpPr>
              <a:stCxn id="400" idx="0"/>
              <a:endCxn id="403" idx="7"/>
            </p:cNvCxnSpPr>
            <p:nvPr/>
          </p:nvCxnSpPr>
          <p:spPr>
            <a:xfrm flipH="1" flipV="1">
              <a:off x="5331960" y="982440"/>
              <a:ext cx="1031040" cy="761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27" name=""/>
          <p:cNvGrpSpPr/>
          <p:nvPr/>
        </p:nvGrpSpPr>
        <p:grpSpPr>
          <a:xfrm>
            <a:off x="990720" y="762120"/>
            <a:ext cx="2895480" cy="2714760"/>
            <a:chOff x="990720" y="762120"/>
            <a:chExt cx="2895480" cy="2714760"/>
          </a:xfrm>
        </p:grpSpPr>
        <p:grpSp>
          <p:nvGrpSpPr>
            <p:cNvPr id="428" name=""/>
            <p:cNvGrpSpPr/>
            <p:nvPr/>
          </p:nvGrpSpPr>
          <p:grpSpPr>
            <a:xfrm>
              <a:off x="990720" y="762120"/>
              <a:ext cx="2895480" cy="2133360"/>
              <a:chOff x="990720" y="762120"/>
              <a:chExt cx="2895480" cy="213336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2209680" y="1295280"/>
                <a:ext cx="533520" cy="533520"/>
                <a:chOff x="2209680" y="1295280"/>
                <a:chExt cx="533520" cy="5335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209680" y="1295280"/>
                  <a:ext cx="53352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286000" y="137160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90720" y="762120"/>
                <a:ext cx="533160" cy="533160"/>
                <a:chOff x="990720" y="762120"/>
                <a:chExt cx="533160" cy="5331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990720" y="7621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066680" y="838080"/>
                  <a:ext cx="3805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990720" y="1523880"/>
                <a:ext cx="533160" cy="533160"/>
                <a:chOff x="990720" y="1523880"/>
                <a:chExt cx="533160" cy="5331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990720" y="152388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066680" y="1599840"/>
                  <a:ext cx="3805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352680" y="838080"/>
                <a:ext cx="533520" cy="533160"/>
                <a:chOff x="3352680" y="838080"/>
                <a:chExt cx="533520" cy="5331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352680" y="83808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429000" y="91404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3352680" y="1600200"/>
                <a:ext cx="533520" cy="533160"/>
                <a:chOff x="3352680" y="1600200"/>
                <a:chExt cx="533520" cy="53316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3352680" y="160020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429000" y="167616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44" name=""/>
              <p:cNvCxnSpPr>
                <a:stCxn id="433" idx="6"/>
                <a:endCxn id="430" idx="2"/>
              </p:cNvCxnSpPr>
              <p:nvPr/>
            </p:nvCxnSpPr>
            <p:spPr>
              <a:xfrm>
                <a:off x="1533600" y="1028520"/>
                <a:ext cx="667440" cy="533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5" name=""/>
              <p:cNvCxnSpPr>
                <a:stCxn id="436" idx="6"/>
                <a:endCxn id="430" idx="2"/>
              </p:cNvCxnSpPr>
              <p:nvPr/>
            </p:nvCxnSpPr>
            <p:spPr>
              <a:xfrm flipV="1">
                <a:off x="1533600" y="1561320"/>
                <a:ext cx="667440" cy="229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6" name=""/>
              <p:cNvCxnSpPr>
                <a:stCxn id="430" idx="6"/>
                <a:endCxn id="442" idx="2"/>
              </p:cNvCxnSpPr>
              <p:nvPr/>
            </p:nvCxnSpPr>
            <p:spPr>
              <a:xfrm>
                <a:off x="2752200" y="1561680"/>
                <a:ext cx="591120" cy="305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7" name=""/>
              <p:cNvCxnSpPr>
                <a:stCxn id="430" idx="6"/>
                <a:endCxn id="439" idx="2"/>
              </p:cNvCxnSpPr>
              <p:nvPr/>
            </p:nvCxnSpPr>
            <p:spPr>
              <a:xfrm flipV="1">
                <a:off x="2752200" y="1104480"/>
                <a:ext cx="591120" cy="457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448" name=""/>
              <p:cNvGrpSpPr/>
              <p:nvPr/>
            </p:nvGrpSpPr>
            <p:grpSpPr>
              <a:xfrm>
                <a:off x="2209680" y="2133720"/>
                <a:ext cx="533520" cy="533160"/>
                <a:chOff x="2209680" y="2133720"/>
                <a:chExt cx="533520" cy="5331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2209680" y="21337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286000" y="22096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990720" y="2286000"/>
                <a:ext cx="533160" cy="533160"/>
                <a:chOff x="990720" y="2286000"/>
                <a:chExt cx="533160" cy="53316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990720" y="228600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066680" y="2361960"/>
                  <a:ext cx="3805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4" name=""/>
              <p:cNvCxnSpPr>
                <a:stCxn id="436" idx="6"/>
                <a:endCxn id="449" idx="2"/>
              </p:cNvCxnSpPr>
              <p:nvPr/>
            </p:nvCxnSpPr>
            <p:spPr>
              <a:xfrm>
                <a:off x="1533600" y="1790640"/>
                <a:ext cx="667440" cy="6105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5" name=""/>
              <p:cNvCxnSpPr>
                <a:stCxn id="452" idx="6"/>
                <a:endCxn id="449" idx="2"/>
              </p:cNvCxnSpPr>
              <p:nvPr/>
            </p:nvCxnSpPr>
            <p:spPr>
              <a:xfrm flipV="1">
                <a:off x="1533600" y="2399760"/>
                <a:ext cx="667440" cy="1530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456" name=""/>
              <p:cNvGrpSpPr/>
              <p:nvPr/>
            </p:nvGrpSpPr>
            <p:grpSpPr>
              <a:xfrm>
                <a:off x="3352680" y="2362320"/>
                <a:ext cx="533520" cy="533160"/>
                <a:chOff x="3352680" y="2362320"/>
                <a:chExt cx="533520" cy="53316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3352680" y="23623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429000" y="24382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9" name=""/>
              <p:cNvCxnSpPr>
                <a:stCxn id="449" idx="6"/>
                <a:endCxn id="442" idx="2"/>
              </p:cNvCxnSpPr>
              <p:nvPr/>
            </p:nvCxnSpPr>
            <p:spPr>
              <a:xfrm flipV="1">
                <a:off x="2752200" y="1866600"/>
                <a:ext cx="591120" cy="534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0" name=""/>
              <p:cNvCxnSpPr>
                <a:stCxn id="449" idx="1"/>
                <a:endCxn id="433" idx="5"/>
              </p:cNvCxnSpPr>
              <p:nvPr/>
            </p:nvCxnSpPr>
            <p:spPr>
              <a:xfrm flipH="1" flipV="1">
                <a:off x="1445400" y="1226520"/>
                <a:ext cx="842040" cy="975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1" name=""/>
              <p:cNvCxnSpPr>
                <a:stCxn id="449" idx="6"/>
                <a:endCxn id="457" idx="2"/>
              </p:cNvCxnSpPr>
              <p:nvPr/>
            </p:nvCxnSpPr>
            <p:spPr>
              <a:xfrm>
                <a:off x="2752200" y="2400120"/>
                <a:ext cx="591120" cy="229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62" name=""/>
            <p:cNvSpPr/>
            <p:nvPr/>
          </p:nvSpPr>
          <p:spPr>
            <a:xfrm>
              <a:off x="1905120" y="838080"/>
              <a:ext cx="11430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47920" y="3200400"/>
              <a:ext cx="19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états à regrou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276720" y="4122720"/>
            <a:ext cx="2361960" cy="1657800"/>
            <a:chOff x="3276720" y="4122720"/>
            <a:chExt cx="2361960" cy="1657800"/>
          </a:xfrm>
        </p:grpSpPr>
        <p:sp>
          <p:nvSpPr>
            <p:cNvPr id="465" name=""/>
            <p:cNvSpPr/>
            <p:nvPr/>
          </p:nvSpPr>
          <p:spPr>
            <a:xfrm>
              <a:off x="4419720" y="4800600"/>
              <a:ext cx="68580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72000" y="49528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7" name=""/>
            <p:cNvCxnSpPr>
              <a:endCxn id="465" idx="2"/>
            </p:cNvCxnSpPr>
            <p:nvPr/>
          </p:nvCxnSpPr>
          <p:spPr>
            <a:xfrm flipV="1">
              <a:off x="3276720" y="5105160"/>
              <a:ext cx="1134000" cy="38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8" name=""/>
            <p:cNvCxnSpPr>
              <a:stCxn id="465" idx="7"/>
              <a:endCxn id="465" idx="1"/>
            </p:cNvCxnSpPr>
            <p:nvPr/>
          </p:nvCxnSpPr>
          <p:spPr>
            <a:xfrm rot="5400000">
              <a:off x="4761000" y="4636800"/>
              <a:ext cx="2520" cy="486720"/>
            </a:xfrm>
            <a:prstGeom prst="curvedConnector5">
              <a:avLst>
                <a:gd name="adj1" fmla="val -35000000"/>
                <a:gd name="adj2" fmla="val 49962"/>
                <a:gd name="adj3" fmla="val -35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5" idx="5"/>
            </p:cNvCxnSpPr>
            <p:nvPr/>
          </p:nvCxnSpPr>
          <p:spPr>
            <a:xfrm>
              <a:off x="5005440" y="5330880"/>
              <a:ext cx="535680" cy="450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0" name=""/>
            <p:cNvSpPr/>
            <p:nvPr/>
          </p:nvSpPr>
          <p:spPr>
            <a:xfrm>
              <a:off x="4876920" y="4267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81480" y="52578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7" name=""/>
          <p:cNvGrpSpPr/>
          <p:nvPr/>
        </p:nvGrpSpPr>
        <p:grpSpPr>
          <a:xfrm>
            <a:off x="1066680" y="3429000"/>
            <a:ext cx="609480" cy="609480"/>
            <a:chOff x="1066680" y="3429000"/>
            <a:chExt cx="609480" cy="609480"/>
          </a:xfrm>
        </p:grpSpPr>
        <p:sp>
          <p:nvSpPr>
            <p:cNvPr id="2468" name=""/>
            <p:cNvSpPr/>
            <p:nvPr/>
          </p:nvSpPr>
          <p:spPr>
            <a:xfrm>
              <a:off x="1066680" y="34290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143000" y="35812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0" name=""/>
          <p:cNvGrpSpPr/>
          <p:nvPr/>
        </p:nvGrpSpPr>
        <p:grpSpPr>
          <a:xfrm>
            <a:off x="2819520" y="3429000"/>
            <a:ext cx="609480" cy="609480"/>
            <a:chOff x="2819520" y="3429000"/>
            <a:chExt cx="609480" cy="609480"/>
          </a:xfrm>
        </p:grpSpPr>
        <p:sp>
          <p:nvSpPr>
            <p:cNvPr id="2471" name=""/>
            <p:cNvSpPr/>
            <p:nvPr/>
          </p:nvSpPr>
          <p:spPr>
            <a:xfrm>
              <a:off x="2819520" y="34290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895840" y="35812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3" name=""/>
          <p:cNvGrpSpPr/>
          <p:nvPr/>
        </p:nvGrpSpPr>
        <p:grpSpPr>
          <a:xfrm>
            <a:off x="7315200" y="3429000"/>
            <a:ext cx="609480" cy="609480"/>
            <a:chOff x="7315200" y="3429000"/>
            <a:chExt cx="609480" cy="609480"/>
          </a:xfrm>
        </p:grpSpPr>
        <p:sp>
          <p:nvSpPr>
            <p:cNvPr id="2474" name=""/>
            <p:cNvSpPr/>
            <p:nvPr/>
          </p:nvSpPr>
          <p:spPr>
            <a:xfrm>
              <a:off x="7315200" y="34290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391520" y="35812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76" name=""/>
          <p:cNvCxnSpPr>
            <a:endCxn id="2471" idx="2"/>
          </p:cNvCxnSpPr>
          <p:nvPr/>
        </p:nvCxnSpPr>
        <p:spPr>
          <a:xfrm>
            <a:off x="2438280" y="373356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77" name=""/>
          <p:cNvGrpSpPr/>
          <p:nvPr/>
        </p:nvGrpSpPr>
        <p:grpSpPr>
          <a:xfrm>
            <a:off x="4267080" y="3429000"/>
            <a:ext cx="609480" cy="609480"/>
            <a:chOff x="4267080" y="3429000"/>
            <a:chExt cx="609480" cy="609480"/>
          </a:xfrm>
        </p:grpSpPr>
        <p:sp>
          <p:nvSpPr>
            <p:cNvPr id="2478" name=""/>
            <p:cNvSpPr/>
            <p:nvPr/>
          </p:nvSpPr>
          <p:spPr>
            <a:xfrm>
              <a:off x="4267080" y="34290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343400" y="35812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80" name=""/>
          <p:cNvCxnSpPr>
            <a:endCxn id="2474" idx="2"/>
          </p:cNvCxnSpPr>
          <p:nvPr/>
        </p:nvCxnSpPr>
        <p:spPr>
          <a:xfrm>
            <a:off x="6934320" y="373356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81" name=""/>
          <p:cNvGrpSpPr/>
          <p:nvPr/>
        </p:nvGrpSpPr>
        <p:grpSpPr>
          <a:xfrm>
            <a:off x="5715000" y="3429000"/>
            <a:ext cx="609480" cy="609480"/>
            <a:chOff x="5715000" y="3429000"/>
            <a:chExt cx="609480" cy="609480"/>
          </a:xfrm>
        </p:grpSpPr>
        <p:sp>
          <p:nvSpPr>
            <p:cNvPr id="2482" name=""/>
            <p:cNvSpPr/>
            <p:nvPr/>
          </p:nvSpPr>
          <p:spPr>
            <a:xfrm>
              <a:off x="5715000" y="34290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791320" y="35812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84" name=""/>
          <p:cNvCxnSpPr>
            <a:stCxn id="2482" idx="6"/>
          </p:cNvCxnSpPr>
          <p:nvPr/>
        </p:nvCxnSpPr>
        <p:spPr>
          <a:xfrm>
            <a:off x="6334200" y="3733560"/>
            <a:ext cx="295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85" name=""/>
          <p:cNvCxnSpPr/>
          <p:nvPr/>
        </p:nvCxnSpPr>
        <p:spPr>
          <a:xfrm>
            <a:off x="1676520" y="373356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86" name=""/>
          <p:cNvCxnSpPr/>
          <p:nvPr/>
        </p:nvCxnSpPr>
        <p:spPr>
          <a:xfrm>
            <a:off x="2057400" y="373356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</a:ln>
        </p:spPr>
      </p:cxnSp>
      <p:cxnSp>
        <p:nvCxnSpPr>
          <p:cNvPr id="2487" name=""/>
          <p:cNvCxnSpPr/>
          <p:nvPr/>
        </p:nvCxnSpPr>
        <p:spPr>
          <a:xfrm>
            <a:off x="6629400" y="3733560"/>
            <a:ext cx="295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</a:ln>
        </p:spPr>
      </p:cxnSp>
      <p:cxnSp>
        <p:nvCxnSpPr>
          <p:cNvPr id="2488" name=""/>
          <p:cNvCxnSpPr>
            <a:stCxn id="2489" idx="1"/>
            <a:endCxn id="2490" idx="4"/>
          </p:cNvCxnSpPr>
          <p:nvPr/>
        </p:nvCxnSpPr>
        <p:spPr>
          <a:xfrm flipV="1">
            <a:off x="3122640" y="2523600"/>
            <a:ext cx="216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91" name=""/>
          <p:cNvGrpSpPr/>
          <p:nvPr/>
        </p:nvGrpSpPr>
        <p:grpSpPr>
          <a:xfrm>
            <a:off x="2819520" y="1905120"/>
            <a:ext cx="609480" cy="609480"/>
            <a:chOff x="2819520" y="1905120"/>
            <a:chExt cx="609480" cy="609480"/>
          </a:xfrm>
        </p:grpSpPr>
        <p:sp>
          <p:nvSpPr>
            <p:cNvPr id="2490" name=""/>
            <p:cNvSpPr/>
            <p:nvPr/>
          </p:nvSpPr>
          <p:spPr>
            <a:xfrm>
              <a:off x="281952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895840" y="2057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3" name=""/>
          <p:cNvGrpSpPr/>
          <p:nvPr/>
        </p:nvGrpSpPr>
        <p:grpSpPr>
          <a:xfrm>
            <a:off x="4267080" y="1905120"/>
            <a:ext cx="609480" cy="609480"/>
            <a:chOff x="4267080" y="1905120"/>
            <a:chExt cx="609480" cy="609480"/>
          </a:xfrm>
        </p:grpSpPr>
        <p:sp>
          <p:nvSpPr>
            <p:cNvPr id="2494" name=""/>
            <p:cNvSpPr/>
            <p:nvPr/>
          </p:nvSpPr>
          <p:spPr>
            <a:xfrm>
              <a:off x="426708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343400" y="2057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6" name=""/>
          <p:cNvGrpSpPr/>
          <p:nvPr/>
        </p:nvGrpSpPr>
        <p:grpSpPr>
          <a:xfrm>
            <a:off x="5715000" y="1905120"/>
            <a:ext cx="609480" cy="609480"/>
            <a:chOff x="5715000" y="1905120"/>
            <a:chExt cx="609480" cy="609480"/>
          </a:xfrm>
        </p:grpSpPr>
        <p:sp>
          <p:nvSpPr>
            <p:cNvPr id="2497" name=""/>
            <p:cNvSpPr/>
            <p:nvPr/>
          </p:nvSpPr>
          <p:spPr>
            <a:xfrm>
              <a:off x="571500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91320" y="2057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2819520" y="914400"/>
            <a:ext cx="609480" cy="609480"/>
            <a:chOff x="2819520" y="914400"/>
            <a:chExt cx="609480" cy="609480"/>
          </a:xfrm>
        </p:grpSpPr>
        <p:sp>
          <p:nvSpPr>
            <p:cNvPr id="2500" name=""/>
            <p:cNvSpPr/>
            <p:nvPr/>
          </p:nvSpPr>
          <p:spPr>
            <a:xfrm>
              <a:off x="2819520" y="9144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895840" y="10666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4267080" y="990720"/>
            <a:ext cx="609480" cy="609480"/>
            <a:chOff x="4267080" y="990720"/>
            <a:chExt cx="609480" cy="609480"/>
          </a:xfrm>
        </p:grpSpPr>
        <p:sp>
          <p:nvSpPr>
            <p:cNvPr id="2503" name=""/>
            <p:cNvSpPr/>
            <p:nvPr/>
          </p:nvSpPr>
          <p:spPr>
            <a:xfrm>
              <a:off x="4267080" y="990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4343400" y="11430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715000" y="914400"/>
            <a:ext cx="609480" cy="609480"/>
            <a:chOff x="5715000" y="914400"/>
            <a:chExt cx="609480" cy="609480"/>
          </a:xfrm>
        </p:grpSpPr>
        <p:sp>
          <p:nvSpPr>
            <p:cNvPr id="2506" name=""/>
            <p:cNvSpPr/>
            <p:nvPr/>
          </p:nvSpPr>
          <p:spPr>
            <a:xfrm>
              <a:off x="5715000" y="9144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791320" y="10666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9" name=""/>
          <p:cNvSpPr/>
          <p:nvPr/>
        </p:nvSpPr>
        <p:spPr>
          <a:xfrm flipV="1">
            <a:off x="2819520" y="2819520"/>
            <a:ext cx="609480" cy="380880"/>
          </a:xfrm>
          <a:custGeom>
            <a:avLst/>
            <a:gdLst>
              <a:gd name="textAreaLeft" fmla="*/ 175680 w 609480"/>
              <a:gd name="textAreaRight" fmla="*/ 433800 w 609480"/>
              <a:gd name="textAreaTop" fmla="*/ 109800 h 380880"/>
              <a:gd name="textAreaBottom" fmla="*/ 271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541" y="21600"/>
                </a:lnTo>
                <a:lnTo>
                  <a:pt x="8059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8" name=""/>
          <p:cNvCxnSpPr>
            <a:stCxn id="2471" idx="0"/>
            <a:endCxn id="2489" idx="3"/>
          </p:cNvCxnSpPr>
          <p:nvPr/>
        </p:nvCxnSpPr>
        <p:spPr>
          <a:xfrm flipH="1" flipV="1">
            <a:off x="3122280" y="3209040"/>
            <a:ext cx="2160" cy="21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9" name=""/>
          <p:cNvCxnSpPr>
            <a:stCxn id="2510" idx="1"/>
            <a:endCxn id="2494" idx="4"/>
          </p:cNvCxnSpPr>
          <p:nvPr/>
        </p:nvCxnSpPr>
        <p:spPr>
          <a:xfrm flipV="1">
            <a:off x="4570560" y="2523600"/>
            <a:ext cx="216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0" name=""/>
          <p:cNvSpPr/>
          <p:nvPr/>
        </p:nvSpPr>
        <p:spPr>
          <a:xfrm flipV="1">
            <a:off x="4343400" y="2819520"/>
            <a:ext cx="457200" cy="380880"/>
          </a:xfrm>
          <a:custGeom>
            <a:avLst/>
            <a:gdLst>
              <a:gd name="textAreaLeft" fmla="*/ 131760 w 457200"/>
              <a:gd name="textAreaRight" fmla="*/ 325440 w 457200"/>
              <a:gd name="textAreaTop" fmla="*/ 109800 h 380880"/>
              <a:gd name="textAreaBottom" fmla="*/ 271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541" y="21600"/>
                </a:lnTo>
                <a:lnTo>
                  <a:pt x="8059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1" name=""/>
          <p:cNvCxnSpPr>
            <a:stCxn id="2478" idx="0"/>
            <a:endCxn id="2510" idx="3"/>
          </p:cNvCxnSpPr>
          <p:nvPr/>
        </p:nvCxnSpPr>
        <p:spPr>
          <a:xfrm flipH="1" flipV="1">
            <a:off x="4570200" y="3209040"/>
            <a:ext cx="2160" cy="21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2" name=""/>
          <p:cNvCxnSpPr>
            <a:stCxn id="2513" idx="1"/>
            <a:endCxn id="2497" idx="4"/>
          </p:cNvCxnSpPr>
          <p:nvPr/>
        </p:nvCxnSpPr>
        <p:spPr>
          <a:xfrm flipV="1">
            <a:off x="6017760" y="2523600"/>
            <a:ext cx="252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3" name=""/>
          <p:cNvSpPr/>
          <p:nvPr/>
        </p:nvSpPr>
        <p:spPr>
          <a:xfrm flipV="1">
            <a:off x="5791320" y="2819520"/>
            <a:ext cx="457200" cy="380880"/>
          </a:xfrm>
          <a:custGeom>
            <a:avLst/>
            <a:gdLst>
              <a:gd name="textAreaLeft" fmla="*/ 131760 w 457200"/>
              <a:gd name="textAreaRight" fmla="*/ 325440 w 457200"/>
              <a:gd name="textAreaTop" fmla="*/ 109800 h 380880"/>
              <a:gd name="textAreaBottom" fmla="*/ 271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541" y="21600"/>
                </a:lnTo>
                <a:lnTo>
                  <a:pt x="8059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4" name=""/>
          <p:cNvCxnSpPr>
            <a:stCxn id="2482" idx="0"/>
            <a:endCxn id="2513" idx="3"/>
          </p:cNvCxnSpPr>
          <p:nvPr/>
        </p:nvCxnSpPr>
        <p:spPr>
          <a:xfrm flipH="1" flipV="1">
            <a:off x="6017400" y="3209040"/>
            <a:ext cx="2520" cy="21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5" name=""/>
          <p:cNvCxnSpPr>
            <a:stCxn id="2500" idx="2"/>
            <a:endCxn id="2489" idx="3"/>
          </p:cNvCxnSpPr>
          <p:nvPr/>
        </p:nvCxnSpPr>
        <p:spPr>
          <a:xfrm flipH="1" flipV="1" rot="10800000">
            <a:off x="2808720" y="1218240"/>
            <a:ext cx="313560" cy="1991160"/>
          </a:xfrm>
          <a:prstGeom prst="curvedConnector5">
            <a:avLst>
              <a:gd name="adj1" fmla="val -70000"/>
              <a:gd name="adj2" fmla="val 55497"/>
              <a:gd name="adj3" fmla="val -7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6" name=""/>
          <p:cNvCxnSpPr>
            <a:stCxn id="2503" idx="2"/>
            <a:endCxn id="2510" idx="3"/>
          </p:cNvCxnSpPr>
          <p:nvPr/>
        </p:nvCxnSpPr>
        <p:spPr>
          <a:xfrm flipH="1" flipV="1" rot="10800000">
            <a:off x="4256640" y="1294920"/>
            <a:ext cx="313560" cy="1915200"/>
          </a:xfrm>
          <a:prstGeom prst="curvedConnector5">
            <a:avLst>
              <a:gd name="adj1" fmla="val -70000"/>
              <a:gd name="adj2" fmla="val 55705"/>
              <a:gd name="adj3" fmla="val -7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7" name=""/>
          <p:cNvCxnSpPr>
            <a:stCxn id="2506" idx="2"/>
            <a:endCxn id="2513" idx="3"/>
          </p:cNvCxnSpPr>
          <p:nvPr/>
        </p:nvCxnSpPr>
        <p:spPr>
          <a:xfrm flipH="1" flipV="1" rot="10800000">
            <a:off x="5705280" y="1218240"/>
            <a:ext cx="313200" cy="1991160"/>
          </a:xfrm>
          <a:prstGeom prst="curvedConnector5">
            <a:avLst>
              <a:gd name="adj1" fmla="val -69965"/>
              <a:gd name="adj2" fmla="val 55497"/>
              <a:gd name="adj3" fmla="val -699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8" name=""/>
          <p:cNvSpPr/>
          <p:nvPr/>
        </p:nvSpPr>
        <p:spPr>
          <a:xfrm flipV="1" rot="5400000">
            <a:off x="3543120" y="3542040"/>
            <a:ext cx="609480" cy="380880"/>
          </a:xfrm>
          <a:custGeom>
            <a:avLst/>
            <a:gdLst>
              <a:gd name="textAreaLeft" fmla="*/ 175680 w 609480"/>
              <a:gd name="textAreaRight" fmla="*/ 433800 w 609480"/>
              <a:gd name="textAreaTop" fmla="*/ 109800 h 380880"/>
              <a:gd name="textAreaBottom" fmla="*/ 271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541" y="21600"/>
                </a:lnTo>
                <a:lnTo>
                  <a:pt x="8059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9" name=""/>
          <p:cNvCxnSpPr>
            <a:stCxn id="2471" idx="6"/>
            <a:endCxn id="2518" idx="3"/>
          </p:cNvCxnSpPr>
          <p:nvPr/>
        </p:nvCxnSpPr>
        <p:spPr>
          <a:xfrm flipV="1">
            <a:off x="3438360" y="3731400"/>
            <a:ext cx="2088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0" name=""/>
          <p:cNvCxnSpPr>
            <a:stCxn id="2518" idx="1"/>
            <a:endCxn id="2478" idx="2"/>
          </p:cNvCxnSpPr>
          <p:nvPr/>
        </p:nvCxnSpPr>
        <p:spPr>
          <a:xfrm>
            <a:off x="4046040" y="3733560"/>
            <a:ext cx="2120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1" name=""/>
          <p:cNvCxnSpPr>
            <a:stCxn id="2500" idx="7"/>
            <a:endCxn id="2518" idx="3"/>
          </p:cNvCxnSpPr>
          <p:nvPr/>
        </p:nvCxnSpPr>
        <p:spPr>
          <a:xfrm flipH="1" rot="16200000">
            <a:off x="2123280" y="2208600"/>
            <a:ext cx="2739240" cy="306720"/>
          </a:xfrm>
          <a:prstGeom prst="curvedConnector5">
            <a:avLst>
              <a:gd name="adj1" fmla="val -52"/>
              <a:gd name="adj2" fmla="val 33137"/>
              <a:gd name="adj3" fmla="val -5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2" name=""/>
          <p:cNvCxnSpPr>
            <a:stCxn id="2503" idx="7"/>
            <a:endCxn id="2523" idx="3"/>
          </p:cNvCxnSpPr>
          <p:nvPr/>
        </p:nvCxnSpPr>
        <p:spPr>
          <a:xfrm flipH="1" rot="16200000">
            <a:off x="3609720" y="2246400"/>
            <a:ext cx="2662560" cy="306720"/>
          </a:xfrm>
          <a:prstGeom prst="curvedConnector5">
            <a:avLst>
              <a:gd name="adj1" fmla="val -3691"/>
              <a:gd name="adj2" fmla="val 33137"/>
              <a:gd name="adj3" fmla="val -369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3" name=""/>
          <p:cNvSpPr/>
          <p:nvPr/>
        </p:nvSpPr>
        <p:spPr>
          <a:xfrm flipV="1" rot="5400000">
            <a:off x="4991040" y="3542040"/>
            <a:ext cx="609480" cy="380880"/>
          </a:xfrm>
          <a:custGeom>
            <a:avLst/>
            <a:gdLst>
              <a:gd name="textAreaLeft" fmla="*/ 175680 w 609480"/>
              <a:gd name="textAreaRight" fmla="*/ 433800 w 609480"/>
              <a:gd name="textAreaTop" fmla="*/ 109800 h 380880"/>
              <a:gd name="textAreaBottom" fmla="*/ 271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541" y="21600"/>
                </a:lnTo>
                <a:lnTo>
                  <a:pt x="8059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4" name=""/>
          <p:cNvCxnSpPr>
            <a:stCxn id="2478" idx="6"/>
            <a:endCxn id="2523" idx="3"/>
          </p:cNvCxnSpPr>
          <p:nvPr/>
        </p:nvCxnSpPr>
        <p:spPr>
          <a:xfrm flipV="1">
            <a:off x="4886280" y="3731400"/>
            <a:ext cx="2088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5" name=""/>
          <p:cNvCxnSpPr>
            <a:stCxn id="2523" idx="1"/>
            <a:endCxn id="2482" idx="2"/>
          </p:cNvCxnSpPr>
          <p:nvPr/>
        </p:nvCxnSpPr>
        <p:spPr>
          <a:xfrm>
            <a:off x="5493960" y="3733560"/>
            <a:ext cx="2120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6" name=""/>
          <p:cNvCxnSpPr/>
          <p:nvPr/>
        </p:nvCxnSpPr>
        <p:spPr>
          <a:xfrm flipH="1" rot="16200000">
            <a:off x="5943600" y="1218960"/>
            <a:ext cx="915120" cy="457920"/>
          </a:xfrm>
          <a:prstGeom prst="curvedConnector5">
            <a:avLst>
              <a:gd name="adj1" fmla="val -13695"/>
              <a:gd name="adj2" fmla="val 49960"/>
              <a:gd name="adj3" fmla="val -13695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527" name=""/>
          <p:cNvSpPr/>
          <p:nvPr/>
        </p:nvSpPr>
        <p:spPr>
          <a:xfrm>
            <a:off x="6629400" y="19051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657600" y="35812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5105520" y="35812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297180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419720" y="28954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8672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3" name=""/>
          <p:cNvGrpSpPr/>
          <p:nvPr/>
        </p:nvGrpSpPr>
        <p:grpSpPr>
          <a:xfrm>
            <a:off x="1905120" y="1523880"/>
            <a:ext cx="2057400" cy="1618200"/>
            <a:chOff x="1905120" y="1523880"/>
            <a:chExt cx="2057400" cy="1618200"/>
          </a:xfrm>
        </p:grpSpPr>
        <p:grpSp>
          <p:nvGrpSpPr>
            <p:cNvPr id="2534" name=""/>
            <p:cNvGrpSpPr/>
            <p:nvPr/>
          </p:nvGrpSpPr>
          <p:grpSpPr>
            <a:xfrm>
              <a:off x="1905120" y="1523880"/>
              <a:ext cx="2057400" cy="1600200"/>
              <a:chOff x="1905120" y="1523880"/>
              <a:chExt cx="2057400" cy="1600200"/>
            </a:xfrm>
          </p:grpSpPr>
          <p:grpSp>
            <p:nvGrpSpPr>
              <p:cNvPr id="2535" name=""/>
              <p:cNvGrpSpPr/>
              <p:nvPr/>
            </p:nvGrpSpPr>
            <p:grpSpPr>
              <a:xfrm>
                <a:off x="1905120" y="1523880"/>
                <a:ext cx="2057400" cy="1600200"/>
                <a:chOff x="1905120" y="1523880"/>
                <a:chExt cx="2057400" cy="1600200"/>
              </a:xfrm>
            </p:grpSpPr>
            <p:graphicFrame>
              <p:nvGraphicFramePr>
                <p:cNvPr id="2536" name=""/>
                <p:cNvGraphicFramePr/>
                <p:nvPr/>
              </p:nvGraphicFramePr>
              <p:xfrm>
                <a:off x="1905120" y="1559160"/>
                <a:ext cx="2005920" cy="15649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537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905120" y="1559160"/>
                          <a:ext cx="2005920" cy="1564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538" name=""/>
                <p:cNvSpPr/>
                <p:nvPr/>
              </p:nvSpPr>
              <p:spPr>
                <a:xfrm>
                  <a:off x="2336760" y="1664280"/>
                  <a:ext cx="339480" cy="421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2862000" y="1593360"/>
                  <a:ext cx="369720" cy="527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2336760" y="2261520"/>
                  <a:ext cx="247320" cy="45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2799720" y="2261520"/>
                  <a:ext cx="277560" cy="45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3201480" y="2367000"/>
                  <a:ext cx="400680" cy="210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2707560" y="2823120"/>
                  <a:ext cx="400680" cy="210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3262680" y="2788560"/>
                  <a:ext cx="339480" cy="280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1905120" y="1523880"/>
                  <a:ext cx="2057400" cy="16002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6" name=""/>
              <p:cNvSpPr/>
              <p:nvPr/>
            </p:nvSpPr>
            <p:spPr>
              <a:xfrm>
                <a:off x="1905120" y="2133720"/>
                <a:ext cx="152280" cy="15228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809880" y="2209680"/>
                <a:ext cx="152640" cy="15264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8" name=""/>
            <p:cNvSpPr/>
            <p:nvPr/>
          </p:nvSpPr>
          <p:spPr>
            <a:xfrm>
              <a:off x="1905120" y="27432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9" name=""/>
          <p:cNvSpPr/>
          <p:nvPr/>
        </p:nvSpPr>
        <p:spPr>
          <a:xfrm>
            <a:off x="1143000" y="3352680"/>
            <a:ext cx="228600" cy="22860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7620120" y="3352680"/>
            <a:ext cx="228600" cy="22860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1" name=""/>
          <p:cNvGrpSpPr/>
          <p:nvPr/>
        </p:nvGrpSpPr>
        <p:grpSpPr>
          <a:xfrm>
            <a:off x="4800600" y="1523880"/>
            <a:ext cx="2057400" cy="1617840"/>
            <a:chOff x="4800600" y="1523880"/>
            <a:chExt cx="2057400" cy="1617840"/>
          </a:xfrm>
        </p:grpSpPr>
        <p:grpSp>
          <p:nvGrpSpPr>
            <p:cNvPr id="2552" name=""/>
            <p:cNvGrpSpPr/>
            <p:nvPr/>
          </p:nvGrpSpPr>
          <p:grpSpPr>
            <a:xfrm>
              <a:off x="4800600" y="1523880"/>
              <a:ext cx="2057400" cy="1600200"/>
              <a:chOff x="4800600" y="1523880"/>
              <a:chExt cx="2057400" cy="1600200"/>
            </a:xfrm>
          </p:grpSpPr>
          <p:graphicFrame>
            <p:nvGraphicFramePr>
              <p:cNvPr id="2553" name=""/>
              <p:cNvGraphicFramePr/>
              <p:nvPr/>
            </p:nvGraphicFramePr>
            <p:xfrm>
              <a:off x="5220360" y="1596600"/>
              <a:ext cx="614160" cy="4726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5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20360" y="1596600"/>
                        <a:ext cx="614160" cy="47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55" name=""/>
              <p:cNvGraphicFramePr/>
              <p:nvPr/>
            </p:nvGraphicFramePr>
            <p:xfrm>
              <a:off x="5934240" y="1596600"/>
              <a:ext cx="608760" cy="459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5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934240" y="1596600"/>
                        <a:ext cx="608760" cy="459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57" name=""/>
              <p:cNvGraphicFramePr/>
              <p:nvPr/>
            </p:nvGraphicFramePr>
            <p:xfrm>
              <a:off x="5220360" y="2105640"/>
              <a:ext cx="608760" cy="450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5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220360" y="2105640"/>
                        <a:ext cx="608760" cy="45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59" name=""/>
              <p:cNvGraphicFramePr/>
              <p:nvPr/>
            </p:nvGraphicFramePr>
            <p:xfrm>
              <a:off x="5934240" y="2105640"/>
              <a:ext cx="608760" cy="450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6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934240" y="2105640"/>
                        <a:ext cx="608760" cy="45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61" name=""/>
              <p:cNvGraphicFramePr/>
              <p:nvPr/>
            </p:nvGraphicFramePr>
            <p:xfrm>
              <a:off x="5220360" y="2614680"/>
              <a:ext cx="608760" cy="472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562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220360" y="2614680"/>
                        <a:ext cx="608760" cy="47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63" name=""/>
              <p:cNvSpPr/>
              <p:nvPr/>
            </p:nvSpPr>
            <p:spPr>
              <a:xfrm>
                <a:off x="4842360" y="2287440"/>
                <a:ext cx="125640" cy="10908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64" name=""/>
              <p:cNvCxnSpPr>
                <a:stCxn id="2563" idx="6"/>
              </p:cNvCxnSpPr>
              <p:nvPr/>
            </p:nvCxnSpPr>
            <p:spPr>
              <a:xfrm flipV="1">
                <a:off x="4973400" y="1833120"/>
                <a:ext cx="247320" cy="509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65" name=""/>
              <p:cNvCxnSpPr>
                <a:stCxn id="2563" idx="6"/>
              </p:cNvCxnSpPr>
              <p:nvPr/>
            </p:nvCxnSpPr>
            <p:spPr>
              <a:xfrm flipV="1">
                <a:off x="4973400" y="2329920"/>
                <a:ext cx="247320" cy="11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66" name=""/>
              <p:cNvCxnSpPr>
                <a:stCxn id="2563" idx="6"/>
              </p:cNvCxnSpPr>
              <p:nvPr/>
            </p:nvCxnSpPr>
            <p:spPr>
              <a:xfrm>
                <a:off x="4973400" y="2342160"/>
                <a:ext cx="247320" cy="509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67" name=""/>
              <p:cNvCxnSpPr/>
              <p:nvPr/>
            </p:nvCxnSpPr>
            <p:spPr>
              <a:xfrm flipV="1">
                <a:off x="5834160" y="1825560"/>
                <a:ext cx="100440" cy="75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68" name=""/>
              <p:cNvCxnSpPr/>
              <p:nvPr/>
            </p:nvCxnSpPr>
            <p:spPr>
              <a:xfrm>
                <a:off x="5829120" y="2330280"/>
                <a:ext cx="1054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69" name=""/>
              <p:cNvCxnSpPr>
                <a:endCxn id="2570" idx="3"/>
              </p:cNvCxnSpPr>
              <p:nvPr/>
            </p:nvCxnSpPr>
            <p:spPr>
              <a:xfrm flipV="1">
                <a:off x="5829120" y="2385000"/>
                <a:ext cx="879480" cy="466560"/>
              </a:xfrm>
              <a:prstGeom prst="curved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70" name=""/>
              <p:cNvSpPr/>
              <p:nvPr/>
            </p:nvSpPr>
            <p:spPr>
              <a:xfrm>
                <a:off x="6690240" y="2287440"/>
                <a:ext cx="125640" cy="10908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71" name=""/>
              <p:cNvCxnSpPr>
                <a:endCxn id="2570" idx="1"/>
              </p:cNvCxnSpPr>
              <p:nvPr/>
            </p:nvCxnSpPr>
            <p:spPr>
              <a:xfrm>
                <a:off x="6542640" y="1825920"/>
                <a:ext cx="165960" cy="473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72" name=""/>
              <p:cNvCxnSpPr>
                <a:endCxn id="2570" idx="2"/>
              </p:cNvCxnSpPr>
              <p:nvPr/>
            </p:nvCxnSpPr>
            <p:spPr>
              <a:xfrm>
                <a:off x="6542640" y="2330280"/>
                <a:ext cx="142200" cy="11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73" name=""/>
              <p:cNvSpPr/>
              <p:nvPr/>
            </p:nvSpPr>
            <p:spPr>
              <a:xfrm>
                <a:off x="4800600" y="1523880"/>
                <a:ext cx="2057400" cy="1600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4" name=""/>
            <p:cNvSpPr/>
            <p:nvPr/>
          </p:nvSpPr>
          <p:spPr>
            <a:xfrm>
              <a:off x="6324480" y="274284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3276720" y="3809880"/>
            <a:ext cx="2133360" cy="1084680"/>
            <a:chOff x="3276720" y="3809880"/>
            <a:chExt cx="2133360" cy="1084680"/>
          </a:xfrm>
        </p:grpSpPr>
        <p:grpSp>
          <p:nvGrpSpPr>
            <p:cNvPr id="2576" name=""/>
            <p:cNvGrpSpPr/>
            <p:nvPr/>
          </p:nvGrpSpPr>
          <p:grpSpPr>
            <a:xfrm>
              <a:off x="3276720" y="3809880"/>
              <a:ext cx="2057400" cy="1066680"/>
              <a:chOff x="3276720" y="3809880"/>
              <a:chExt cx="2057400" cy="1066680"/>
            </a:xfrm>
          </p:grpSpPr>
          <p:graphicFrame>
            <p:nvGraphicFramePr>
              <p:cNvPr id="2577" name=""/>
              <p:cNvGraphicFramePr/>
              <p:nvPr/>
            </p:nvGraphicFramePr>
            <p:xfrm>
              <a:off x="3711600" y="4361400"/>
              <a:ext cx="583560" cy="4780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578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711600" y="4361400"/>
                        <a:ext cx="583560" cy="4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79" name=""/>
              <p:cNvGraphicFramePr/>
              <p:nvPr/>
            </p:nvGraphicFramePr>
            <p:xfrm>
              <a:off x="3711600" y="3846600"/>
              <a:ext cx="568800" cy="4780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580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3711600" y="3846600"/>
                        <a:ext cx="568800" cy="4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81" name=""/>
              <p:cNvGraphicFramePr/>
              <p:nvPr/>
            </p:nvGraphicFramePr>
            <p:xfrm>
              <a:off x="4384440" y="3846600"/>
              <a:ext cx="583560" cy="4687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2582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384440" y="3846600"/>
                        <a:ext cx="583560" cy="46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cxnSp>
            <p:nvCxnSpPr>
              <p:cNvPr id="2583" name=""/>
              <p:cNvCxnSpPr/>
              <p:nvPr/>
            </p:nvCxnSpPr>
            <p:spPr>
              <a:xfrm flipV="1">
                <a:off x="4280760" y="4080240"/>
                <a:ext cx="104400" cy="5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84" name=""/>
              <p:cNvCxnSpPr>
                <a:endCxn id="2585" idx="3"/>
              </p:cNvCxnSpPr>
              <p:nvPr/>
            </p:nvCxnSpPr>
            <p:spPr>
              <a:xfrm flipV="1">
                <a:off x="4295160" y="4386240"/>
                <a:ext cx="898200" cy="214200"/>
              </a:xfrm>
              <a:prstGeom prst="curved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86" name=""/>
              <p:cNvSpPr/>
              <p:nvPr/>
            </p:nvSpPr>
            <p:spPr>
              <a:xfrm>
                <a:off x="3315960" y="4287960"/>
                <a:ext cx="118440" cy="11016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87" name=""/>
              <p:cNvCxnSpPr>
                <a:stCxn id="2586" idx="6"/>
              </p:cNvCxnSpPr>
              <p:nvPr/>
            </p:nvCxnSpPr>
            <p:spPr>
              <a:xfrm flipV="1">
                <a:off x="3439440" y="4084920"/>
                <a:ext cx="272520" cy="2581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88" name=""/>
              <p:cNvCxnSpPr>
                <a:stCxn id="2586" idx="6"/>
              </p:cNvCxnSpPr>
              <p:nvPr/>
            </p:nvCxnSpPr>
            <p:spPr>
              <a:xfrm>
                <a:off x="3439440" y="4343400"/>
                <a:ext cx="272520" cy="2577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85" name=""/>
              <p:cNvSpPr/>
              <p:nvPr/>
            </p:nvSpPr>
            <p:spPr>
              <a:xfrm>
                <a:off x="5176080" y="4287960"/>
                <a:ext cx="118440" cy="11016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89" name=""/>
              <p:cNvCxnSpPr>
                <a:endCxn id="2585" idx="2"/>
              </p:cNvCxnSpPr>
              <p:nvPr/>
            </p:nvCxnSpPr>
            <p:spPr>
              <a:xfrm>
                <a:off x="4967640" y="4080960"/>
                <a:ext cx="203400" cy="262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90" name=""/>
              <p:cNvSpPr/>
              <p:nvPr/>
            </p:nvSpPr>
            <p:spPr>
              <a:xfrm>
                <a:off x="3276720" y="3809880"/>
                <a:ext cx="2057400" cy="1066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1" name=""/>
            <p:cNvSpPr/>
            <p:nvPr/>
          </p:nvSpPr>
          <p:spPr>
            <a:xfrm>
              <a:off x="4876920" y="4495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2" name=""/>
          <p:cNvSpPr/>
          <p:nvPr/>
        </p:nvSpPr>
        <p:spPr>
          <a:xfrm flipH="1" flipV="1">
            <a:off x="3200040" y="3123720"/>
            <a:ext cx="76212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flipV="1">
            <a:off x="4724280" y="3123720"/>
            <a:ext cx="76212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 flipH="1">
            <a:off x="4952520" y="3124080"/>
            <a:ext cx="76212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3429000" y="3124080"/>
            <a:ext cx="76212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962520" y="213372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 flipH="1">
            <a:off x="3962520" y="251460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8" name=""/>
          <p:cNvCxnSpPr>
            <a:stCxn id="2549" idx="6"/>
            <a:endCxn id="2546" idx="2"/>
          </p:cNvCxnSpPr>
          <p:nvPr/>
        </p:nvCxnSpPr>
        <p:spPr>
          <a:xfrm flipV="1">
            <a:off x="1380600" y="2208960"/>
            <a:ext cx="51516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599" name=""/>
          <p:cNvCxnSpPr>
            <a:stCxn id="2549" idx="6"/>
            <a:endCxn id="2590" idx="1"/>
          </p:cNvCxnSpPr>
          <p:nvPr/>
        </p:nvCxnSpPr>
        <p:spPr>
          <a:xfrm>
            <a:off x="1380600" y="3467160"/>
            <a:ext cx="1886760" cy="87696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600" name=""/>
          <p:cNvSpPr/>
          <p:nvPr/>
        </p:nvSpPr>
        <p:spPr>
          <a:xfrm>
            <a:off x="888840" y="990720"/>
            <a:ext cx="4368960" cy="2361960"/>
          </a:xfrm>
          <a:custGeom>
            <a:avLst/>
            <a:gdLst/>
            <a:ahLst/>
            <a:rect l="l" t="t" r="r" b="b"/>
            <a:pathLst>
              <a:path w="2752" h="1464">
                <a:moveTo>
                  <a:pt x="208" y="1464"/>
                </a:moveTo>
                <a:cubicBezTo>
                  <a:pt x="104" y="948"/>
                  <a:pt x="0" y="432"/>
                  <a:pt x="352" y="216"/>
                </a:cubicBezTo>
                <a:cubicBezTo>
                  <a:pt x="704" y="0"/>
                  <a:pt x="1920" y="152"/>
                  <a:pt x="2320" y="168"/>
                </a:cubicBezTo>
                <a:cubicBezTo>
                  <a:pt x="2720" y="184"/>
                  <a:pt x="2680" y="288"/>
                  <a:pt x="2752" y="312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1" name=""/>
          <p:cNvCxnSpPr>
            <a:stCxn id="2590" idx="3"/>
            <a:endCxn id="2550" idx="2"/>
          </p:cNvCxnSpPr>
          <p:nvPr/>
        </p:nvCxnSpPr>
        <p:spPr>
          <a:xfrm flipV="1">
            <a:off x="5343120" y="3466800"/>
            <a:ext cx="2267640" cy="87696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2602" name=""/>
          <p:cNvCxnSpPr>
            <a:stCxn id="2573" idx="3"/>
            <a:endCxn id="2550" idx="0"/>
          </p:cNvCxnSpPr>
          <p:nvPr/>
        </p:nvCxnSpPr>
        <p:spPr>
          <a:xfrm>
            <a:off x="6867360" y="2323800"/>
            <a:ext cx="867600" cy="1019880"/>
          </a:xfrm>
          <a:prstGeom prst="curvedConnector2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2603" name=""/>
          <p:cNvSpPr/>
          <p:nvPr/>
        </p:nvSpPr>
        <p:spPr>
          <a:xfrm>
            <a:off x="3048120" y="977760"/>
            <a:ext cx="5105160" cy="2374920"/>
          </a:xfrm>
          <a:custGeom>
            <a:avLst/>
            <a:gdLst/>
            <a:ahLst/>
            <a:rect l="l" t="t" r="r" b="b"/>
            <a:pathLst>
              <a:path w="3216" h="1496">
                <a:moveTo>
                  <a:pt x="0" y="344"/>
                </a:moveTo>
                <a:cubicBezTo>
                  <a:pt x="380" y="180"/>
                  <a:pt x="760" y="16"/>
                  <a:pt x="1248" y="8"/>
                </a:cubicBezTo>
                <a:cubicBezTo>
                  <a:pt x="1736" y="0"/>
                  <a:pt x="2640" y="48"/>
                  <a:pt x="2928" y="296"/>
                </a:cubicBezTo>
                <a:cubicBezTo>
                  <a:pt x="3216" y="544"/>
                  <a:pt x="2968" y="1296"/>
                  <a:pt x="2976" y="1496"/>
                </a:cubicBezTo>
              </a:path>
            </a:pathLst>
          </a:custGeom>
          <a:noFill/>
          <a:ln w="1908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4" name=""/>
          <p:cNvGraphicFramePr/>
          <p:nvPr/>
        </p:nvGraphicFramePr>
        <p:xfrm>
          <a:off x="6095880" y="4343400"/>
          <a:ext cx="2362320" cy="611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0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5880" y="4343400"/>
                    <a:ext cx="23623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6" name=""/>
          <p:cNvSpPr/>
          <p:nvPr/>
        </p:nvSpPr>
        <p:spPr>
          <a:xfrm>
            <a:off x="6019920" y="4343400"/>
            <a:ext cx="26668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624852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62940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693432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731520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769608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800100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3" name=""/>
          <p:cNvGrpSpPr/>
          <p:nvPr/>
        </p:nvGrpSpPr>
        <p:grpSpPr>
          <a:xfrm>
            <a:off x="2209680" y="2209680"/>
            <a:ext cx="228600" cy="276480"/>
            <a:chOff x="2209680" y="2209680"/>
            <a:chExt cx="228600" cy="276480"/>
          </a:xfrm>
        </p:grpSpPr>
        <p:sp>
          <p:nvSpPr>
            <p:cNvPr id="2614" name=""/>
            <p:cNvSpPr/>
            <p:nvPr/>
          </p:nvSpPr>
          <p:spPr>
            <a:xfrm>
              <a:off x="2209680" y="2209680"/>
              <a:ext cx="171360" cy="139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209680" y="220968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6" name=""/>
          <p:cNvGrpSpPr/>
          <p:nvPr/>
        </p:nvGrpSpPr>
        <p:grpSpPr>
          <a:xfrm>
            <a:off x="2666880" y="2209680"/>
            <a:ext cx="228600" cy="276480"/>
            <a:chOff x="2666880" y="2209680"/>
            <a:chExt cx="228600" cy="276480"/>
          </a:xfrm>
        </p:grpSpPr>
        <p:sp>
          <p:nvSpPr>
            <p:cNvPr id="2617" name=""/>
            <p:cNvSpPr/>
            <p:nvPr/>
          </p:nvSpPr>
          <p:spPr>
            <a:xfrm>
              <a:off x="2666880" y="2209680"/>
              <a:ext cx="171360" cy="139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666880" y="220968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9" name=""/>
          <p:cNvGrpSpPr/>
          <p:nvPr/>
        </p:nvGrpSpPr>
        <p:grpSpPr>
          <a:xfrm>
            <a:off x="3352680" y="2209680"/>
            <a:ext cx="228600" cy="276480"/>
            <a:chOff x="3352680" y="2209680"/>
            <a:chExt cx="228600" cy="276480"/>
          </a:xfrm>
        </p:grpSpPr>
        <p:sp>
          <p:nvSpPr>
            <p:cNvPr id="2620" name=""/>
            <p:cNvSpPr/>
            <p:nvPr/>
          </p:nvSpPr>
          <p:spPr>
            <a:xfrm>
              <a:off x="3352680" y="2209680"/>
              <a:ext cx="171360" cy="139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352680" y="220968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2" name=""/>
          <p:cNvGrpSpPr/>
          <p:nvPr/>
        </p:nvGrpSpPr>
        <p:grpSpPr>
          <a:xfrm>
            <a:off x="4114800" y="4495680"/>
            <a:ext cx="228600" cy="276480"/>
            <a:chOff x="4114800" y="4495680"/>
            <a:chExt cx="228600" cy="276480"/>
          </a:xfrm>
        </p:grpSpPr>
        <p:sp>
          <p:nvSpPr>
            <p:cNvPr id="2623" name=""/>
            <p:cNvSpPr/>
            <p:nvPr/>
          </p:nvSpPr>
          <p:spPr>
            <a:xfrm>
              <a:off x="4114800" y="4495680"/>
              <a:ext cx="171360" cy="139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114800" y="449568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5" name=""/>
          <p:cNvGrpSpPr/>
          <p:nvPr/>
        </p:nvGrpSpPr>
        <p:grpSpPr>
          <a:xfrm>
            <a:off x="5562720" y="2286000"/>
            <a:ext cx="228600" cy="276480"/>
            <a:chOff x="5562720" y="2286000"/>
            <a:chExt cx="228600" cy="276480"/>
          </a:xfrm>
        </p:grpSpPr>
        <p:sp>
          <p:nvSpPr>
            <p:cNvPr id="2626" name=""/>
            <p:cNvSpPr/>
            <p:nvPr/>
          </p:nvSpPr>
          <p:spPr>
            <a:xfrm>
              <a:off x="5562720" y="2286000"/>
              <a:ext cx="171360" cy="139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562720" y="228600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8" name=""/>
          <p:cNvGrpSpPr/>
          <p:nvPr/>
        </p:nvGrpSpPr>
        <p:grpSpPr>
          <a:xfrm>
            <a:off x="6324480" y="2286000"/>
            <a:ext cx="228600" cy="276480"/>
            <a:chOff x="6324480" y="2286000"/>
            <a:chExt cx="228600" cy="276480"/>
          </a:xfrm>
        </p:grpSpPr>
        <p:sp>
          <p:nvSpPr>
            <p:cNvPr id="2629" name=""/>
            <p:cNvSpPr/>
            <p:nvPr/>
          </p:nvSpPr>
          <p:spPr>
            <a:xfrm>
              <a:off x="6324480" y="2286000"/>
              <a:ext cx="171360" cy="139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324480" y="228600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1" name=""/>
          <p:cNvSpPr/>
          <p:nvPr/>
        </p:nvSpPr>
        <p:spPr>
          <a:xfrm>
            <a:off x="662940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693432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716292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769608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792468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6" name=""/>
          <p:cNvGraphicFramePr/>
          <p:nvPr/>
        </p:nvGraphicFramePr>
        <p:xfrm>
          <a:off x="3505320" y="3200400"/>
          <a:ext cx="79200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200400"/>
                    <a:ext cx="7920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8" name=""/>
          <p:cNvGraphicFramePr/>
          <p:nvPr/>
        </p:nvGraphicFramePr>
        <p:xfrm>
          <a:off x="3105000" y="2411280"/>
          <a:ext cx="77184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05000" y="2411280"/>
                    <a:ext cx="77184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0" name=""/>
          <p:cNvGraphicFramePr/>
          <p:nvPr/>
        </p:nvGraphicFramePr>
        <p:xfrm>
          <a:off x="4114800" y="2438280"/>
          <a:ext cx="792000" cy="63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438280"/>
                    <a:ext cx="79200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642" name=""/>
          <p:cNvCxnSpPr/>
          <p:nvPr/>
        </p:nvCxnSpPr>
        <p:spPr>
          <a:xfrm>
            <a:off x="3876480" y="2736720"/>
            <a:ext cx="238680" cy="2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3" name=""/>
          <p:cNvCxnSpPr>
            <a:endCxn id="2644" idx="3"/>
          </p:cNvCxnSpPr>
          <p:nvPr/>
        </p:nvCxnSpPr>
        <p:spPr>
          <a:xfrm flipV="1">
            <a:off x="4296960" y="3260520"/>
            <a:ext cx="832680" cy="2656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5" name=""/>
          <p:cNvSpPr/>
          <p:nvPr/>
        </p:nvSpPr>
        <p:spPr>
          <a:xfrm>
            <a:off x="2568600" y="3011400"/>
            <a:ext cx="160200" cy="14940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6" name=""/>
          <p:cNvCxnSpPr>
            <a:stCxn id="2645" idx="6"/>
          </p:cNvCxnSpPr>
          <p:nvPr/>
        </p:nvCxnSpPr>
        <p:spPr>
          <a:xfrm flipV="1">
            <a:off x="2736360" y="2736000"/>
            <a:ext cx="369000" cy="350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7" name=""/>
          <p:cNvCxnSpPr>
            <a:stCxn id="2645" idx="6"/>
          </p:cNvCxnSpPr>
          <p:nvPr/>
        </p:nvCxnSpPr>
        <p:spPr>
          <a:xfrm>
            <a:off x="2738520" y="3085920"/>
            <a:ext cx="767520" cy="440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4" name=""/>
          <p:cNvSpPr/>
          <p:nvPr/>
        </p:nvSpPr>
        <p:spPr>
          <a:xfrm>
            <a:off x="5105520" y="3124080"/>
            <a:ext cx="160200" cy="14940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8" name=""/>
          <p:cNvCxnSpPr>
            <a:endCxn id="2644" idx="2"/>
          </p:cNvCxnSpPr>
          <p:nvPr/>
        </p:nvCxnSpPr>
        <p:spPr>
          <a:xfrm>
            <a:off x="4906440" y="2757600"/>
            <a:ext cx="189720" cy="442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9" name=""/>
          <p:cNvGrpSpPr/>
          <p:nvPr/>
        </p:nvGrpSpPr>
        <p:grpSpPr>
          <a:xfrm>
            <a:off x="838080" y="685800"/>
            <a:ext cx="2362320" cy="1663560"/>
            <a:chOff x="838080" y="685800"/>
            <a:chExt cx="2362320" cy="1663560"/>
          </a:xfrm>
        </p:grpSpPr>
        <p:grpSp>
          <p:nvGrpSpPr>
            <p:cNvPr id="2650" name=""/>
            <p:cNvGrpSpPr/>
            <p:nvPr/>
          </p:nvGrpSpPr>
          <p:grpSpPr>
            <a:xfrm>
              <a:off x="1311120" y="995400"/>
              <a:ext cx="316080" cy="399960"/>
              <a:chOff x="1311120" y="995400"/>
              <a:chExt cx="316080" cy="399960"/>
            </a:xfrm>
          </p:grpSpPr>
          <p:sp>
            <p:nvSpPr>
              <p:cNvPr id="2651" name=""/>
              <p:cNvSpPr/>
              <p:nvPr/>
            </p:nvSpPr>
            <p:spPr>
              <a:xfrm>
                <a:off x="1311120" y="995400"/>
                <a:ext cx="31608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1406520" y="105012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3" name=""/>
            <p:cNvSpPr/>
            <p:nvPr/>
          </p:nvSpPr>
          <p:spPr>
            <a:xfrm>
              <a:off x="850680" y="1363680"/>
              <a:ext cx="155520" cy="19548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046320" y="1444680"/>
              <a:ext cx="154080" cy="2048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5" name=""/>
            <p:cNvCxnSpPr>
              <a:stCxn id="2653" idx="6"/>
              <a:endCxn id="2651" idx="2"/>
            </p:cNvCxnSpPr>
            <p:nvPr/>
          </p:nvCxnSpPr>
          <p:spPr>
            <a:xfrm flipV="1">
              <a:off x="1015920" y="1196280"/>
              <a:ext cx="286560" cy="266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6" name=""/>
            <p:cNvCxnSpPr>
              <a:stCxn id="2657" idx="6"/>
              <a:endCxn id="2654" idx="2"/>
            </p:cNvCxnSpPr>
            <p:nvPr/>
          </p:nvCxnSpPr>
          <p:spPr>
            <a:xfrm>
              <a:off x="2739960" y="1196640"/>
              <a:ext cx="29736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658" name=""/>
            <p:cNvGrpSpPr/>
            <p:nvPr/>
          </p:nvGrpSpPr>
          <p:grpSpPr>
            <a:xfrm>
              <a:off x="1311120" y="1649520"/>
              <a:ext cx="316080" cy="399960"/>
              <a:chOff x="1311120" y="1649520"/>
              <a:chExt cx="316080" cy="399960"/>
            </a:xfrm>
          </p:grpSpPr>
          <p:sp>
            <p:nvSpPr>
              <p:cNvPr id="2659" name=""/>
              <p:cNvSpPr/>
              <p:nvPr/>
            </p:nvSpPr>
            <p:spPr>
              <a:xfrm>
                <a:off x="1311120" y="1649520"/>
                <a:ext cx="31608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1406520" y="170532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1" name=""/>
            <p:cNvGrpSpPr/>
            <p:nvPr/>
          </p:nvGrpSpPr>
          <p:grpSpPr>
            <a:xfrm>
              <a:off x="1863720" y="1332000"/>
              <a:ext cx="314280" cy="399960"/>
              <a:chOff x="1863720" y="1332000"/>
              <a:chExt cx="314280" cy="399960"/>
            </a:xfrm>
          </p:grpSpPr>
          <p:sp>
            <p:nvSpPr>
              <p:cNvPr id="2662" name=""/>
              <p:cNvSpPr/>
              <p:nvPr/>
            </p:nvSpPr>
            <p:spPr>
              <a:xfrm>
                <a:off x="1863720" y="1332000"/>
                <a:ext cx="31428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958400" y="1387800"/>
                <a:ext cx="14400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4" name=""/>
            <p:cNvGrpSpPr/>
            <p:nvPr/>
          </p:nvGrpSpPr>
          <p:grpSpPr>
            <a:xfrm>
              <a:off x="2414520" y="995400"/>
              <a:ext cx="315720" cy="399960"/>
              <a:chOff x="2414520" y="995400"/>
              <a:chExt cx="315720" cy="399960"/>
            </a:xfrm>
          </p:grpSpPr>
          <p:sp>
            <p:nvSpPr>
              <p:cNvPr id="2657" name=""/>
              <p:cNvSpPr/>
              <p:nvPr/>
            </p:nvSpPr>
            <p:spPr>
              <a:xfrm>
                <a:off x="2414520" y="995400"/>
                <a:ext cx="3157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2509920" y="105012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6" name=""/>
            <p:cNvGrpSpPr/>
            <p:nvPr/>
          </p:nvGrpSpPr>
          <p:grpSpPr>
            <a:xfrm>
              <a:off x="2414520" y="1649520"/>
              <a:ext cx="315720" cy="399960"/>
              <a:chOff x="2414520" y="1649520"/>
              <a:chExt cx="315720" cy="399960"/>
            </a:xfrm>
          </p:grpSpPr>
          <p:sp>
            <p:nvSpPr>
              <p:cNvPr id="2667" name=""/>
              <p:cNvSpPr/>
              <p:nvPr/>
            </p:nvSpPr>
            <p:spPr>
              <a:xfrm>
                <a:off x="2414520" y="1649520"/>
                <a:ext cx="3157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2509920" y="170532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669" name=""/>
            <p:cNvCxnSpPr>
              <a:stCxn id="2653" idx="6"/>
              <a:endCxn id="2659" idx="2"/>
            </p:cNvCxnSpPr>
            <p:nvPr/>
          </p:nvCxnSpPr>
          <p:spPr>
            <a:xfrm>
              <a:off x="1015920" y="1462320"/>
              <a:ext cx="286560" cy="389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0" name=""/>
            <p:cNvCxnSpPr>
              <a:stCxn id="2667" idx="6"/>
              <a:endCxn id="2654" idx="2"/>
            </p:cNvCxnSpPr>
            <p:nvPr/>
          </p:nvCxnSpPr>
          <p:spPr>
            <a:xfrm flipV="1">
              <a:off x="2739960" y="1547640"/>
              <a:ext cx="297360" cy="303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1" name=""/>
            <p:cNvCxnSpPr>
              <a:stCxn id="2662" idx="6"/>
              <a:endCxn id="2657" idx="2"/>
            </p:cNvCxnSpPr>
            <p:nvPr/>
          </p:nvCxnSpPr>
          <p:spPr>
            <a:xfrm flipV="1">
              <a:off x="2188800" y="1196280"/>
              <a:ext cx="216360" cy="335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2" name=""/>
            <p:cNvCxnSpPr>
              <a:stCxn id="2662" idx="6"/>
              <a:endCxn id="2667" idx="2"/>
            </p:cNvCxnSpPr>
            <p:nvPr/>
          </p:nvCxnSpPr>
          <p:spPr>
            <a:xfrm>
              <a:off x="2188800" y="1532160"/>
              <a:ext cx="216360" cy="319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3" name=""/>
            <p:cNvCxnSpPr>
              <a:stCxn id="2651" idx="6"/>
              <a:endCxn id="2662" idx="2"/>
            </p:cNvCxnSpPr>
            <p:nvPr/>
          </p:nvCxnSpPr>
          <p:spPr>
            <a:xfrm>
              <a:off x="1636560" y="1196640"/>
              <a:ext cx="216720" cy="335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4" name=""/>
            <p:cNvCxnSpPr>
              <a:stCxn id="2659" idx="6"/>
              <a:endCxn id="2662" idx="2"/>
            </p:cNvCxnSpPr>
            <p:nvPr/>
          </p:nvCxnSpPr>
          <p:spPr>
            <a:xfrm flipV="1">
              <a:off x="1636560" y="1531800"/>
              <a:ext cx="216720" cy="319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5" name=""/>
            <p:cNvSpPr/>
            <p:nvPr/>
          </p:nvSpPr>
          <p:spPr>
            <a:xfrm>
              <a:off x="917280" y="914400"/>
              <a:ext cx="47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838080" y="164952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133360" y="129564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020680" y="173196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1066680" y="68580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990360" y="205740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1523880" y="106704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057400" y="68580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133360" y="205740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4" name=""/>
          <p:cNvGrpSpPr/>
          <p:nvPr/>
        </p:nvGrpSpPr>
        <p:grpSpPr>
          <a:xfrm>
            <a:off x="685800" y="3200400"/>
            <a:ext cx="2349000" cy="1085760"/>
            <a:chOff x="685800" y="3200400"/>
            <a:chExt cx="2349000" cy="1085760"/>
          </a:xfrm>
        </p:grpSpPr>
        <p:grpSp>
          <p:nvGrpSpPr>
            <p:cNvPr id="2685" name=""/>
            <p:cNvGrpSpPr/>
            <p:nvPr/>
          </p:nvGrpSpPr>
          <p:grpSpPr>
            <a:xfrm>
              <a:off x="1145880" y="3205080"/>
              <a:ext cx="315720" cy="399960"/>
              <a:chOff x="1145880" y="3205080"/>
              <a:chExt cx="315720" cy="399960"/>
            </a:xfrm>
          </p:grpSpPr>
          <p:sp>
            <p:nvSpPr>
              <p:cNvPr id="2686" name=""/>
              <p:cNvSpPr/>
              <p:nvPr/>
            </p:nvSpPr>
            <p:spPr>
              <a:xfrm>
                <a:off x="1145880" y="3205080"/>
                <a:ext cx="3157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1241280" y="325980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8" name=""/>
            <p:cNvSpPr/>
            <p:nvPr/>
          </p:nvSpPr>
          <p:spPr>
            <a:xfrm>
              <a:off x="685800" y="3573360"/>
              <a:ext cx="155160" cy="19548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881080" y="3654360"/>
              <a:ext cx="153720" cy="2048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0" name=""/>
            <p:cNvCxnSpPr>
              <a:stCxn id="2688" idx="6"/>
              <a:endCxn id="2686" idx="2"/>
            </p:cNvCxnSpPr>
            <p:nvPr/>
          </p:nvCxnSpPr>
          <p:spPr>
            <a:xfrm flipV="1">
              <a:off x="850320" y="3405960"/>
              <a:ext cx="286200" cy="266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1" name=""/>
            <p:cNvCxnSpPr>
              <a:stCxn id="2692" idx="6"/>
              <a:endCxn id="2689" idx="2"/>
            </p:cNvCxnSpPr>
            <p:nvPr/>
          </p:nvCxnSpPr>
          <p:spPr>
            <a:xfrm>
              <a:off x="2574360" y="3406320"/>
              <a:ext cx="29700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693" name=""/>
            <p:cNvGrpSpPr/>
            <p:nvPr/>
          </p:nvGrpSpPr>
          <p:grpSpPr>
            <a:xfrm>
              <a:off x="1130040" y="3886200"/>
              <a:ext cx="315720" cy="399960"/>
              <a:chOff x="1130040" y="3886200"/>
              <a:chExt cx="315720" cy="399960"/>
            </a:xfrm>
          </p:grpSpPr>
          <p:sp>
            <p:nvSpPr>
              <p:cNvPr id="2694" name=""/>
              <p:cNvSpPr/>
              <p:nvPr/>
            </p:nvSpPr>
            <p:spPr>
              <a:xfrm>
                <a:off x="1130040" y="3886200"/>
                <a:ext cx="3157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1225440" y="394200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6" name=""/>
            <p:cNvGrpSpPr/>
            <p:nvPr/>
          </p:nvGrpSpPr>
          <p:grpSpPr>
            <a:xfrm>
              <a:off x="1663560" y="3200400"/>
              <a:ext cx="313920" cy="399960"/>
              <a:chOff x="1663560" y="3200400"/>
              <a:chExt cx="313920" cy="399960"/>
            </a:xfrm>
          </p:grpSpPr>
          <p:sp>
            <p:nvSpPr>
              <p:cNvPr id="2697" name=""/>
              <p:cNvSpPr/>
              <p:nvPr/>
            </p:nvSpPr>
            <p:spPr>
              <a:xfrm>
                <a:off x="1663560" y="3200400"/>
                <a:ext cx="3139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758240" y="3256200"/>
                <a:ext cx="14400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9" name=""/>
            <p:cNvGrpSpPr/>
            <p:nvPr/>
          </p:nvGrpSpPr>
          <p:grpSpPr>
            <a:xfrm>
              <a:off x="2249280" y="3205080"/>
              <a:ext cx="315360" cy="399960"/>
              <a:chOff x="2249280" y="3205080"/>
              <a:chExt cx="315360" cy="399960"/>
            </a:xfrm>
          </p:grpSpPr>
          <p:sp>
            <p:nvSpPr>
              <p:cNvPr id="2692" name=""/>
              <p:cNvSpPr/>
              <p:nvPr/>
            </p:nvSpPr>
            <p:spPr>
              <a:xfrm>
                <a:off x="2249280" y="3205080"/>
                <a:ext cx="31536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2344320" y="3259800"/>
                <a:ext cx="1443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1" name=""/>
            <p:cNvGrpSpPr/>
            <p:nvPr/>
          </p:nvGrpSpPr>
          <p:grpSpPr>
            <a:xfrm>
              <a:off x="2273040" y="3886200"/>
              <a:ext cx="315720" cy="399960"/>
              <a:chOff x="2273040" y="3886200"/>
              <a:chExt cx="315720" cy="399960"/>
            </a:xfrm>
          </p:grpSpPr>
          <p:sp>
            <p:nvSpPr>
              <p:cNvPr id="2702" name=""/>
              <p:cNvSpPr/>
              <p:nvPr/>
            </p:nvSpPr>
            <p:spPr>
              <a:xfrm>
                <a:off x="2273040" y="3886200"/>
                <a:ext cx="3157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2368440" y="394200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04" name=""/>
            <p:cNvCxnSpPr>
              <a:stCxn id="2688" idx="6"/>
              <a:endCxn id="2694" idx="2"/>
            </p:cNvCxnSpPr>
            <p:nvPr/>
          </p:nvCxnSpPr>
          <p:spPr>
            <a:xfrm>
              <a:off x="850320" y="3671640"/>
              <a:ext cx="270360" cy="415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5" name=""/>
            <p:cNvCxnSpPr>
              <a:stCxn id="2702" idx="6"/>
              <a:endCxn id="2689" idx="2"/>
            </p:cNvCxnSpPr>
            <p:nvPr/>
          </p:nvCxnSpPr>
          <p:spPr>
            <a:xfrm flipV="1">
              <a:off x="2598120" y="3757320"/>
              <a:ext cx="273240" cy="329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6" name=""/>
            <p:cNvCxnSpPr>
              <a:stCxn id="2697" idx="6"/>
              <a:endCxn id="2692" idx="2"/>
            </p:cNvCxnSpPr>
            <p:nvPr/>
          </p:nvCxnSpPr>
          <p:spPr>
            <a:xfrm>
              <a:off x="1987200" y="3400200"/>
              <a:ext cx="252720" cy="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7" name=""/>
            <p:cNvCxnSpPr>
              <a:stCxn id="2697" idx="6"/>
              <a:endCxn id="2702" idx="2"/>
            </p:cNvCxnSpPr>
            <p:nvPr/>
          </p:nvCxnSpPr>
          <p:spPr>
            <a:xfrm>
              <a:off x="1986840" y="3400200"/>
              <a:ext cx="276840" cy="686520"/>
            </a:xfrm>
            <a:prstGeom prst="straightConnector1">
              <a:avLst/>
            </a:prstGeom>
            <a:ln w="19080">
              <a:solidFill>
                <a:srgbClr val="3333cc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708" name=""/>
            <p:cNvCxnSpPr>
              <a:stCxn id="2686" idx="6"/>
              <a:endCxn id="2697" idx="2"/>
            </p:cNvCxnSpPr>
            <p:nvPr/>
          </p:nvCxnSpPr>
          <p:spPr>
            <a:xfrm flipV="1">
              <a:off x="1471320" y="3399840"/>
              <a:ext cx="182520" cy="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9" name=""/>
            <p:cNvCxnSpPr>
              <a:stCxn id="2694" idx="6"/>
              <a:endCxn id="2697" idx="2"/>
            </p:cNvCxnSpPr>
            <p:nvPr/>
          </p:nvCxnSpPr>
          <p:spPr>
            <a:xfrm flipV="1">
              <a:off x="1455480" y="3399840"/>
              <a:ext cx="198720" cy="686520"/>
            </a:xfrm>
            <a:prstGeom prst="straightConnector1">
              <a:avLst/>
            </a:prstGeom>
            <a:ln w="19080">
              <a:solidFill>
                <a:srgbClr val="3333cc"/>
              </a:solidFill>
              <a:prstDash val="sysDot"/>
              <a:miter/>
              <a:tailEnd len="med" type="triangle" w="med"/>
            </a:ln>
          </p:spPr>
        </p:cxnSp>
        <p:grpSp>
          <p:nvGrpSpPr>
            <p:cNvPr id="2710" name=""/>
            <p:cNvGrpSpPr/>
            <p:nvPr/>
          </p:nvGrpSpPr>
          <p:grpSpPr>
            <a:xfrm>
              <a:off x="1663560" y="3886200"/>
              <a:ext cx="313920" cy="399960"/>
              <a:chOff x="1663560" y="3886200"/>
              <a:chExt cx="313920" cy="399960"/>
            </a:xfrm>
          </p:grpSpPr>
          <p:sp>
            <p:nvSpPr>
              <p:cNvPr id="2711" name=""/>
              <p:cNvSpPr/>
              <p:nvPr/>
            </p:nvSpPr>
            <p:spPr>
              <a:xfrm>
                <a:off x="1663560" y="3886200"/>
                <a:ext cx="3139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758240" y="3942000"/>
                <a:ext cx="14400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3" name=""/>
            <p:cNvCxnSpPr>
              <a:stCxn id="2694" idx="6"/>
              <a:endCxn id="2711" idx="2"/>
            </p:cNvCxnSpPr>
            <p:nvPr/>
          </p:nvCxnSpPr>
          <p:spPr>
            <a:xfrm>
              <a:off x="1455480" y="4086000"/>
              <a:ext cx="198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4" name=""/>
            <p:cNvCxnSpPr>
              <a:stCxn id="2711" idx="6"/>
              <a:endCxn id="2702" idx="2"/>
            </p:cNvCxnSpPr>
            <p:nvPr/>
          </p:nvCxnSpPr>
          <p:spPr>
            <a:xfrm>
              <a:off x="1986840" y="4086000"/>
              <a:ext cx="276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5" name=""/>
            <p:cNvCxnSpPr>
              <a:stCxn id="2711" idx="6"/>
              <a:endCxn id="2692" idx="2"/>
            </p:cNvCxnSpPr>
            <p:nvPr/>
          </p:nvCxnSpPr>
          <p:spPr>
            <a:xfrm flipV="1">
              <a:off x="1987200" y="3404880"/>
              <a:ext cx="252720" cy="681840"/>
            </a:xfrm>
            <a:prstGeom prst="straightConnector1">
              <a:avLst/>
            </a:prstGeom>
            <a:ln w="19080">
              <a:solidFill>
                <a:srgbClr val="3333cc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716" name=""/>
            <p:cNvCxnSpPr>
              <a:stCxn id="2686" idx="6"/>
              <a:endCxn id="2711" idx="2"/>
            </p:cNvCxnSpPr>
            <p:nvPr/>
          </p:nvCxnSpPr>
          <p:spPr>
            <a:xfrm>
              <a:off x="1471320" y="3405240"/>
              <a:ext cx="182520" cy="681840"/>
            </a:xfrm>
            <a:prstGeom prst="straightConnector1">
              <a:avLst/>
            </a:prstGeom>
            <a:ln w="19080">
              <a:solidFill>
                <a:srgbClr val="3333cc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2717" name=""/>
          <p:cNvGrpSpPr/>
          <p:nvPr/>
        </p:nvGrpSpPr>
        <p:grpSpPr>
          <a:xfrm>
            <a:off x="4267080" y="1143000"/>
            <a:ext cx="2897280" cy="2044440"/>
            <a:chOff x="4267080" y="1143000"/>
            <a:chExt cx="2897280" cy="2044440"/>
          </a:xfrm>
        </p:grpSpPr>
        <p:grpSp>
          <p:nvGrpSpPr>
            <p:cNvPr id="2718" name=""/>
            <p:cNvGrpSpPr/>
            <p:nvPr/>
          </p:nvGrpSpPr>
          <p:grpSpPr>
            <a:xfrm>
              <a:off x="5045040" y="1150920"/>
              <a:ext cx="316080" cy="403200"/>
              <a:chOff x="5045040" y="1150920"/>
              <a:chExt cx="316080" cy="403200"/>
            </a:xfrm>
          </p:grpSpPr>
          <p:sp>
            <p:nvSpPr>
              <p:cNvPr id="2719" name=""/>
              <p:cNvSpPr/>
              <p:nvPr/>
            </p:nvSpPr>
            <p:spPr>
              <a:xfrm>
                <a:off x="5045040" y="115092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140440" y="120600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1" name=""/>
            <p:cNvSpPr/>
            <p:nvPr/>
          </p:nvSpPr>
          <p:spPr>
            <a:xfrm>
              <a:off x="4267080" y="1905120"/>
              <a:ext cx="155520" cy="19656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010280" y="1905120"/>
              <a:ext cx="154080" cy="20628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23" name=""/>
            <p:cNvCxnSpPr>
              <a:stCxn id="2721" idx="6"/>
              <a:endCxn id="2719" idx="2"/>
            </p:cNvCxnSpPr>
            <p:nvPr/>
          </p:nvCxnSpPr>
          <p:spPr>
            <a:xfrm flipV="1">
              <a:off x="4432320" y="1352160"/>
              <a:ext cx="603720" cy="65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4" name=""/>
            <p:cNvCxnSpPr>
              <a:stCxn id="2725" idx="6"/>
              <a:endCxn id="2722" idx="2"/>
            </p:cNvCxnSpPr>
            <p:nvPr/>
          </p:nvCxnSpPr>
          <p:spPr>
            <a:xfrm>
              <a:off x="6725880" y="1344240"/>
              <a:ext cx="275400" cy="664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726" name=""/>
            <p:cNvGrpSpPr/>
            <p:nvPr/>
          </p:nvGrpSpPr>
          <p:grpSpPr>
            <a:xfrm>
              <a:off x="5045040" y="1809720"/>
              <a:ext cx="316080" cy="403200"/>
              <a:chOff x="5045040" y="1809720"/>
              <a:chExt cx="316080" cy="403200"/>
            </a:xfrm>
          </p:grpSpPr>
          <p:sp>
            <p:nvSpPr>
              <p:cNvPr id="2727" name=""/>
              <p:cNvSpPr/>
              <p:nvPr/>
            </p:nvSpPr>
            <p:spPr>
              <a:xfrm>
                <a:off x="5045040" y="180972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5140440" y="186624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9" name=""/>
            <p:cNvGrpSpPr/>
            <p:nvPr/>
          </p:nvGrpSpPr>
          <p:grpSpPr>
            <a:xfrm>
              <a:off x="5562720" y="1828800"/>
              <a:ext cx="314280" cy="403200"/>
              <a:chOff x="5562720" y="1828800"/>
              <a:chExt cx="314280" cy="403200"/>
            </a:xfrm>
          </p:grpSpPr>
          <p:sp>
            <p:nvSpPr>
              <p:cNvPr id="2730" name=""/>
              <p:cNvSpPr/>
              <p:nvPr/>
            </p:nvSpPr>
            <p:spPr>
              <a:xfrm>
                <a:off x="5562720" y="1828800"/>
                <a:ext cx="3142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657400" y="1885320"/>
                <a:ext cx="14400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2" name=""/>
            <p:cNvGrpSpPr/>
            <p:nvPr/>
          </p:nvGrpSpPr>
          <p:grpSpPr>
            <a:xfrm>
              <a:off x="6400800" y="1143000"/>
              <a:ext cx="316080" cy="403200"/>
              <a:chOff x="6400800" y="1143000"/>
              <a:chExt cx="316080" cy="403200"/>
            </a:xfrm>
          </p:grpSpPr>
          <p:sp>
            <p:nvSpPr>
              <p:cNvPr id="2725" name=""/>
              <p:cNvSpPr/>
              <p:nvPr/>
            </p:nvSpPr>
            <p:spPr>
              <a:xfrm>
                <a:off x="6400800" y="114300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6496200" y="119808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4" name=""/>
            <p:cNvGrpSpPr/>
            <p:nvPr/>
          </p:nvGrpSpPr>
          <p:grpSpPr>
            <a:xfrm>
              <a:off x="6400800" y="1828800"/>
              <a:ext cx="316080" cy="403200"/>
              <a:chOff x="6400800" y="1828800"/>
              <a:chExt cx="316080" cy="403200"/>
            </a:xfrm>
          </p:grpSpPr>
          <p:sp>
            <p:nvSpPr>
              <p:cNvPr id="2735" name=""/>
              <p:cNvSpPr/>
              <p:nvPr/>
            </p:nvSpPr>
            <p:spPr>
              <a:xfrm>
                <a:off x="6400800" y="182880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496200" y="188532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37" name=""/>
            <p:cNvCxnSpPr>
              <a:stCxn id="2721" idx="6"/>
              <a:endCxn id="2727" idx="2"/>
            </p:cNvCxnSpPr>
            <p:nvPr/>
          </p:nvCxnSpPr>
          <p:spPr>
            <a:xfrm>
              <a:off x="4432320" y="2003400"/>
              <a:ext cx="603720" cy="8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8" name=""/>
            <p:cNvCxnSpPr>
              <a:stCxn id="2735" idx="6"/>
              <a:endCxn id="2722" idx="2"/>
            </p:cNvCxnSpPr>
            <p:nvPr/>
          </p:nvCxnSpPr>
          <p:spPr>
            <a:xfrm flipV="1">
              <a:off x="6725880" y="2007720"/>
              <a:ext cx="275400" cy="23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9" name=""/>
            <p:cNvCxnSpPr>
              <a:stCxn id="2730" idx="6"/>
              <a:endCxn id="2725" idx="2"/>
            </p:cNvCxnSpPr>
            <p:nvPr/>
          </p:nvCxnSpPr>
          <p:spPr>
            <a:xfrm flipV="1">
              <a:off x="5886000" y="1343880"/>
              <a:ext cx="50580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0" name=""/>
            <p:cNvCxnSpPr>
              <a:stCxn id="2730" idx="6"/>
              <a:endCxn id="2735" idx="2"/>
            </p:cNvCxnSpPr>
            <p:nvPr/>
          </p:nvCxnSpPr>
          <p:spPr>
            <a:xfrm>
              <a:off x="5886000" y="2030040"/>
              <a:ext cx="5058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1" name=""/>
            <p:cNvCxnSpPr>
              <a:stCxn id="2719" idx="6"/>
              <a:endCxn id="2730" idx="2"/>
            </p:cNvCxnSpPr>
            <p:nvPr/>
          </p:nvCxnSpPr>
          <p:spPr>
            <a:xfrm>
              <a:off x="5370120" y="1352160"/>
              <a:ext cx="183240" cy="678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2" name=""/>
            <p:cNvCxnSpPr>
              <a:stCxn id="2727" idx="6"/>
              <a:endCxn id="2730" idx="2"/>
            </p:cNvCxnSpPr>
            <p:nvPr/>
          </p:nvCxnSpPr>
          <p:spPr>
            <a:xfrm>
              <a:off x="5370120" y="2010960"/>
              <a:ext cx="183240" cy="19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43" name=""/>
            <p:cNvSpPr/>
            <p:nvPr/>
          </p:nvSpPr>
          <p:spPr>
            <a:xfrm>
              <a:off x="4495680" y="129528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943600" y="175248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648320" y="289548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s 1 à 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257800" y="274320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095880" y="289548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s 5 à 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8" name=""/>
            <p:cNvGrpSpPr/>
            <p:nvPr/>
          </p:nvGrpSpPr>
          <p:grpSpPr>
            <a:xfrm>
              <a:off x="5029200" y="2438280"/>
              <a:ext cx="316080" cy="403200"/>
              <a:chOff x="5029200" y="2438280"/>
              <a:chExt cx="316080" cy="403200"/>
            </a:xfrm>
          </p:grpSpPr>
          <p:sp>
            <p:nvSpPr>
              <p:cNvPr id="2749" name=""/>
              <p:cNvSpPr/>
              <p:nvPr/>
            </p:nvSpPr>
            <p:spPr>
              <a:xfrm>
                <a:off x="5029200" y="243828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124600" y="2493360"/>
                <a:ext cx="1443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400800" y="2438280"/>
              <a:ext cx="316080" cy="403200"/>
              <a:chOff x="6400800" y="2438280"/>
              <a:chExt cx="316080" cy="403200"/>
            </a:xfrm>
          </p:grpSpPr>
          <p:sp>
            <p:nvSpPr>
              <p:cNvPr id="2752" name=""/>
              <p:cNvSpPr/>
              <p:nvPr/>
            </p:nvSpPr>
            <p:spPr>
              <a:xfrm>
                <a:off x="6400800" y="243828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496200" y="2493360"/>
                <a:ext cx="1443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54" name=""/>
            <p:cNvCxnSpPr>
              <a:stCxn id="2721" idx="6"/>
              <a:endCxn id="2749" idx="2"/>
            </p:cNvCxnSpPr>
            <p:nvPr/>
          </p:nvCxnSpPr>
          <p:spPr>
            <a:xfrm>
              <a:off x="4432320" y="2003400"/>
              <a:ext cx="588240" cy="637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5" name=""/>
            <p:cNvCxnSpPr>
              <a:stCxn id="2749" idx="6"/>
              <a:endCxn id="2730" idx="2"/>
            </p:cNvCxnSpPr>
            <p:nvPr/>
          </p:nvCxnSpPr>
          <p:spPr>
            <a:xfrm flipV="1">
              <a:off x="5354280" y="2029680"/>
              <a:ext cx="19908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6" name=""/>
            <p:cNvCxnSpPr>
              <a:stCxn id="2730" idx="6"/>
              <a:endCxn id="2752" idx="2"/>
            </p:cNvCxnSpPr>
            <p:nvPr/>
          </p:nvCxnSpPr>
          <p:spPr>
            <a:xfrm>
              <a:off x="5886000" y="2030040"/>
              <a:ext cx="50580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7" name=""/>
            <p:cNvCxnSpPr>
              <a:stCxn id="2752" idx="6"/>
              <a:endCxn id="2722" idx="2"/>
            </p:cNvCxnSpPr>
            <p:nvPr/>
          </p:nvCxnSpPr>
          <p:spPr>
            <a:xfrm flipV="1">
              <a:off x="6725880" y="2007360"/>
              <a:ext cx="275400" cy="632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8" name=""/>
            <p:cNvSpPr/>
            <p:nvPr/>
          </p:nvSpPr>
          <p:spPr>
            <a:xfrm>
              <a:off x="4572000" y="175248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419720" y="228600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791320" y="144792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791320" y="228600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2" name=""/>
          <p:cNvGrpSpPr/>
          <p:nvPr/>
        </p:nvGrpSpPr>
        <p:grpSpPr>
          <a:xfrm>
            <a:off x="5197320" y="3894120"/>
            <a:ext cx="316080" cy="403200"/>
            <a:chOff x="5197320" y="3894120"/>
            <a:chExt cx="316080" cy="403200"/>
          </a:xfrm>
        </p:grpSpPr>
        <p:sp>
          <p:nvSpPr>
            <p:cNvPr id="2763" name=""/>
            <p:cNvSpPr/>
            <p:nvPr/>
          </p:nvSpPr>
          <p:spPr>
            <a:xfrm>
              <a:off x="5197320" y="389412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292720" y="394920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5" name=""/>
          <p:cNvSpPr/>
          <p:nvPr/>
        </p:nvSpPr>
        <p:spPr>
          <a:xfrm>
            <a:off x="4419720" y="4648320"/>
            <a:ext cx="155520" cy="19656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7391520" y="4648320"/>
            <a:ext cx="153720" cy="20628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7" name=""/>
          <p:cNvCxnSpPr>
            <a:stCxn id="2765" idx="6"/>
            <a:endCxn id="2763" idx="2"/>
          </p:cNvCxnSpPr>
          <p:nvPr/>
        </p:nvCxnSpPr>
        <p:spPr>
          <a:xfrm flipV="1">
            <a:off x="4584600" y="4095360"/>
            <a:ext cx="603720" cy="65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8" name=""/>
          <p:cNvCxnSpPr>
            <a:stCxn id="2769" idx="6"/>
            <a:endCxn id="2766" idx="2"/>
          </p:cNvCxnSpPr>
          <p:nvPr/>
        </p:nvCxnSpPr>
        <p:spPr>
          <a:xfrm>
            <a:off x="7106760" y="4087440"/>
            <a:ext cx="275400" cy="664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70" name=""/>
          <p:cNvGrpSpPr/>
          <p:nvPr/>
        </p:nvGrpSpPr>
        <p:grpSpPr>
          <a:xfrm>
            <a:off x="5197320" y="4552920"/>
            <a:ext cx="316080" cy="403200"/>
            <a:chOff x="5197320" y="4552920"/>
            <a:chExt cx="316080" cy="403200"/>
          </a:xfrm>
        </p:grpSpPr>
        <p:sp>
          <p:nvSpPr>
            <p:cNvPr id="2771" name=""/>
            <p:cNvSpPr/>
            <p:nvPr/>
          </p:nvSpPr>
          <p:spPr>
            <a:xfrm>
              <a:off x="5197320" y="455292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292720" y="460944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3" name=""/>
          <p:cNvGrpSpPr/>
          <p:nvPr/>
        </p:nvGrpSpPr>
        <p:grpSpPr>
          <a:xfrm>
            <a:off x="5867280" y="4267080"/>
            <a:ext cx="314280" cy="403200"/>
            <a:chOff x="5867280" y="4267080"/>
            <a:chExt cx="314280" cy="403200"/>
          </a:xfrm>
        </p:grpSpPr>
        <p:sp>
          <p:nvSpPr>
            <p:cNvPr id="2774" name=""/>
            <p:cNvSpPr/>
            <p:nvPr/>
          </p:nvSpPr>
          <p:spPr>
            <a:xfrm>
              <a:off x="5867280" y="4267080"/>
              <a:ext cx="3142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961960" y="4323600"/>
              <a:ext cx="144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6" name=""/>
          <p:cNvGrpSpPr/>
          <p:nvPr/>
        </p:nvGrpSpPr>
        <p:grpSpPr>
          <a:xfrm>
            <a:off x="6781680" y="3886200"/>
            <a:ext cx="316080" cy="403200"/>
            <a:chOff x="6781680" y="3886200"/>
            <a:chExt cx="316080" cy="403200"/>
          </a:xfrm>
        </p:grpSpPr>
        <p:sp>
          <p:nvSpPr>
            <p:cNvPr id="2769" name=""/>
            <p:cNvSpPr/>
            <p:nvPr/>
          </p:nvSpPr>
          <p:spPr>
            <a:xfrm>
              <a:off x="6781680" y="388620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877080" y="394128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8" name=""/>
          <p:cNvGrpSpPr/>
          <p:nvPr/>
        </p:nvGrpSpPr>
        <p:grpSpPr>
          <a:xfrm>
            <a:off x="6781680" y="4572000"/>
            <a:ext cx="316080" cy="403200"/>
            <a:chOff x="6781680" y="4572000"/>
            <a:chExt cx="316080" cy="403200"/>
          </a:xfrm>
        </p:grpSpPr>
        <p:sp>
          <p:nvSpPr>
            <p:cNvPr id="2779" name=""/>
            <p:cNvSpPr/>
            <p:nvPr/>
          </p:nvSpPr>
          <p:spPr>
            <a:xfrm>
              <a:off x="6781680" y="457200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877080" y="462852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1" name=""/>
          <p:cNvCxnSpPr>
            <a:stCxn id="2765" idx="6"/>
            <a:endCxn id="2771" idx="2"/>
          </p:cNvCxnSpPr>
          <p:nvPr/>
        </p:nvCxnSpPr>
        <p:spPr>
          <a:xfrm>
            <a:off x="4584600" y="4746600"/>
            <a:ext cx="60372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2" name=""/>
          <p:cNvCxnSpPr>
            <a:stCxn id="2779" idx="6"/>
            <a:endCxn id="2766" idx="2"/>
          </p:cNvCxnSpPr>
          <p:nvPr/>
        </p:nvCxnSpPr>
        <p:spPr>
          <a:xfrm flipV="1">
            <a:off x="7106760" y="4750920"/>
            <a:ext cx="275400" cy="23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3" name=""/>
          <p:cNvCxnSpPr>
            <a:stCxn id="2774" idx="6"/>
            <a:endCxn id="2769" idx="2"/>
          </p:cNvCxnSpPr>
          <p:nvPr/>
        </p:nvCxnSpPr>
        <p:spPr>
          <a:xfrm flipV="1">
            <a:off x="6191280" y="4087440"/>
            <a:ext cx="58140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4" name=""/>
          <p:cNvCxnSpPr>
            <a:stCxn id="2774" idx="6"/>
            <a:endCxn id="2779" idx="2"/>
          </p:cNvCxnSpPr>
          <p:nvPr/>
        </p:nvCxnSpPr>
        <p:spPr>
          <a:xfrm>
            <a:off x="6191280" y="4468320"/>
            <a:ext cx="58140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5" name=""/>
          <p:cNvCxnSpPr>
            <a:stCxn id="2763" idx="6"/>
            <a:endCxn id="2774" idx="2"/>
          </p:cNvCxnSpPr>
          <p:nvPr/>
        </p:nvCxnSpPr>
        <p:spPr>
          <a:xfrm>
            <a:off x="5522400" y="4095720"/>
            <a:ext cx="335880" cy="37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6" name=""/>
          <p:cNvCxnSpPr>
            <a:stCxn id="2771" idx="6"/>
            <a:endCxn id="2774" idx="2"/>
          </p:cNvCxnSpPr>
          <p:nvPr/>
        </p:nvCxnSpPr>
        <p:spPr>
          <a:xfrm flipV="1">
            <a:off x="5522400" y="4468320"/>
            <a:ext cx="3358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7" name=""/>
          <p:cNvSpPr/>
          <p:nvPr/>
        </p:nvSpPr>
        <p:spPr>
          <a:xfrm>
            <a:off x="4648320" y="40384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4800600" y="563868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3333cc"/>
                </a:solidFill>
                <a:latin typeface="Times New Roman"/>
              </a:rPr>
              <a:t>états 1 à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5715000" y="518148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3333cc"/>
                </a:solidFill>
                <a:latin typeface="Times New Roman"/>
              </a:rPr>
              <a:t>états 4 et 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6477120" y="563868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3333cc"/>
                </a:solidFill>
                <a:latin typeface="Times New Roman"/>
              </a:rPr>
              <a:t>états 5 à 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1" name=""/>
          <p:cNvGrpSpPr/>
          <p:nvPr/>
        </p:nvGrpSpPr>
        <p:grpSpPr>
          <a:xfrm>
            <a:off x="5181480" y="5181480"/>
            <a:ext cx="316080" cy="403200"/>
            <a:chOff x="5181480" y="5181480"/>
            <a:chExt cx="316080" cy="403200"/>
          </a:xfrm>
        </p:grpSpPr>
        <p:sp>
          <p:nvSpPr>
            <p:cNvPr id="2792" name=""/>
            <p:cNvSpPr/>
            <p:nvPr/>
          </p:nvSpPr>
          <p:spPr>
            <a:xfrm>
              <a:off x="5181480" y="518148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276880" y="5236560"/>
              <a:ext cx="1443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4" name=""/>
          <p:cNvGrpSpPr/>
          <p:nvPr/>
        </p:nvGrpSpPr>
        <p:grpSpPr>
          <a:xfrm>
            <a:off x="6781680" y="5181480"/>
            <a:ext cx="316080" cy="403200"/>
            <a:chOff x="6781680" y="5181480"/>
            <a:chExt cx="316080" cy="403200"/>
          </a:xfrm>
        </p:grpSpPr>
        <p:sp>
          <p:nvSpPr>
            <p:cNvPr id="2795" name=""/>
            <p:cNvSpPr/>
            <p:nvPr/>
          </p:nvSpPr>
          <p:spPr>
            <a:xfrm>
              <a:off x="6781680" y="518148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877080" y="5236560"/>
              <a:ext cx="1443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97" name=""/>
          <p:cNvCxnSpPr>
            <a:stCxn id="2765" idx="6"/>
            <a:endCxn id="2792" idx="2"/>
          </p:cNvCxnSpPr>
          <p:nvPr/>
        </p:nvCxnSpPr>
        <p:spPr>
          <a:xfrm>
            <a:off x="4584600" y="4746600"/>
            <a:ext cx="588240" cy="63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8" name=""/>
          <p:cNvCxnSpPr>
            <a:stCxn id="2792" idx="6"/>
            <a:endCxn id="2799" idx="2"/>
          </p:cNvCxnSpPr>
          <p:nvPr/>
        </p:nvCxnSpPr>
        <p:spPr>
          <a:xfrm flipV="1">
            <a:off x="5506560" y="5001840"/>
            <a:ext cx="35136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0" name=""/>
          <p:cNvCxnSpPr>
            <a:stCxn id="2799" idx="6"/>
            <a:endCxn id="2795" idx="2"/>
          </p:cNvCxnSpPr>
          <p:nvPr/>
        </p:nvCxnSpPr>
        <p:spPr>
          <a:xfrm>
            <a:off x="6191280" y="5002200"/>
            <a:ext cx="58140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1" name=""/>
          <p:cNvCxnSpPr>
            <a:stCxn id="2795" idx="6"/>
            <a:endCxn id="2766" idx="2"/>
          </p:cNvCxnSpPr>
          <p:nvPr/>
        </p:nvCxnSpPr>
        <p:spPr>
          <a:xfrm flipV="1">
            <a:off x="7106760" y="4750560"/>
            <a:ext cx="275400" cy="63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2" name=""/>
          <p:cNvSpPr/>
          <p:nvPr/>
        </p:nvSpPr>
        <p:spPr>
          <a:xfrm>
            <a:off x="4724280" y="44956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4572000" y="502920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4" name=""/>
          <p:cNvGrpSpPr/>
          <p:nvPr/>
        </p:nvGrpSpPr>
        <p:grpSpPr>
          <a:xfrm>
            <a:off x="5867280" y="4800600"/>
            <a:ext cx="314280" cy="403200"/>
            <a:chOff x="5867280" y="4800600"/>
            <a:chExt cx="314280" cy="403200"/>
          </a:xfrm>
        </p:grpSpPr>
        <p:sp>
          <p:nvSpPr>
            <p:cNvPr id="2799" name=""/>
            <p:cNvSpPr/>
            <p:nvPr/>
          </p:nvSpPr>
          <p:spPr>
            <a:xfrm>
              <a:off x="5867280" y="4800600"/>
              <a:ext cx="3142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961960" y="4857120"/>
              <a:ext cx="144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6" name=""/>
          <p:cNvSpPr/>
          <p:nvPr/>
        </p:nvSpPr>
        <p:spPr>
          <a:xfrm>
            <a:off x="1752480" y="6477120"/>
            <a:ext cx="4343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7" name=""/>
          <p:cNvCxnSpPr>
            <a:stCxn id="2799" idx="6"/>
            <a:endCxn id="2779" idx="2"/>
          </p:cNvCxnSpPr>
          <p:nvPr/>
        </p:nvCxnSpPr>
        <p:spPr>
          <a:xfrm flipV="1">
            <a:off x="6191280" y="4772880"/>
            <a:ext cx="58140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8" name=""/>
          <p:cNvSpPr/>
          <p:nvPr/>
        </p:nvSpPr>
        <p:spPr>
          <a:xfrm>
            <a:off x="6172200" y="457200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6248520" y="42670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6172200" y="396252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6248520" y="487692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2" name=""/>
          <p:cNvGrpSpPr/>
          <p:nvPr/>
        </p:nvGrpSpPr>
        <p:grpSpPr>
          <a:xfrm>
            <a:off x="1905120" y="2209680"/>
            <a:ext cx="3508200" cy="2514600"/>
            <a:chOff x="1905120" y="2209680"/>
            <a:chExt cx="3508200" cy="2514600"/>
          </a:xfrm>
        </p:grpSpPr>
        <p:graphicFrame>
          <p:nvGraphicFramePr>
            <p:cNvPr id="2813" name=""/>
            <p:cNvGraphicFramePr/>
            <p:nvPr/>
          </p:nvGraphicFramePr>
          <p:xfrm>
            <a:off x="2286000" y="2895480"/>
            <a:ext cx="531720" cy="52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2895480"/>
                      <a:ext cx="53172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5" name=""/>
            <p:cNvGraphicFramePr/>
            <p:nvPr/>
          </p:nvGraphicFramePr>
          <p:xfrm>
            <a:off x="2287440" y="3519360"/>
            <a:ext cx="684360" cy="67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7440" y="3519360"/>
                      <a:ext cx="684360" cy="67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7" name=""/>
            <p:cNvGraphicFramePr/>
            <p:nvPr/>
          </p:nvGraphicFramePr>
          <p:xfrm>
            <a:off x="3352680" y="2895480"/>
            <a:ext cx="608040" cy="45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52680" y="2895480"/>
                      <a:ext cx="608040" cy="45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9" name=""/>
            <p:cNvGraphicFramePr/>
            <p:nvPr/>
          </p:nvGraphicFramePr>
          <p:xfrm>
            <a:off x="3429000" y="3581280"/>
            <a:ext cx="455760" cy="519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29000" y="3581280"/>
                      <a:ext cx="45576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21" name=""/>
            <p:cNvGraphicFramePr/>
            <p:nvPr/>
          </p:nvGraphicFramePr>
          <p:xfrm>
            <a:off x="3352680" y="2209680"/>
            <a:ext cx="534960" cy="533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2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52680" y="2209680"/>
                      <a:ext cx="5349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3" name=""/>
            <p:cNvSpPr/>
            <p:nvPr/>
          </p:nvSpPr>
          <p:spPr>
            <a:xfrm>
              <a:off x="1905120" y="34290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257800" y="2971800"/>
              <a:ext cx="155520" cy="2048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25" name=""/>
            <p:cNvCxnSpPr>
              <a:stCxn id="2823" idx="6"/>
            </p:cNvCxnSpPr>
            <p:nvPr/>
          </p:nvCxnSpPr>
          <p:spPr>
            <a:xfrm flipV="1">
              <a:off x="2066400" y="3158640"/>
              <a:ext cx="219960" cy="347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6" name=""/>
            <p:cNvCxnSpPr>
              <a:endCxn id="2824" idx="2"/>
            </p:cNvCxnSpPr>
            <p:nvPr/>
          </p:nvCxnSpPr>
          <p:spPr>
            <a:xfrm flipV="1">
              <a:off x="4665240" y="3074760"/>
              <a:ext cx="583560" cy="452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7" name=""/>
            <p:cNvCxnSpPr>
              <a:stCxn id="2823" idx="6"/>
            </p:cNvCxnSpPr>
            <p:nvPr/>
          </p:nvCxnSpPr>
          <p:spPr>
            <a:xfrm>
              <a:off x="2066400" y="3505320"/>
              <a:ext cx="22140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8" name=""/>
            <p:cNvCxnSpPr>
              <a:endCxn id="2824" idx="2"/>
            </p:cNvCxnSpPr>
            <p:nvPr/>
          </p:nvCxnSpPr>
          <p:spPr>
            <a:xfrm flipV="1">
              <a:off x="4741560" y="3074400"/>
              <a:ext cx="506880" cy="1130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aphicFrame>
          <p:nvGraphicFramePr>
            <p:cNvPr id="2829" name=""/>
            <p:cNvGraphicFramePr/>
            <p:nvPr/>
          </p:nvGraphicFramePr>
          <p:xfrm>
            <a:off x="4343400" y="3962520"/>
            <a:ext cx="398520" cy="484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43400" y="3962520"/>
                      <a:ext cx="39852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1" name=""/>
            <p:cNvGraphicFramePr/>
            <p:nvPr/>
          </p:nvGraphicFramePr>
          <p:xfrm>
            <a:off x="4191120" y="3276720"/>
            <a:ext cx="474480" cy="501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3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191120" y="3276720"/>
                      <a:ext cx="474480" cy="5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3" name=""/>
            <p:cNvGraphicFramePr/>
            <p:nvPr/>
          </p:nvGraphicFramePr>
          <p:xfrm>
            <a:off x="4191120" y="2362320"/>
            <a:ext cx="609480" cy="453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3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91120" y="2362320"/>
                      <a:ext cx="60948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835" name=""/>
            <p:cNvCxnSpPr/>
            <p:nvPr/>
          </p:nvCxnSpPr>
          <p:spPr>
            <a:xfrm flipV="1">
              <a:off x="2817720" y="3120480"/>
              <a:ext cx="535680" cy="38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6" name=""/>
            <p:cNvCxnSpPr/>
            <p:nvPr/>
          </p:nvCxnSpPr>
          <p:spPr>
            <a:xfrm flipV="1">
              <a:off x="2817720" y="2476440"/>
              <a:ext cx="535680" cy="682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7" name=""/>
            <p:cNvCxnSpPr/>
            <p:nvPr/>
          </p:nvCxnSpPr>
          <p:spPr>
            <a:xfrm>
              <a:off x="3887280" y="2476080"/>
              <a:ext cx="304200" cy="11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8" name=""/>
            <p:cNvCxnSpPr/>
            <p:nvPr/>
          </p:nvCxnSpPr>
          <p:spPr>
            <a:xfrm>
              <a:off x="3884760" y="3841560"/>
              <a:ext cx="459360" cy="36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9" name=""/>
            <p:cNvCxnSpPr/>
            <p:nvPr/>
          </p:nvCxnSpPr>
          <p:spPr>
            <a:xfrm flipV="1">
              <a:off x="2971800" y="3841200"/>
              <a:ext cx="457920" cy="14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40" name=""/>
            <p:cNvCxnSpPr/>
            <p:nvPr/>
          </p:nvCxnSpPr>
          <p:spPr>
            <a:xfrm>
              <a:off x="3960720" y="3121200"/>
              <a:ext cx="231120" cy="406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41" name=""/>
            <p:cNvCxnSpPr>
              <a:endCxn id="2824" idx="2"/>
            </p:cNvCxnSpPr>
            <p:nvPr/>
          </p:nvCxnSpPr>
          <p:spPr>
            <a:xfrm flipV="1">
              <a:off x="3960360" y="3074760"/>
              <a:ext cx="1288440" cy="46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42" name=""/>
            <p:cNvSpPr/>
            <p:nvPr/>
          </p:nvSpPr>
          <p:spPr>
            <a:xfrm>
              <a:off x="3809880" y="3200400"/>
              <a:ext cx="1521000" cy="1523880"/>
            </a:xfrm>
            <a:custGeom>
              <a:avLst/>
              <a:gdLst/>
              <a:ahLst/>
              <a:rect l="l" t="t" r="r" b="b"/>
              <a:pathLst>
                <a:path w="1680" h="1712">
                  <a:moveTo>
                    <a:pt x="0" y="672"/>
                  </a:moveTo>
                  <a:cubicBezTo>
                    <a:pt x="80" y="1064"/>
                    <a:pt x="160" y="1456"/>
                    <a:pt x="384" y="1584"/>
                  </a:cubicBezTo>
                  <a:cubicBezTo>
                    <a:pt x="608" y="1712"/>
                    <a:pt x="1128" y="1704"/>
                    <a:pt x="1344" y="1440"/>
                  </a:cubicBezTo>
                  <a:cubicBezTo>
                    <a:pt x="1560" y="1176"/>
                    <a:pt x="1624" y="240"/>
                    <a:pt x="168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3" name=""/>
            <p:cNvCxnSpPr>
              <a:endCxn id="2824" idx="2"/>
            </p:cNvCxnSpPr>
            <p:nvPr/>
          </p:nvCxnSpPr>
          <p:spPr>
            <a:xfrm>
              <a:off x="4800600" y="2589120"/>
              <a:ext cx="448560" cy="486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4" name=""/>
          <p:cNvGrpSpPr/>
          <p:nvPr/>
        </p:nvGrpSpPr>
        <p:grpSpPr>
          <a:xfrm>
            <a:off x="1595520" y="1177920"/>
            <a:ext cx="315720" cy="403200"/>
            <a:chOff x="1595520" y="1177920"/>
            <a:chExt cx="315720" cy="403200"/>
          </a:xfrm>
        </p:grpSpPr>
        <p:sp>
          <p:nvSpPr>
            <p:cNvPr id="2845" name=""/>
            <p:cNvSpPr/>
            <p:nvPr/>
          </p:nvSpPr>
          <p:spPr>
            <a:xfrm>
              <a:off x="1595520" y="117792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1690920" y="123300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7" name=""/>
          <p:cNvSpPr/>
          <p:nvPr/>
        </p:nvSpPr>
        <p:spPr>
          <a:xfrm>
            <a:off x="1595520" y="1836720"/>
            <a:ext cx="315720" cy="403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8" name=""/>
          <p:cNvGrpSpPr/>
          <p:nvPr/>
        </p:nvGrpSpPr>
        <p:grpSpPr>
          <a:xfrm>
            <a:off x="2209680" y="1828800"/>
            <a:ext cx="314280" cy="403200"/>
            <a:chOff x="2209680" y="1828800"/>
            <a:chExt cx="314280" cy="403200"/>
          </a:xfrm>
        </p:grpSpPr>
        <p:sp>
          <p:nvSpPr>
            <p:cNvPr id="2849" name=""/>
            <p:cNvSpPr/>
            <p:nvPr/>
          </p:nvSpPr>
          <p:spPr>
            <a:xfrm>
              <a:off x="2209680" y="1828800"/>
              <a:ext cx="3142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2304360" y="188640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1" name=""/>
          <p:cNvGrpSpPr/>
          <p:nvPr/>
        </p:nvGrpSpPr>
        <p:grpSpPr>
          <a:xfrm>
            <a:off x="2895480" y="914400"/>
            <a:ext cx="316080" cy="403200"/>
            <a:chOff x="2895480" y="914400"/>
            <a:chExt cx="316080" cy="403200"/>
          </a:xfrm>
        </p:grpSpPr>
        <p:sp>
          <p:nvSpPr>
            <p:cNvPr id="2852" name=""/>
            <p:cNvSpPr/>
            <p:nvPr/>
          </p:nvSpPr>
          <p:spPr>
            <a:xfrm>
              <a:off x="2895480" y="91440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2990880" y="96948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4" name=""/>
          <p:cNvSpPr/>
          <p:nvPr/>
        </p:nvSpPr>
        <p:spPr>
          <a:xfrm>
            <a:off x="2895480" y="1447920"/>
            <a:ext cx="316080" cy="403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5" name=""/>
          <p:cNvCxnSpPr>
            <a:stCxn id="2849" idx="6"/>
            <a:endCxn id="2852" idx="2"/>
          </p:cNvCxnSpPr>
          <p:nvPr/>
        </p:nvCxnSpPr>
        <p:spPr>
          <a:xfrm flipV="1">
            <a:off x="2533320" y="1115640"/>
            <a:ext cx="35316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6" name=""/>
          <p:cNvCxnSpPr>
            <a:stCxn id="2849" idx="6"/>
            <a:endCxn id="2854" idx="2"/>
          </p:cNvCxnSpPr>
          <p:nvPr/>
        </p:nvCxnSpPr>
        <p:spPr>
          <a:xfrm flipV="1">
            <a:off x="2533320" y="1649160"/>
            <a:ext cx="353160" cy="38160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857" name=""/>
          <p:cNvCxnSpPr>
            <a:stCxn id="2845" idx="6"/>
            <a:endCxn id="2849" idx="2"/>
          </p:cNvCxnSpPr>
          <p:nvPr/>
        </p:nvCxnSpPr>
        <p:spPr>
          <a:xfrm>
            <a:off x="1920960" y="1379520"/>
            <a:ext cx="280080" cy="65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8" name=""/>
          <p:cNvCxnSpPr>
            <a:stCxn id="2847" idx="6"/>
            <a:endCxn id="2849" idx="2"/>
          </p:cNvCxnSpPr>
          <p:nvPr/>
        </p:nvCxnSpPr>
        <p:spPr>
          <a:xfrm flipV="1">
            <a:off x="1920960" y="2030040"/>
            <a:ext cx="280080" cy="86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59" name=""/>
          <p:cNvSpPr/>
          <p:nvPr/>
        </p:nvSpPr>
        <p:spPr>
          <a:xfrm>
            <a:off x="762120" y="190512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3333cc"/>
                </a:solidFill>
                <a:latin typeface="Times New Roman"/>
              </a:rPr>
              <a:t>états A</a:t>
            </a:r>
            <a:r>
              <a:rPr b="1" i="1" lang="fr-FR" sz="1300" spc="-1" strike="noStrike" baseline="30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3124080" y="18288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3333cc"/>
                </a:solidFill>
                <a:latin typeface="Times New Roman"/>
              </a:rPr>
              <a:t>états B</a:t>
            </a:r>
            <a:r>
              <a:rPr b="1" i="1" lang="fr-FR" sz="1300" spc="-1" strike="noStrike" baseline="30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1" name=""/>
          <p:cNvGrpSpPr/>
          <p:nvPr/>
        </p:nvGrpSpPr>
        <p:grpSpPr>
          <a:xfrm>
            <a:off x="1579680" y="2465280"/>
            <a:ext cx="315720" cy="403200"/>
            <a:chOff x="1579680" y="2465280"/>
            <a:chExt cx="315720" cy="403200"/>
          </a:xfrm>
        </p:grpSpPr>
        <p:sp>
          <p:nvSpPr>
            <p:cNvPr id="2862" name=""/>
            <p:cNvSpPr/>
            <p:nvPr/>
          </p:nvSpPr>
          <p:spPr>
            <a:xfrm>
              <a:off x="1579680" y="246528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675080" y="2520360"/>
              <a:ext cx="144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4" name=""/>
          <p:cNvGrpSpPr/>
          <p:nvPr/>
        </p:nvGrpSpPr>
        <p:grpSpPr>
          <a:xfrm>
            <a:off x="2895480" y="2514600"/>
            <a:ext cx="316080" cy="403200"/>
            <a:chOff x="2895480" y="2514600"/>
            <a:chExt cx="316080" cy="403200"/>
          </a:xfrm>
        </p:grpSpPr>
        <p:sp>
          <p:nvSpPr>
            <p:cNvPr id="2865" name=""/>
            <p:cNvSpPr/>
            <p:nvPr/>
          </p:nvSpPr>
          <p:spPr>
            <a:xfrm>
              <a:off x="2895480" y="251460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990880" y="2569680"/>
              <a:ext cx="1443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67" name=""/>
          <p:cNvCxnSpPr>
            <a:stCxn id="2862" idx="6"/>
            <a:endCxn id="2849" idx="2"/>
          </p:cNvCxnSpPr>
          <p:nvPr/>
        </p:nvCxnSpPr>
        <p:spPr>
          <a:xfrm flipV="1">
            <a:off x="1905120" y="2030040"/>
            <a:ext cx="295560" cy="63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8" name=""/>
          <p:cNvCxnSpPr>
            <a:stCxn id="2849" idx="6"/>
            <a:endCxn id="2865" idx="2"/>
          </p:cNvCxnSpPr>
          <p:nvPr/>
        </p:nvCxnSpPr>
        <p:spPr>
          <a:xfrm>
            <a:off x="2533320" y="2030040"/>
            <a:ext cx="35316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69" name=""/>
          <p:cNvGrpSpPr/>
          <p:nvPr/>
        </p:nvGrpSpPr>
        <p:grpSpPr>
          <a:xfrm>
            <a:off x="2895480" y="1981080"/>
            <a:ext cx="316080" cy="403200"/>
            <a:chOff x="2895480" y="1981080"/>
            <a:chExt cx="316080" cy="403200"/>
          </a:xfrm>
        </p:grpSpPr>
        <p:sp>
          <p:nvSpPr>
            <p:cNvPr id="2870" name=""/>
            <p:cNvSpPr/>
            <p:nvPr/>
          </p:nvSpPr>
          <p:spPr>
            <a:xfrm>
              <a:off x="2895480" y="198108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2990880" y="203760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2" name=""/>
          <p:cNvCxnSpPr>
            <a:stCxn id="2849" idx="6"/>
            <a:endCxn id="2870" idx="2"/>
          </p:cNvCxnSpPr>
          <p:nvPr/>
        </p:nvCxnSpPr>
        <p:spPr>
          <a:xfrm>
            <a:off x="2533320" y="2030040"/>
            <a:ext cx="35316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73" name=""/>
          <p:cNvGrpSpPr/>
          <p:nvPr/>
        </p:nvGrpSpPr>
        <p:grpSpPr>
          <a:xfrm>
            <a:off x="5257800" y="2971800"/>
            <a:ext cx="316080" cy="403200"/>
            <a:chOff x="5257800" y="2971800"/>
            <a:chExt cx="316080" cy="403200"/>
          </a:xfrm>
        </p:grpSpPr>
        <p:sp>
          <p:nvSpPr>
            <p:cNvPr id="2874" name=""/>
            <p:cNvSpPr/>
            <p:nvPr/>
          </p:nvSpPr>
          <p:spPr>
            <a:xfrm>
              <a:off x="5257800" y="297180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353200" y="302688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6" name=""/>
          <p:cNvSpPr/>
          <p:nvPr/>
        </p:nvSpPr>
        <p:spPr>
          <a:xfrm>
            <a:off x="5257800" y="3630600"/>
            <a:ext cx="316080" cy="403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7" name=""/>
          <p:cNvGrpSpPr/>
          <p:nvPr/>
        </p:nvGrpSpPr>
        <p:grpSpPr>
          <a:xfrm>
            <a:off x="6095880" y="3124080"/>
            <a:ext cx="314280" cy="403200"/>
            <a:chOff x="6095880" y="3124080"/>
            <a:chExt cx="314280" cy="403200"/>
          </a:xfrm>
        </p:grpSpPr>
        <p:sp>
          <p:nvSpPr>
            <p:cNvPr id="2878" name=""/>
            <p:cNvSpPr/>
            <p:nvPr/>
          </p:nvSpPr>
          <p:spPr>
            <a:xfrm>
              <a:off x="6095880" y="3124080"/>
              <a:ext cx="3142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190560" y="318168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0" name=""/>
          <p:cNvGrpSpPr/>
          <p:nvPr/>
        </p:nvGrpSpPr>
        <p:grpSpPr>
          <a:xfrm>
            <a:off x="6705720" y="2590920"/>
            <a:ext cx="315720" cy="403200"/>
            <a:chOff x="6705720" y="2590920"/>
            <a:chExt cx="315720" cy="403200"/>
          </a:xfrm>
        </p:grpSpPr>
        <p:sp>
          <p:nvSpPr>
            <p:cNvPr id="2881" name=""/>
            <p:cNvSpPr/>
            <p:nvPr/>
          </p:nvSpPr>
          <p:spPr>
            <a:xfrm>
              <a:off x="6705720" y="259092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801120" y="264600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3" name=""/>
          <p:cNvSpPr/>
          <p:nvPr/>
        </p:nvSpPr>
        <p:spPr>
          <a:xfrm>
            <a:off x="6705720" y="3124080"/>
            <a:ext cx="315720" cy="403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4" name=""/>
          <p:cNvCxnSpPr>
            <a:stCxn id="2878" idx="6"/>
            <a:endCxn id="2881" idx="2"/>
          </p:cNvCxnSpPr>
          <p:nvPr/>
        </p:nvCxnSpPr>
        <p:spPr>
          <a:xfrm flipV="1">
            <a:off x="6419520" y="2791800"/>
            <a:ext cx="27684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5" name=""/>
          <p:cNvCxnSpPr>
            <a:stCxn id="2878" idx="6"/>
            <a:endCxn id="2883" idx="2"/>
          </p:cNvCxnSpPr>
          <p:nvPr/>
        </p:nvCxnSpPr>
        <p:spPr>
          <a:xfrm>
            <a:off x="6419520" y="3325320"/>
            <a:ext cx="2768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886" name=""/>
          <p:cNvCxnSpPr>
            <a:stCxn id="2874" idx="6"/>
            <a:endCxn id="2878" idx="2"/>
          </p:cNvCxnSpPr>
          <p:nvPr/>
        </p:nvCxnSpPr>
        <p:spPr>
          <a:xfrm>
            <a:off x="5583240" y="3173040"/>
            <a:ext cx="50400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7" name=""/>
          <p:cNvCxnSpPr>
            <a:stCxn id="2876" idx="6"/>
            <a:endCxn id="2878" idx="2"/>
          </p:cNvCxnSpPr>
          <p:nvPr/>
        </p:nvCxnSpPr>
        <p:spPr>
          <a:xfrm flipV="1">
            <a:off x="5583240" y="3325320"/>
            <a:ext cx="504000" cy="5068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88" name=""/>
          <p:cNvSpPr/>
          <p:nvPr/>
        </p:nvSpPr>
        <p:spPr>
          <a:xfrm>
            <a:off x="4572000" y="335268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3333cc"/>
                </a:solidFill>
                <a:latin typeface="Times New Roman"/>
              </a:rPr>
              <a:t>états A</a:t>
            </a:r>
            <a:r>
              <a:rPr b="1" i="1" lang="fr-FR" sz="1300" spc="-1" strike="noStrike" baseline="30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6934320" y="34290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3333cc"/>
                </a:solidFill>
                <a:latin typeface="Times New Roman"/>
              </a:rPr>
              <a:t>états B</a:t>
            </a:r>
            <a:r>
              <a:rPr b="1" i="1" lang="fr-FR" sz="1300" spc="-1" strike="noStrike" baseline="30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241960" y="4259160"/>
            <a:ext cx="315720" cy="403200"/>
            <a:chOff x="5241960" y="4259160"/>
            <a:chExt cx="315720" cy="403200"/>
          </a:xfrm>
        </p:grpSpPr>
        <p:sp>
          <p:nvSpPr>
            <p:cNvPr id="2891" name=""/>
            <p:cNvSpPr/>
            <p:nvPr/>
          </p:nvSpPr>
          <p:spPr>
            <a:xfrm>
              <a:off x="5241960" y="425916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5337360" y="4314240"/>
              <a:ext cx="144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6705720" y="4191120"/>
            <a:ext cx="315720" cy="403200"/>
            <a:chOff x="6705720" y="4191120"/>
            <a:chExt cx="315720" cy="403200"/>
          </a:xfrm>
        </p:grpSpPr>
        <p:sp>
          <p:nvSpPr>
            <p:cNvPr id="2894" name=""/>
            <p:cNvSpPr/>
            <p:nvPr/>
          </p:nvSpPr>
          <p:spPr>
            <a:xfrm>
              <a:off x="6705720" y="419112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801120" y="4246200"/>
              <a:ext cx="144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96" name=""/>
          <p:cNvCxnSpPr>
            <a:stCxn id="2891" idx="6"/>
            <a:endCxn id="2878" idx="2"/>
          </p:cNvCxnSpPr>
          <p:nvPr/>
        </p:nvCxnSpPr>
        <p:spPr>
          <a:xfrm flipV="1">
            <a:off x="5567400" y="3324960"/>
            <a:ext cx="519840" cy="1135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7" name=""/>
          <p:cNvCxnSpPr>
            <a:stCxn id="2898" idx="6"/>
            <a:endCxn id="2894" idx="2"/>
          </p:cNvCxnSpPr>
          <p:nvPr/>
        </p:nvCxnSpPr>
        <p:spPr>
          <a:xfrm>
            <a:off x="6486480" y="4392360"/>
            <a:ext cx="210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99" name=""/>
          <p:cNvGrpSpPr/>
          <p:nvPr/>
        </p:nvGrpSpPr>
        <p:grpSpPr>
          <a:xfrm>
            <a:off x="6705720" y="3657600"/>
            <a:ext cx="315720" cy="403200"/>
            <a:chOff x="6705720" y="3657600"/>
            <a:chExt cx="315720" cy="403200"/>
          </a:xfrm>
        </p:grpSpPr>
        <p:sp>
          <p:nvSpPr>
            <p:cNvPr id="2900" name=""/>
            <p:cNvSpPr/>
            <p:nvPr/>
          </p:nvSpPr>
          <p:spPr>
            <a:xfrm>
              <a:off x="6705720" y="365760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6801120" y="371412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02" name=""/>
          <p:cNvCxnSpPr>
            <a:stCxn id="2878" idx="6"/>
            <a:endCxn id="2900" idx="2"/>
          </p:cNvCxnSpPr>
          <p:nvPr/>
        </p:nvCxnSpPr>
        <p:spPr>
          <a:xfrm>
            <a:off x="6419520" y="3325680"/>
            <a:ext cx="27684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03" name=""/>
          <p:cNvGrpSpPr/>
          <p:nvPr/>
        </p:nvGrpSpPr>
        <p:grpSpPr>
          <a:xfrm>
            <a:off x="6019920" y="4191120"/>
            <a:ext cx="457200" cy="493200"/>
            <a:chOff x="6019920" y="4191120"/>
            <a:chExt cx="457200" cy="493200"/>
          </a:xfrm>
        </p:grpSpPr>
        <p:sp>
          <p:nvSpPr>
            <p:cNvPr id="2898" name=""/>
            <p:cNvSpPr/>
            <p:nvPr/>
          </p:nvSpPr>
          <p:spPr>
            <a:xfrm>
              <a:off x="6019920" y="4191120"/>
              <a:ext cx="457200" cy="402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6157080" y="4248360"/>
              <a:ext cx="212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05" name=""/>
          <p:cNvCxnSpPr>
            <a:stCxn id="2874" idx="6"/>
            <a:endCxn id="2898" idx="2"/>
          </p:cNvCxnSpPr>
          <p:nvPr/>
        </p:nvCxnSpPr>
        <p:spPr>
          <a:xfrm>
            <a:off x="5583240" y="3173040"/>
            <a:ext cx="427680" cy="1220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6" name=""/>
          <p:cNvCxnSpPr>
            <a:stCxn id="2876" idx="6"/>
            <a:endCxn id="2898" idx="2"/>
          </p:cNvCxnSpPr>
          <p:nvPr/>
        </p:nvCxnSpPr>
        <p:spPr>
          <a:xfrm>
            <a:off x="5583240" y="3831840"/>
            <a:ext cx="427680" cy="5612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907" name=""/>
          <p:cNvCxnSpPr>
            <a:stCxn id="2891" idx="6"/>
            <a:endCxn id="2898" idx="2"/>
          </p:cNvCxnSpPr>
          <p:nvPr/>
        </p:nvCxnSpPr>
        <p:spPr>
          <a:xfrm flipV="1">
            <a:off x="5567400" y="4392000"/>
            <a:ext cx="443520" cy="68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8" name=""/>
          <p:cNvGrpSpPr/>
          <p:nvPr/>
        </p:nvGrpSpPr>
        <p:grpSpPr>
          <a:xfrm>
            <a:off x="1219320" y="380880"/>
            <a:ext cx="5105160" cy="2438280"/>
            <a:chOff x="1219320" y="380880"/>
            <a:chExt cx="5105160" cy="2438280"/>
          </a:xfrm>
        </p:grpSpPr>
        <p:grpSp>
          <p:nvGrpSpPr>
            <p:cNvPr id="2909" name=""/>
            <p:cNvGrpSpPr/>
            <p:nvPr/>
          </p:nvGrpSpPr>
          <p:grpSpPr>
            <a:xfrm>
              <a:off x="2819520" y="380880"/>
              <a:ext cx="533160" cy="533160"/>
              <a:chOff x="2819520" y="380880"/>
              <a:chExt cx="533160" cy="533160"/>
            </a:xfrm>
          </p:grpSpPr>
          <p:sp>
            <p:nvSpPr>
              <p:cNvPr id="2910" name=""/>
              <p:cNvSpPr/>
              <p:nvPr/>
            </p:nvSpPr>
            <p:spPr>
              <a:xfrm>
                <a:off x="2819520" y="38088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2895480" y="45684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2" name=""/>
            <p:cNvGrpSpPr/>
            <p:nvPr/>
          </p:nvGrpSpPr>
          <p:grpSpPr>
            <a:xfrm>
              <a:off x="1219320" y="380880"/>
              <a:ext cx="533160" cy="533160"/>
              <a:chOff x="1219320" y="380880"/>
              <a:chExt cx="533160" cy="533160"/>
            </a:xfrm>
          </p:grpSpPr>
          <p:sp>
            <p:nvSpPr>
              <p:cNvPr id="2913" name=""/>
              <p:cNvSpPr/>
              <p:nvPr/>
            </p:nvSpPr>
            <p:spPr>
              <a:xfrm>
                <a:off x="1219320" y="38088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1295280" y="45684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5" name=""/>
            <p:cNvGrpSpPr/>
            <p:nvPr/>
          </p:nvGrpSpPr>
          <p:grpSpPr>
            <a:xfrm>
              <a:off x="1219320" y="2285640"/>
              <a:ext cx="533160" cy="533520"/>
              <a:chOff x="1219320" y="2285640"/>
              <a:chExt cx="533160" cy="533520"/>
            </a:xfrm>
          </p:grpSpPr>
          <p:sp>
            <p:nvSpPr>
              <p:cNvPr id="2916" name=""/>
              <p:cNvSpPr/>
              <p:nvPr/>
            </p:nvSpPr>
            <p:spPr>
              <a:xfrm>
                <a:off x="1219320" y="228564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1295280" y="236196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8" name=""/>
            <p:cNvGrpSpPr/>
            <p:nvPr/>
          </p:nvGrpSpPr>
          <p:grpSpPr>
            <a:xfrm>
              <a:off x="1219320" y="1371240"/>
              <a:ext cx="533160" cy="533160"/>
              <a:chOff x="1219320" y="1371240"/>
              <a:chExt cx="533160" cy="533160"/>
            </a:xfrm>
          </p:grpSpPr>
          <p:sp>
            <p:nvSpPr>
              <p:cNvPr id="2919" name=""/>
              <p:cNvSpPr/>
              <p:nvPr/>
            </p:nvSpPr>
            <p:spPr>
              <a:xfrm>
                <a:off x="1219320" y="137124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1295280" y="144720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1" name=""/>
            <p:cNvGrpSpPr/>
            <p:nvPr/>
          </p:nvGrpSpPr>
          <p:grpSpPr>
            <a:xfrm>
              <a:off x="5791320" y="380880"/>
              <a:ext cx="533160" cy="533160"/>
              <a:chOff x="5791320" y="380880"/>
              <a:chExt cx="533160" cy="533160"/>
            </a:xfrm>
          </p:grpSpPr>
          <p:sp>
            <p:nvSpPr>
              <p:cNvPr id="2922" name=""/>
              <p:cNvSpPr/>
              <p:nvPr/>
            </p:nvSpPr>
            <p:spPr>
              <a:xfrm>
                <a:off x="5791320" y="38088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867280" y="45684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4" name=""/>
            <p:cNvGrpSpPr/>
            <p:nvPr/>
          </p:nvGrpSpPr>
          <p:grpSpPr>
            <a:xfrm>
              <a:off x="5791320" y="2285640"/>
              <a:ext cx="533160" cy="533520"/>
              <a:chOff x="5791320" y="2285640"/>
              <a:chExt cx="533160" cy="533520"/>
            </a:xfrm>
          </p:grpSpPr>
          <p:sp>
            <p:nvSpPr>
              <p:cNvPr id="2925" name=""/>
              <p:cNvSpPr/>
              <p:nvPr/>
            </p:nvSpPr>
            <p:spPr>
              <a:xfrm>
                <a:off x="5791320" y="228564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867280" y="236196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7" name=""/>
            <p:cNvGrpSpPr/>
            <p:nvPr/>
          </p:nvGrpSpPr>
          <p:grpSpPr>
            <a:xfrm>
              <a:off x="5791320" y="1371240"/>
              <a:ext cx="533160" cy="533160"/>
              <a:chOff x="5791320" y="1371240"/>
              <a:chExt cx="533160" cy="533160"/>
            </a:xfrm>
          </p:grpSpPr>
          <p:sp>
            <p:nvSpPr>
              <p:cNvPr id="2928" name=""/>
              <p:cNvSpPr/>
              <p:nvPr/>
            </p:nvSpPr>
            <p:spPr>
              <a:xfrm>
                <a:off x="5791320" y="137124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867280" y="144720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30" name=""/>
            <p:cNvCxnSpPr>
              <a:stCxn id="2913" idx="6"/>
              <a:endCxn id="2910" idx="2"/>
            </p:cNvCxnSpPr>
            <p:nvPr/>
          </p:nvCxnSpPr>
          <p:spPr>
            <a:xfrm>
              <a:off x="1762200" y="647280"/>
              <a:ext cx="1048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1" name=""/>
            <p:cNvCxnSpPr>
              <a:stCxn id="2916" idx="6"/>
              <a:endCxn id="2910" idx="2"/>
            </p:cNvCxnSpPr>
            <p:nvPr/>
          </p:nvCxnSpPr>
          <p:spPr>
            <a:xfrm flipV="1">
              <a:off x="1762200" y="646920"/>
              <a:ext cx="1048320" cy="1905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2" name=""/>
            <p:cNvCxnSpPr>
              <a:stCxn id="2910" idx="6"/>
              <a:endCxn id="2925" idx="2"/>
            </p:cNvCxnSpPr>
            <p:nvPr/>
          </p:nvCxnSpPr>
          <p:spPr>
            <a:xfrm>
              <a:off x="3362400" y="647280"/>
              <a:ext cx="2419560" cy="1905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3" name=""/>
            <p:cNvCxnSpPr>
              <a:stCxn id="2910" idx="6"/>
              <a:endCxn id="2928" idx="2"/>
            </p:cNvCxnSpPr>
            <p:nvPr/>
          </p:nvCxnSpPr>
          <p:spPr>
            <a:xfrm>
              <a:off x="3362400" y="647280"/>
              <a:ext cx="2419560" cy="99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34" name=""/>
            <p:cNvCxnSpPr>
              <a:stCxn id="2919" idx="6"/>
              <a:endCxn id="2910" idx="2"/>
            </p:cNvCxnSpPr>
            <p:nvPr/>
          </p:nvCxnSpPr>
          <p:spPr>
            <a:xfrm flipV="1">
              <a:off x="1762200" y="646920"/>
              <a:ext cx="1048320" cy="99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35" name=""/>
            <p:cNvCxnSpPr>
              <a:stCxn id="2910" idx="6"/>
              <a:endCxn id="2922" idx="2"/>
            </p:cNvCxnSpPr>
            <p:nvPr/>
          </p:nvCxnSpPr>
          <p:spPr>
            <a:xfrm>
              <a:off x="3362400" y="647280"/>
              <a:ext cx="2419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936" name=""/>
            <p:cNvGrpSpPr/>
            <p:nvPr/>
          </p:nvGrpSpPr>
          <p:grpSpPr>
            <a:xfrm>
              <a:off x="3581280" y="1371240"/>
              <a:ext cx="533520" cy="533520"/>
              <a:chOff x="3581280" y="1371240"/>
              <a:chExt cx="533520" cy="533520"/>
            </a:xfrm>
          </p:grpSpPr>
          <p:sp>
            <p:nvSpPr>
              <p:cNvPr id="2937" name=""/>
              <p:cNvSpPr/>
              <p:nvPr/>
            </p:nvSpPr>
            <p:spPr>
              <a:xfrm>
                <a:off x="3581280" y="137124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657600" y="144756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39" name=""/>
            <p:cNvCxnSpPr>
              <a:stCxn id="2913" idx="6"/>
              <a:endCxn id="2937" idx="2"/>
            </p:cNvCxnSpPr>
            <p:nvPr/>
          </p:nvCxnSpPr>
          <p:spPr>
            <a:xfrm>
              <a:off x="1761840" y="647280"/>
              <a:ext cx="1810440" cy="99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0" name=""/>
            <p:cNvCxnSpPr>
              <a:stCxn id="2916" idx="6"/>
              <a:endCxn id="2937" idx="2"/>
            </p:cNvCxnSpPr>
            <p:nvPr/>
          </p:nvCxnSpPr>
          <p:spPr>
            <a:xfrm flipV="1">
              <a:off x="1761840" y="1637640"/>
              <a:ext cx="1810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1" name=""/>
            <p:cNvCxnSpPr>
              <a:stCxn id="2919" idx="6"/>
              <a:endCxn id="2937" idx="2"/>
            </p:cNvCxnSpPr>
            <p:nvPr/>
          </p:nvCxnSpPr>
          <p:spPr>
            <a:xfrm>
              <a:off x="1761840" y="1637640"/>
              <a:ext cx="1810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42" name=""/>
            <p:cNvCxnSpPr>
              <a:stCxn id="2937" idx="6"/>
              <a:endCxn id="2922" idx="2"/>
            </p:cNvCxnSpPr>
            <p:nvPr/>
          </p:nvCxnSpPr>
          <p:spPr>
            <a:xfrm flipV="1">
              <a:off x="4124160" y="646920"/>
              <a:ext cx="1658160" cy="99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3" name=""/>
            <p:cNvCxnSpPr>
              <a:stCxn id="2937" idx="6"/>
              <a:endCxn id="2928" idx="2"/>
            </p:cNvCxnSpPr>
            <p:nvPr/>
          </p:nvCxnSpPr>
          <p:spPr>
            <a:xfrm>
              <a:off x="4124160" y="1637640"/>
              <a:ext cx="1658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44" name=""/>
            <p:cNvCxnSpPr>
              <a:stCxn id="2937" idx="6"/>
              <a:endCxn id="2925" idx="2"/>
            </p:cNvCxnSpPr>
            <p:nvPr/>
          </p:nvCxnSpPr>
          <p:spPr>
            <a:xfrm>
              <a:off x="4124160" y="1638000"/>
              <a:ext cx="16581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5" name=""/>
            <p:cNvCxnSpPr>
              <a:stCxn id="2910" idx="5"/>
              <a:endCxn id="2937" idx="1"/>
            </p:cNvCxnSpPr>
            <p:nvPr/>
          </p:nvCxnSpPr>
          <p:spPr>
            <a:xfrm flipH="1" rot="16200000">
              <a:off x="3169080" y="950400"/>
              <a:ext cx="594360" cy="3848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2946" name=""/>
            <p:cNvGrpSpPr/>
            <p:nvPr/>
          </p:nvGrpSpPr>
          <p:grpSpPr>
            <a:xfrm>
              <a:off x="4267080" y="2285640"/>
              <a:ext cx="533520" cy="533520"/>
              <a:chOff x="4267080" y="2285640"/>
              <a:chExt cx="533520" cy="533520"/>
            </a:xfrm>
          </p:grpSpPr>
          <p:sp>
            <p:nvSpPr>
              <p:cNvPr id="2947" name=""/>
              <p:cNvSpPr/>
              <p:nvPr/>
            </p:nvSpPr>
            <p:spPr>
              <a:xfrm>
                <a:off x="4267080" y="228564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343400" y="236196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49" name=""/>
            <p:cNvCxnSpPr>
              <a:stCxn id="2937" idx="5"/>
              <a:endCxn id="2947" idx="1"/>
            </p:cNvCxnSpPr>
            <p:nvPr/>
          </p:nvCxnSpPr>
          <p:spPr>
            <a:xfrm flipH="1" rot="16200000">
              <a:off x="3931200" y="1941120"/>
              <a:ext cx="518400" cy="308520"/>
            </a:xfrm>
            <a:prstGeom prst="curvedConnector5">
              <a:avLst>
                <a:gd name="adj1" fmla="val 49965"/>
                <a:gd name="adj2" fmla="val 50000"/>
                <a:gd name="adj3" fmla="val 49965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50" name=""/>
            <p:cNvCxnSpPr>
              <a:stCxn id="2947" idx="6"/>
              <a:endCxn id="2925" idx="2"/>
            </p:cNvCxnSpPr>
            <p:nvPr/>
          </p:nvCxnSpPr>
          <p:spPr>
            <a:xfrm>
              <a:off x="4809600" y="255204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51" name=""/>
            <p:cNvCxnSpPr>
              <a:stCxn id="2947" idx="6"/>
              <a:endCxn id="2928" idx="2"/>
            </p:cNvCxnSpPr>
            <p:nvPr/>
          </p:nvCxnSpPr>
          <p:spPr>
            <a:xfrm flipV="1">
              <a:off x="4809600" y="1637640"/>
              <a:ext cx="9723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52" name=""/>
            <p:cNvCxnSpPr>
              <a:stCxn id="2947" idx="6"/>
              <a:endCxn id="2922" idx="2"/>
            </p:cNvCxnSpPr>
            <p:nvPr/>
          </p:nvCxnSpPr>
          <p:spPr>
            <a:xfrm flipV="1">
              <a:off x="4809600" y="646920"/>
              <a:ext cx="972360" cy="1905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53" name=""/>
            <p:cNvCxnSpPr>
              <a:stCxn id="2913" idx="6"/>
              <a:endCxn id="2947" idx="2"/>
            </p:cNvCxnSpPr>
            <p:nvPr/>
          </p:nvCxnSpPr>
          <p:spPr>
            <a:xfrm>
              <a:off x="1762200" y="647280"/>
              <a:ext cx="2496240" cy="1905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54" name=""/>
            <p:cNvCxnSpPr>
              <a:stCxn id="2919" idx="6"/>
              <a:endCxn id="2947" idx="2"/>
            </p:cNvCxnSpPr>
            <p:nvPr/>
          </p:nvCxnSpPr>
          <p:spPr>
            <a:xfrm>
              <a:off x="1762200" y="1638000"/>
              <a:ext cx="24962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55" name=""/>
            <p:cNvCxnSpPr>
              <a:stCxn id="2916" idx="6"/>
              <a:endCxn id="2947" idx="2"/>
            </p:cNvCxnSpPr>
            <p:nvPr/>
          </p:nvCxnSpPr>
          <p:spPr>
            <a:xfrm>
              <a:off x="1762200" y="2552040"/>
              <a:ext cx="2496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56" name=""/>
            <p:cNvCxnSpPr>
              <a:stCxn id="2910" idx="4"/>
              <a:endCxn id="2947" idx="2"/>
            </p:cNvCxnSpPr>
            <p:nvPr/>
          </p:nvCxnSpPr>
          <p:spPr>
            <a:xfrm flipH="1" rot="16200000">
              <a:off x="2857680" y="1152000"/>
              <a:ext cx="1629360" cy="1172160"/>
            </a:xfrm>
            <a:prstGeom prst="curved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957" name=""/>
          <p:cNvGrpSpPr/>
          <p:nvPr/>
        </p:nvGrpSpPr>
        <p:grpSpPr>
          <a:xfrm>
            <a:off x="2057400" y="3389400"/>
            <a:ext cx="3581280" cy="2706480"/>
            <a:chOff x="2057400" y="3389400"/>
            <a:chExt cx="3581280" cy="2706480"/>
          </a:xfrm>
        </p:grpSpPr>
        <p:grpSp>
          <p:nvGrpSpPr>
            <p:cNvPr id="2958" name=""/>
            <p:cNvGrpSpPr/>
            <p:nvPr/>
          </p:nvGrpSpPr>
          <p:grpSpPr>
            <a:xfrm>
              <a:off x="3505320" y="3657600"/>
              <a:ext cx="533160" cy="533160"/>
              <a:chOff x="3505320" y="3657600"/>
              <a:chExt cx="533160" cy="533160"/>
            </a:xfrm>
          </p:grpSpPr>
          <p:sp>
            <p:nvSpPr>
              <p:cNvPr id="2959" name=""/>
              <p:cNvSpPr/>
              <p:nvPr/>
            </p:nvSpPr>
            <p:spPr>
              <a:xfrm>
                <a:off x="3505320" y="365760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581280" y="373356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1" name=""/>
            <p:cNvGrpSpPr/>
            <p:nvPr/>
          </p:nvGrpSpPr>
          <p:grpSpPr>
            <a:xfrm>
              <a:off x="2057400" y="3657600"/>
              <a:ext cx="533520" cy="533520"/>
              <a:chOff x="2057400" y="3657600"/>
              <a:chExt cx="533520" cy="533520"/>
            </a:xfrm>
          </p:grpSpPr>
          <p:sp>
            <p:nvSpPr>
              <p:cNvPr id="2962" name=""/>
              <p:cNvSpPr/>
              <p:nvPr/>
            </p:nvSpPr>
            <p:spPr>
              <a:xfrm>
                <a:off x="2057400" y="36576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133720" y="373392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4" name=""/>
            <p:cNvGrpSpPr/>
            <p:nvPr/>
          </p:nvGrpSpPr>
          <p:grpSpPr>
            <a:xfrm>
              <a:off x="2057400" y="5562720"/>
              <a:ext cx="533520" cy="533160"/>
              <a:chOff x="2057400" y="5562720"/>
              <a:chExt cx="533520" cy="533160"/>
            </a:xfrm>
          </p:grpSpPr>
          <p:sp>
            <p:nvSpPr>
              <p:cNvPr id="2965" name=""/>
              <p:cNvSpPr/>
              <p:nvPr/>
            </p:nvSpPr>
            <p:spPr>
              <a:xfrm>
                <a:off x="2057400" y="55627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2133720" y="56386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7" name=""/>
            <p:cNvGrpSpPr/>
            <p:nvPr/>
          </p:nvGrpSpPr>
          <p:grpSpPr>
            <a:xfrm>
              <a:off x="2057400" y="4648320"/>
              <a:ext cx="533520" cy="533160"/>
              <a:chOff x="2057400" y="4648320"/>
              <a:chExt cx="533520" cy="533160"/>
            </a:xfrm>
          </p:grpSpPr>
          <p:sp>
            <p:nvSpPr>
              <p:cNvPr id="2968" name=""/>
              <p:cNvSpPr/>
              <p:nvPr/>
            </p:nvSpPr>
            <p:spPr>
              <a:xfrm>
                <a:off x="2057400" y="46483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2133720" y="47242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0" name=""/>
            <p:cNvGrpSpPr/>
            <p:nvPr/>
          </p:nvGrpSpPr>
          <p:grpSpPr>
            <a:xfrm>
              <a:off x="5105520" y="3657600"/>
              <a:ext cx="533160" cy="533520"/>
              <a:chOff x="5105520" y="3657600"/>
              <a:chExt cx="533160" cy="533520"/>
            </a:xfrm>
          </p:grpSpPr>
          <p:sp>
            <p:nvSpPr>
              <p:cNvPr id="2971" name=""/>
              <p:cNvSpPr/>
              <p:nvPr/>
            </p:nvSpPr>
            <p:spPr>
              <a:xfrm>
                <a:off x="5105520" y="36576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181480" y="373392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3" name=""/>
            <p:cNvGrpSpPr/>
            <p:nvPr/>
          </p:nvGrpSpPr>
          <p:grpSpPr>
            <a:xfrm>
              <a:off x="5105520" y="5562720"/>
              <a:ext cx="533160" cy="533160"/>
              <a:chOff x="5105520" y="5562720"/>
              <a:chExt cx="533160" cy="533160"/>
            </a:xfrm>
          </p:grpSpPr>
          <p:sp>
            <p:nvSpPr>
              <p:cNvPr id="2974" name=""/>
              <p:cNvSpPr/>
              <p:nvPr/>
            </p:nvSpPr>
            <p:spPr>
              <a:xfrm>
                <a:off x="5105520" y="55627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5181480" y="563868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6" name=""/>
            <p:cNvGrpSpPr/>
            <p:nvPr/>
          </p:nvGrpSpPr>
          <p:grpSpPr>
            <a:xfrm>
              <a:off x="5105520" y="4648320"/>
              <a:ext cx="533160" cy="533160"/>
              <a:chOff x="5105520" y="4648320"/>
              <a:chExt cx="533160" cy="533160"/>
            </a:xfrm>
          </p:grpSpPr>
          <p:sp>
            <p:nvSpPr>
              <p:cNvPr id="2977" name=""/>
              <p:cNvSpPr/>
              <p:nvPr/>
            </p:nvSpPr>
            <p:spPr>
              <a:xfrm>
                <a:off x="5105520" y="4648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5181480" y="472428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79" name=""/>
            <p:cNvCxnSpPr>
              <a:stCxn id="2962" idx="6"/>
              <a:endCxn id="2959" idx="2"/>
            </p:cNvCxnSpPr>
            <p:nvPr/>
          </p:nvCxnSpPr>
          <p:spPr>
            <a:xfrm>
              <a:off x="2599920" y="3924000"/>
              <a:ext cx="8960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0" name=""/>
            <p:cNvCxnSpPr>
              <a:stCxn id="2965" idx="6"/>
              <a:endCxn id="2959" idx="2"/>
            </p:cNvCxnSpPr>
            <p:nvPr/>
          </p:nvCxnSpPr>
          <p:spPr>
            <a:xfrm flipV="1">
              <a:off x="2599920" y="3924000"/>
              <a:ext cx="896040" cy="190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1" name=""/>
            <p:cNvCxnSpPr>
              <a:stCxn id="2959" idx="6"/>
              <a:endCxn id="2974" idx="2"/>
            </p:cNvCxnSpPr>
            <p:nvPr/>
          </p:nvCxnSpPr>
          <p:spPr>
            <a:xfrm>
              <a:off x="4048200" y="3924360"/>
              <a:ext cx="1048320" cy="190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2" name=""/>
            <p:cNvCxnSpPr>
              <a:stCxn id="2959" idx="6"/>
              <a:endCxn id="2977" idx="2"/>
            </p:cNvCxnSpPr>
            <p:nvPr/>
          </p:nvCxnSpPr>
          <p:spPr>
            <a:xfrm>
              <a:off x="4048200" y="3924360"/>
              <a:ext cx="1048320" cy="991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83" name=""/>
            <p:cNvCxnSpPr>
              <a:stCxn id="2968" idx="6"/>
              <a:endCxn id="2959" idx="2"/>
            </p:cNvCxnSpPr>
            <p:nvPr/>
          </p:nvCxnSpPr>
          <p:spPr>
            <a:xfrm flipV="1">
              <a:off x="2599920" y="3924000"/>
              <a:ext cx="896040" cy="991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84" name=""/>
            <p:cNvCxnSpPr>
              <a:stCxn id="2959" idx="6"/>
              <a:endCxn id="2971" idx="2"/>
            </p:cNvCxnSpPr>
            <p:nvPr/>
          </p:nvCxnSpPr>
          <p:spPr>
            <a:xfrm>
              <a:off x="4048200" y="3924000"/>
              <a:ext cx="1048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985" name=""/>
            <p:cNvGrpSpPr/>
            <p:nvPr/>
          </p:nvGrpSpPr>
          <p:grpSpPr>
            <a:xfrm>
              <a:off x="3581280" y="4648320"/>
              <a:ext cx="533520" cy="533160"/>
              <a:chOff x="3581280" y="4648320"/>
              <a:chExt cx="533520" cy="533160"/>
            </a:xfrm>
          </p:grpSpPr>
          <p:sp>
            <p:nvSpPr>
              <p:cNvPr id="2986" name=""/>
              <p:cNvSpPr/>
              <p:nvPr/>
            </p:nvSpPr>
            <p:spPr>
              <a:xfrm>
                <a:off x="3581280" y="46483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3657600" y="47242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88" name=""/>
            <p:cNvCxnSpPr>
              <a:stCxn id="2962" idx="6"/>
              <a:endCxn id="2986" idx="2"/>
            </p:cNvCxnSpPr>
            <p:nvPr/>
          </p:nvCxnSpPr>
          <p:spPr>
            <a:xfrm>
              <a:off x="2599920" y="3924360"/>
              <a:ext cx="972360" cy="99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9" name=""/>
            <p:cNvCxnSpPr>
              <a:stCxn id="2965" idx="6"/>
              <a:endCxn id="2986" idx="2"/>
            </p:cNvCxnSpPr>
            <p:nvPr/>
          </p:nvCxnSpPr>
          <p:spPr>
            <a:xfrm flipV="1">
              <a:off x="2599920" y="4914720"/>
              <a:ext cx="9723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0" name=""/>
            <p:cNvCxnSpPr>
              <a:stCxn id="2968" idx="6"/>
              <a:endCxn id="2986" idx="2"/>
            </p:cNvCxnSpPr>
            <p:nvPr/>
          </p:nvCxnSpPr>
          <p:spPr>
            <a:xfrm>
              <a:off x="2599920" y="491472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91" name=""/>
            <p:cNvCxnSpPr>
              <a:stCxn id="2986" idx="6"/>
              <a:endCxn id="2971" idx="2"/>
            </p:cNvCxnSpPr>
            <p:nvPr/>
          </p:nvCxnSpPr>
          <p:spPr>
            <a:xfrm flipV="1">
              <a:off x="4123800" y="3924000"/>
              <a:ext cx="972360" cy="99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2" name=""/>
            <p:cNvCxnSpPr>
              <a:stCxn id="2986" idx="6"/>
              <a:endCxn id="2977" idx="2"/>
            </p:cNvCxnSpPr>
            <p:nvPr/>
          </p:nvCxnSpPr>
          <p:spPr>
            <a:xfrm>
              <a:off x="4123800" y="491472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93" name=""/>
            <p:cNvCxnSpPr>
              <a:stCxn id="2986" idx="6"/>
              <a:endCxn id="2974" idx="2"/>
            </p:cNvCxnSpPr>
            <p:nvPr/>
          </p:nvCxnSpPr>
          <p:spPr>
            <a:xfrm>
              <a:off x="4123800" y="4915080"/>
              <a:ext cx="9723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994" name=""/>
            <p:cNvGrpSpPr/>
            <p:nvPr/>
          </p:nvGrpSpPr>
          <p:grpSpPr>
            <a:xfrm>
              <a:off x="3581280" y="5562720"/>
              <a:ext cx="533520" cy="533160"/>
              <a:chOff x="3581280" y="5562720"/>
              <a:chExt cx="533520" cy="533160"/>
            </a:xfrm>
          </p:grpSpPr>
          <p:sp>
            <p:nvSpPr>
              <p:cNvPr id="2995" name=""/>
              <p:cNvSpPr/>
              <p:nvPr/>
            </p:nvSpPr>
            <p:spPr>
              <a:xfrm>
                <a:off x="3581280" y="55627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3657600" y="56386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97" name=""/>
            <p:cNvCxnSpPr>
              <a:stCxn id="2995" idx="6"/>
              <a:endCxn id="2974" idx="2"/>
            </p:cNvCxnSpPr>
            <p:nvPr/>
          </p:nvCxnSpPr>
          <p:spPr>
            <a:xfrm>
              <a:off x="4123800" y="582912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8" name=""/>
            <p:cNvCxnSpPr>
              <a:stCxn id="2995" idx="6"/>
              <a:endCxn id="2977" idx="2"/>
            </p:cNvCxnSpPr>
            <p:nvPr/>
          </p:nvCxnSpPr>
          <p:spPr>
            <a:xfrm flipV="1">
              <a:off x="4123800" y="4914720"/>
              <a:ext cx="9723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99" name=""/>
            <p:cNvCxnSpPr>
              <a:stCxn id="2995" idx="6"/>
              <a:endCxn id="2971" idx="2"/>
            </p:cNvCxnSpPr>
            <p:nvPr/>
          </p:nvCxnSpPr>
          <p:spPr>
            <a:xfrm flipV="1">
              <a:off x="4123800" y="3924000"/>
              <a:ext cx="972360" cy="190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0" name=""/>
            <p:cNvCxnSpPr>
              <a:stCxn id="2962" idx="6"/>
              <a:endCxn id="2995" idx="2"/>
            </p:cNvCxnSpPr>
            <p:nvPr/>
          </p:nvCxnSpPr>
          <p:spPr>
            <a:xfrm>
              <a:off x="2599920" y="3924360"/>
              <a:ext cx="972360" cy="190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1" name=""/>
            <p:cNvCxnSpPr>
              <a:stCxn id="2968" idx="6"/>
              <a:endCxn id="2995" idx="2"/>
            </p:cNvCxnSpPr>
            <p:nvPr/>
          </p:nvCxnSpPr>
          <p:spPr>
            <a:xfrm>
              <a:off x="2599920" y="4915080"/>
              <a:ext cx="9723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002" name=""/>
            <p:cNvCxnSpPr>
              <a:stCxn id="2965" idx="6"/>
              <a:endCxn id="2995" idx="2"/>
            </p:cNvCxnSpPr>
            <p:nvPr/>
          </p:nvCxnSpPr>
          <p:spPr>
            <a:xfrm>
              <a:off x="2599920" y="582912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3" name=""/>
            <p:cNvCxnSpPr>
              <a:stCxn id="2959" idx="1"/>
              <a:endCxn id="2959" idx="7"/>
            </p:cNvCxnSpPr>
            <p:nvPr/>
          </p:nvCxnSpPr>
          <p:spPr>
            <a:xfrm flipH="1" rot="16200000">
              <a:off x="3771000" y="3537720"/>
              <a:ext cx="2160" cy="378360"/>
            </a:xfrm>
            <a:prstGeom prst="curvedConnector5">
              <a:avLst>
                <a:gd name="adj1" fmla="val -18700000"/>
                <a:gd name="adj2" fmla="val 50000"/>
                <a:gd name="adj3" fmla="val -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4" name=""/>
            <p:cNvCxnSpPr>
              <a:stCxn id="2986" idx="1"/>
              <a:endCxn id="2986" idx="7"/>
            </p:cNvCxnSpPr>
            <p:nvPr/>
          </p:nvCxnSpPr>
          <p:spPr>
            <a:xfrm flipH="1" rot="16200000">
              <a:off x="3846960" y="4527000"/>
              <a:ext cx="2520" cy="378720"/>
            </a:xfrm>
            <a:prstGeom prst="curvedConnector5">
              <a:avLst>
                <a:gd name="adj1" fmla="val -18700000"/>
                <a:gd name="adj2" fmla="val 49952"/>
                <a:gd name="adj3" fmla="val -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5" name=""/>
            <p:cNvCxnSpPr>
              <a:stCxn id="2995" idx="1"/>
              <a:endCxn id="2995" idx="7"/>
            </p:cNvCxnSpPr>
            <p:nvPr/>
          </p:nvCxnSpPr>
          <p:spPr>
            <a:xfrm flipH="1" rot="16200000">
              <a:off x="3846960" y="5441400"/>
              <a:ext cx="2520" cy="378720"/>
            </a:xfrm>
            <a:prstGeom prst="curvedConnector5">
              <a:avLst>
                <a:gd name="adj1" fmla="val -18700000"/>
                <a:gd name="adj2" fmla="val 49952"/>
                <a:gd name="adj3" fmla="val -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6" name=""/>
          <p:cNvGrpSpPr/>
          <p:nvPr/>
        </p:nvGrpSpPr>
        <p:grpSpPr>
          <a:xfrm>
            <a:off x="685800" y="1219320"/>
            <a:ext cx="7696080" cy="2286000"/>
            <a:chOff x="685800" y="1219320"/>
            <a:chExt cx="7696080" cy="2286000"/>
          </a:xfrm>
        </p:grpSpPr>
        <p:sp>
          <p:nvSpPr>
            <p:cNvPr id="3007" name=""/>
            <p:cNvSpPr/>
            <p:nvPr/>
          </p:nvSpPr>
          <p:spPr>
            <a:xfrm>
              <a:off x="838080" y="2210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85800" y="213372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1828800" y="30481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1676160" y="297216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2752560" y="2476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600280" y="24004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3581280" y="2210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429000" y="213372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495680" y="2210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343400" y="213372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2752560" y="15624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2600280" y="14860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828800" y="2210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676160" y="213372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828800" y="12956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1676160" y="121932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5410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5257800" y="2972160"/>
              <a:ext cx="5331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410080" y="2210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257800" y="213372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5410080" y="13719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257800" y="129564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248160" y="2667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095880" y="259092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086600" y="2210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933960" y="213372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001000" y="2210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848360" y="213372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248160" y="18291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095880" y="175284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37" name=""/>
            <p:cNvCxnSpPr>
              <a:stCxn id="3008" idx="6"/>
              <a:endCxn id="3020" idx="2"/>
            </p:cNvCxnSpPr>
            <p:nvPr/>
          </p:nvCxnSpPr>
          <p:spPr>
            <a:xfrm>
              <a:off x="1228320" y="240012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38" name=""/>
            <p:cNvCxnSpPr>
              <a:stCxn id="3008" idx="6"/>
              <a:endCxn id="3022" idx="2"/>
            </p:cNvCxnSpPr>
            <p:nvPr/>
          </p:nvCxnSpPr>
          <p:spPr>
            <a:xfrm flipV="1">
              <a:off x="1228320" y="1485720"/>
              <a:ext cx="4388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39" name=""/>
            <p:cNvCxnSpPr>
              <a:stCxn id="3008" idx="6"/>
              <a:endCxn id="3010" idx="2"/>
            </p:cNvCxnSpPr>
            <p:nvPr/>
          </p:nvCxnSpPr>
          <p:spPr>
            <a:xfrm>
              <a:off x="1228320" y="2400480"/>
              <a:ext cx="43884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0" name=""/>
            <p:cNvCxnSpPr>
              <a:stCxn id="3020" idx="4"/>
              <a:endCxn id="3010" idx="0"/>
            </p:cNvCxnSpPr>
            <p:nvPr/>
          </p:nvCxnSpPr>
          <p:spPr>
            <a:xfrm>
              <a:off x="1942560" y="267660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1" name=""/>
            <p:cNvCxnSpPr>
              <a:stCxn id="3022" idx="6"/>
              <a:endCxn id="3018" idx="2"/>
            </p:cNvCxnSpPr>
            <p:nvPr/>
          </p:nvCxnSpPr>
          <p:spPr>
            <a:xfrm>
              <a:off x="2219040" y="148572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2" name=""/>
            <p:cNvCxnSpPr>
              <a:stCxn id="3020" idx="6"/>
              <a:endCxn id="3012" idx="2"/>
            </p:cNvCxnSpPr>
            <p:nvPr/>
          </p:nvCxnSpPr>
          <p:spPr>
            <a:xfrm>
              <a:off x="2219040" y="240012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3" name=""/>
            <p:cNvCxnSpPr>
              <a:stCxn id="3010" idx="6"/>
              <a:endCxn id="3012" idx="2"/>
            </p:cNvCxnSpPr>
            <p:nvPr/>
          </p:nvCxnSpPr>
          <p:spPr>
            <a:xfrm flipV="1">
              <a:off x="2219040" y="2666520"/>
              <a:ext cx="372240" cy="572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4" name=""/>
            <p:cNvCxnSpPr>
              <a:stCxn id="3018" idx="6"/>
              <a:endCxn id="3014" idx="2"/>
            </p:cNvCxnSpPr>
            <p:nvPr/>
          </p:nvCxnSpPr>
          <p:spPr>
            <a:xfrm>
              <a:off x="3142800" y="1752480"/>
              <a:ext cx="276840" cy="648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5" name=""/>
            <p:cNvCxnSpPr>
              <a:stCxn id="3010" idx="6"/>
              <a:endCxn id="3014" idx="4"/>
            </p:cNvCxnSpPr>
            <p:nvPr/>
          </p:nvCxnSpPr>
          <p:spPr>
            <a:xfrm flipV="1">
              <a:off x="2218680" y="2675880"/>
              <a:ext cx="1477080" cy="56268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6" name=""/>
            <p:cNvCxnSpPr>
              <a:stCxn id="3012" idx="6"/>
              <a:endCxn id="3014" idx="2"/>
            </p:cNvCxnSpPr>
            <p:nvPr/>
          </p:nvCxnSpPr>
          <p:spPr>
            <a:xfrm flipV="1">
              <a:off x="3142800" y="2400120"/>
              <a:ext cx="2768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7" name=""/>
            <p:cNvCxnSpPr>
              <a:stCxn id="3014" idx="6"/>
              <a:endCxn id="3016" idx="2"/>
            </p:cNvCxnSpPr>
            <p:nvPr/>
          </p:nvCxnSpPr>
          <p:spPr>
            <a:xfrm>
              <a:off x="3971520" y="240012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8" name=""/>
            <p:cNvCxnSpPr>
              <a:stCxn id="3016" idx="6"/>
              <a:endCxn id="3026" idx="2"/>
            </p:cNvCxnSpPr>
            <p:nvPr/>
          </p:nvCxnSpPr>
          <p:spPr>
            <a:xfrm>
              <a:off x="4885920" y="240012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9" name=""/>
            <p:cNvCxnSpPr>
              <a:stCxn id="3016" idx="6"/>
              <a:endCxn id="3028" idx="2"/>
            </p:cNvCxnSpPr>
            <p:nvPr/>
          </p:nvCxnSpPr>
          <p:spPr>
            <a:xfrm flipV="1">
              <a:off x="4885920" y="1562040"/>
              <a:ext cx="36252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0" name=""/>
            <p:cNvCxnSpPr>
              <a:stCxn id="3016" idx="6"/>
              <a:endCxn id="3024" idx="2"/>
            </p:cNvCxnSpPr>
            <p:nvPr/>
          </p:nvCxnSpPr>
          <p:spPr>
            <a:xfrm>
              <a:off x="4885920" y="2400480"/>
              <a:ext cx="36252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1" name=""/>
            <p:cNvCxnSpPr>
              <a:stCxn id="3024" idx="6"/>
              <a:endCxn id="3030" idx="2"/>
            </p:cNvCxnSpPr>
            <p:nvPr/>
          </p:nvCxnSpPr>
          <p:spPr>
            <a:xfrm flipV="1">
              <a:off x="5800320" y="2857320"/>
              <a:ext cx="28620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2" name=""/>
            <p:cNvCxnSpPr>
              <a:stCxn id="3028" idx="6"/>
              <a:endCxn id="3036" idx="2"/>
            </p:cNvCxnSpPr>
            <p:nvPr/>
          </p:nvCxnSpPr>
          <p:spPr>
            <a:xfrm>
              <a:off x="5800320" y="1562400"/>
              <a:ext cx="28620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3" name=""/>
            <p:cNvCxnSpPr>
              <a:stCxn id="3028" idx="6"/>
              <a:endCxn id="3032" idx="0"/>
            </p:cNvCxnSpPr>
            <p:nvPr/>
          </p:nvCxnSpPr>
          <p:spPr>
            <a:xfrm>
              <a:off x="5800320" y="1562040"/>
              <a:ext cx="1400400" cy="56268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4" name=""/>
            <p:cNvCxnSpPr>
              <a:stCxn id="3030" idx="6"/>
              <a:endCxn id="3032" idx="2"/>
            </p:cNvCxnSpPr>
            <p:nvPr/>
          </p:nvCxnSpPr>
          <p:spPr>
            <a:xfrm flipV="1">
              <a:off x="6638760" y="2400120"/>
              <a:ext cx="2865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5" name=""/>
            <p:cNvCxnSpPr>
              <a:stCxn id="3024" idx="0"/>
              <a:endCxn id="3026" idx="4"/>
            </p:cNvCxnSpPr>
            <p:nvPr/>
          </p:nvCxnSpPr>
          <p:spPr>
            <a:xfrm flipV="1">
              <a:off x="5523840" y="267624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6" name=""/>
            <p:cNvCxnSpPr>
              <a:stCxn id="3026" idx="6"/>
              <a:endCxn id="3032" idx="2"/>
            </p:cNvCxnSpPr>
            <p:nvPr/>
          </p:nvCxnSpPr>
          <p:spPr>
            <a:xfrm>
              <a:off x="5800680" y="2400120"/>
              <a:ext cx="11246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7" name=""/>
            <p:cNvCxnSpPr>
              <a:stCxn id="3030" idx="6"/>
              <a:endCxn id="3034" idx="3"/>
            </p:cNvCxnSpPr>
            <p:nvPr/>
          </p:nvCxnSpPr>
          <p:spPr>
            <a:xfrm flipV="1">
              <a:off x="6638760" y="2598120"/>
              <a:ext cx="1288080" cy="25956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8" name=""/>
            <p:cNvCxnSpPr>
              <a:stCxn id="3032" idx="6"/>
              <a:endCxn id="3034" idx="2"/>
            </p:cNvCxnSpPr>
            <p:nvPr/>
          </p:nvCxnSpPr>
          <p:spPr>
            <a:xfrm>
              <a:off x="7476840" y="240012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59" name=""/>
            <p:cNvSpPr/>
            <p:nvPr/>
          </p:nvSpPr>
          <p:spPr>
            <a:xfrm>
              <a:off x="1076040" y="1714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152360" y="2857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228680" y="21718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219040" y="13338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143080" y="2248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371680" y="31626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295360" y="2857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400880" y="20955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3057480" y="25527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133440" y="18669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895560" y="23241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724360" y="21718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562440" y="1943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1838160" y="2629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73" name=""/>
            <p:cNvCxnSpPr>
              <a:stCxn id="3036" idx="6"/>
              <a:endCxn id="3032" idx="2"/>
            </p:cNvCxnSpPr>
            <p:nvPr/>
          </p:nvCxnSpPr>
          <p:spPr>
            <a:xfrm>
              <a:off x="6638760" y="2019600"/>
              <a:ext cx="28656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74" name=""/>
            <p:cNvSpPr/>
            <p:nvPr/>
          </p:nvSpPr>
          <p:spPr>
            <a:xfrm>
              <a:off x="5648040" y="1714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952960" y="13338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486480" y="24768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733640" y="1714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4886280" y="20955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495760" y="2629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800680" y="3086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657680" y="2705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791040" y="2857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3" name=""/>
          <p:cNvGrpSpPr/>
          <p:nvPr/>
        </p:nvGrpSpPr>
        <p:grpSpPr>
          <a:xfrm>
            <a:off x="685800" y="3505320"/>
            <a:ext cx="7696080" cy="3050280"/>
            <a:chOff x="685800" y="3505320"/>
            <a:chExt cx="7696080" cy="3050280"/>
          </a:xfrm>
        </p:grpSpPr>
        <p:sp>
          <p:nvSpPr>
            <p:cNvPr id="3084" name=""/>
            <p:cNvSpPr/>
            <p:nvPr/>
          </p:nvSpPr>
          <p:spPr>
            <a:xfrm>
              <a:off x="83808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85800" y="47242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1828800" y="56386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1676520" y="5562720"/>
              <a:ext cx="5331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752560" y="5067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600280" y="499104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358128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3429000" y="47242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568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4343400" y="47242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752560" y="41529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600280" y="407664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182880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676520" y="47242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1828800" y="3886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1676520" y="38098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0" name=""/>
            <p:cNvGrpSpPr/>
            <p:nvPr/>
          </p:nvGrpSpPr>
          <p:grpSpPr>
            <a:xfrm>
              <a:off x="5867280" y="4724280"/>
              <a:ext cx="533520" cy="533520"/>
              <a:chOff x="5867280" y="4724280"/>
              <a:chExt cx="533520" cy="533520"/>
            </a:xfrm>
          </p:grpSpPr>
          <p:sp>
            <p:nvSpPr>
              <p:cNvPr id="3101" name=""/>
              <p:cNvSpPr/>
              <p:nvPr/>
            </p:nvSpPr>
            <p:spPr>
              <a:xfrm>
                <a:off x="6019560" y="480060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867280" y="47242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3" name=""/>
            <p:cNvGrpSpPr/>
            <p:nvPr/>
          </p:nvGrpSpPr>
          <p:grpSpPr>
            <a:xfrm>
              <a:off x="5486400" y="6019920"/>
              <a:ext cx="533520" cy="533160"/>
              <a:chOff x="5486400" y="6019920"/>
              <a:chExt cx="533520" cy="533160"/>
            </a:xfrm>
          </p:grpSpPr>
          <p:sp>
            <p:nvSpPr>
              <p:cNvPr id="3104" name=""/>
              <p:cNvSpPr/>
              <p:nvPr/>
            </p:nvSpPr>
            <p:spPr>
              <a:xfrm>
                <a:off x="5638680" y="60958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486400" y="60199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6" name=""/>
            <p:cNvGrpSpPr/>
            <p:nvPr/>
          </p:nvGrpSpPr>
          <p:grpSpPr>
            <a:xfrm>
              <a:off x="6858000" y="6019920"/>
              <a:ext cx="533520" cy="533160"/>
              <a:chOff x="6858000" y="6019920"/>
              <a:chExt cx="533520" cy="533160"/>
            </a:xfrm>
          </p:grpSpPr>
          <p:sp>
            <p:nvSpPr>
              <p:cNvPr id="3107" name=""/>
              <p:cNvSpPr/>
              <p:nvPr/>
            </p:nvSpPr>
            <p:spPr>
              <a:xfrm>
                <a:off x="7010640" y="60958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858000" y="60199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9" name=""/>
            <p:cNvSpPr/>
            <p:nvPr/>
          </p:nvSpPr>
          <p:spPr>
            <a:xfrm>
              <a:off x="708660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934320" y="47242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00100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7848720" y="47242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13" name=""/>
            <p:cNvCxnSpPr>
              <a:stCxn id="3085" idx="6"/>
              <a:endCxn id="3097" idx="2"/>
            </p:cNvCxnSpPr>
            <p:nvPr/>
          </p:nvCxnSpPr>
          <p:spPr>
            <a:xfrm>
              <a:off x="1228320" y="499068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4" name=""/>
            <p:cNvCxnSpPr>
              <a:stCxn id="3085" idx="6"/>
              <a:endCxn id="3099" idx="2"/>
            </p:cNvCxnSpPr>
            <p:nvPr/>
          </p:nvCxnSpPr>
          <p:spPr>
            <a:xfrm flipV="1">
              <a:off x="1228320" y="4076280"/>
              <a:ext cx="4388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5" name=""/>
            <p:cNvCxnSpPr>
              <a:stCxn id="3085" idx="6"/>
              <a:endCxn id="3087" idx="2"/>
            </p:cNvCxnSpPr>
            <p:nvPr/>
          </p:nvCxnSpPr>
          <p:spPr>
            <a:xfrm>
              <a:off x="1228320" y="4990680"/>
              <a:ext cx="43884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6" name=""/>
            <p:cNvCxnSpPr>
              <a:stCxn id="3097" idx="4"/>
              <a:endCxn id="3087" idx="0"/>
            </p:cNvCxnSpPr>
            <p:nvPr/>
          </p:nvCxnSpPr>
          <p:spPr>
            <a:xfrm>
              <a:off x="1942920" y="526716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7" name=""/>
            <p:cNvCxnSpPr>
              <a:stCxn id="3099" idx="6"/>
              <a:endCxn id="3095" idx="2"/>
            </p:cNvCxnSpPr>
            <p:nvPr/>
          </p:nvCxnSpPr>
          <p:spPr>
            <a:xfrm>
              <a:off x="2219400" y="407628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8" name=""/>
            <p:cNvCxnSpPr>
              <a:stCxn id="3097" idx="6"/>
              <a:endCxn id="3089" idx="2"/>
            </p:cNvCxnSpPr>
            <p:nvPr/>
          </p:nvCxnSpPr>
          <p:spPr>
            <a:xfrm>
              <a:off x="2219400" y="499068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9" name=""/>
            <p:cNvCxnSpPr>
              <a:stCxn id="3087" idx="6"/>
              <a:endCxn id="3089" idx="2"/>
            </p:cNvCxnSpPr>
            <p:nvPr/>
          </p:nvCxnSpPr>
          <p:spPr>
            <a:xfrm flipV="1">
              <a:off x="2219400" y="5257440"/>
              <a:ext cx="372240" cy="572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0" name=""/>
            <p:cNvCxnSpPr>
              <a:stCxn id="3095" idx="6"/>
              <a:endCxn id="3091" idx="2"/>
            </p:cNvCxnSpPr>
            <p:nvPr/>
          </p:nvCxnSpPr>
          <p:spPr>
            <a:xfrm>
              <a:off x="3143160" y="4343040"/>
              <a:ext cx="277200" cy="648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1" name=""/>
            <p:cNvCxnSpPr>
              <a:stCxn id="3087" idx="6"/>
              <a:endCxn id="3091" idx="4"/>
            </p:cNvCxnSpPr>
            <p:nvPr/>
          </p:nvCxnSpPr>
          <p:spPr>
            <a:xfrm flipV="1">
              <a:off x="2219040" y="5266800"/>
              <a:ext cx="1477080" cy="56304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2" name=""/>
            <p:cNvCxnSpPr>
              <a:stCxn id="3089" idx="6"/>
              <a:endCxn id="3091" idx="2"/>
            </p:cNvCxnSpPr>
            <p:nvPr/>
          </p:nvCxnSpPr>
          <p:spPr>
            <a:xfrm flipV="1">
              <a:off x="3143160" y="4990680"/>
              <a:ext cx="27720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3" name=""/>
            <p:cNvCxnSpPr>
              <a:stCxn id="3091" idx="6"/>
              <a:endCxn id="3093" idx="2"/>
            </p:cNvCxnSpPr>
            <p:nvPr/>
          </p:nvCxnSpPr>
          <p:spPr>
            <a:xfrm>
              <a:off x="3971880" y="499068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4" name=""/>
            <p:cNvCxnSpPr>
              <a:stCxn id="3093" idx="6"/>
              <a:endCxn id="3105" idx="2"/>
            </p:cNvCxnSpPr>
            <p:nvPr/>
          </p:nvCxnSpPr>
          <p:spPr>
            <a:xfrm>
              <a:off x="4885920" y="4990680"/>
              <a:ext cx="591120" cy="129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5" name=""/>
            <p:cNvCxnSpPr>
              <a:stCxn id="3093" idx="6"/>
              <a:endCxn id="3126" idx="2"/>
            </p:cNvCxnSpPr>
            <p:nvPr/>
          </p:nvCxnSpPr>
          <p:spPr>
            <a:xfrm flipV="1">
              <a:off x="4886280" y="4152600"/>
              <a:ext cx="127692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7" name=""/>
            <p:cNvCxnSpPr>
              <a:stCxn id="3093" idx="6"/>
              <a:endCxn id="3102" idx="2"/>
            </p:cNvCxnSpPr>
            <p:nvPr/>
          </p:nvCxnSpPr>
          <p:spPr>
            <a:xfrm>
              <a:off x="4885920" y="499068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8" name=""/>
            <p:cNvCxnSpPr>
              <a:stCxn id="3105" idx="0"/>
              <a:endCxn id="3102" idx="2"/>
            </p:cNvCxnSpPr>
            <p:nvPr/>
          </p:nvCxnSpPr>
          <p:spPr>
            <a:xfrm flipV="1">
              <a:off x="5752800" y="4990320"/>
              <a:ext cx="105480" cy="1019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29" name=""/>
            <p:cNvSpPr/>
            <p:nvPr/>
          </p:nvSpPr>
          <p:spPr>
            <a:xfrm>
              <a:off x="6248520" y="3962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172200" y="388620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0" name=""/>
            <p:cNvCxnSpPr>
              <a:stCxn id="3126" idx="6"/>
              <a:endCxn id="3110" idx="2"/>
            </p:cNvCxnSpPr>
            <p:nvPr/>
          </p:nvCxnSpPr>
          <p:spPr>
            <a:xfrm>
              <a:off x="6715080" y="4152960"/>
              <a:ext cx="21024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1" name=""/>
            <p:cNvCxnSpPr>
              <a:stCxn id="3108" idx="0"/>
              <a:endCxn id="3110" idx="4"/>
            </p:cNvCxnSpPr>
            <p:nvPr/>
          </p:nvCxnSpPr>
          <p:spPr>
            <a:xfrm flipV="1">
              <a:off x="7124760" y="5266800"/>
              <a:ext cx="76680" cy="743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2" name=""/>
            <p:cNvCxnSpPr>
              <a:stCxn id="3105" idx="6"/>
              <a:endCxn id="3108" idx="2"/>
            </p:cNvCxnSpPr>
            <p:nvPr/>
          </p:nvCxnSpPr>
          <p:spPr>
            <a:xfrm>
              <a:off x="6029280" y="6286320"/>
              <a:ext cx="820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3" name=""/>
            <p:cNvCxnSpPr>
              <a:stCxn id="3105" idx="6"/>
              <a:endCxn id="3110" idx="2"/>
            </p:cNvCxnSpPr>
            <p:nvPr/>
          </p:nvCxnSpPr>
          <p:spPr>
            <a:xfrm flipV="1">
              <a:off x="6028920" y="4990320"/>
              <a:ext cx="896040" cy="129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4" name=""/>
            <p:cNvCxnSpPr>
              <a:stCxn id="3108" idx="7"/>
              <a:endCxn id="3112" idx="2"/>
            </p:cNvCxnSpPr>
            <p:nvPr/>
          </p:nvCxnSpPr>
          <p:spPr>
            <a:xfrm flipV="1">
              <a:off x="7313400" y="4990320"/>
              <a:ext cx="525960" cy="1097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5" name=""/>
            <p:cNvCxnSpPr>
              <a:stCxn id="3110" idx="6"/>
              <a:endCxn id="3112" idx="2"/>
            </p:cNvCxnSpPr>
            <p:nvPr/>
          </p:nvCxnSpPr>
          <p:spPr>
            <a:xfrm>
              <a:off x="7476840" y="499068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36" name=""/>
            <p:cNvSpPr/>
            <p:nvPr/>
          </p:nvSpPr>
          <p:spPr>
            <a:xfrm>
              <a:off x="1076400" y="43052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1152360" y="54482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1228680" y="47624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143080" y="48387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371680" y="57531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295360" y="54482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562720" y="56386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838160" y="52196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181480" y="4267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7315200" y="57150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705720" y="41911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648320" y="4038480"/>
              <a:ext cx="60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6019920" y="62485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248520" y="56386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4648320" y="54100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781680" y="5638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52" name=""/>
            <p:cNvCxnSpPr>
              <a:stCxn id="3102" idx="6"/>
              <a:endCxn id="3110" idx="2"/>
            </p:cNvCxnSpPr>
            <p:nvPr/>
          </p:nvCxnSpPr>
          <p:spPr>
            <a:xfrm>
              <a:off x="6409800" y="499068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153" name=""/>
            <p:cNvGrpSpPr/>
            <p:nvPr/>
          </p:nvGrpSpPr>
          <p:grpSpPr>
            <a:xfrm>
              <a:off x="5257800" y="3505320"/>
              <a:ext cx="533520" cy="533160"/>
              <a:chOff x="5257800" y="3505320"/>
              <a:chExt cx="533520" cy="533160"/>
            </a:xfrm>
          </p:grpSpPr>
          <p:sp>
            <p:nvSpPr>
              <p:cNvPr id="3154" name=""/>
              <p:cNvSpPr/>
              <p:nvPr/>
            </p:nvSpPr>
            <p:spPr>
              <a:xfrm>
                <a:off x="5334120" y="35812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5257800" y="35053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56" name=""/>
            <p:cNvCxnSpPr>
              <a:stCxn id="3093" idx="6"/>
              <a:endCxn id="3155" idx="2"/>
            </p:cNvCxnSpPr>
            <p:nvPr/>
          </p:nvCxnSpPr>
          <p:spPr>
            <a:xfrm flipV="1">
              <a:off x="4886280" y="3771720"/>
              <a:ext cx="362520" cy="1219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7" name=""/>
            <p:cNvCxnSpPr>
              <a:stCxn id="3155" idx="6"/>
              <a:endCxn id="3126" idx="2"/>
            </p:cNvCxnSpPr>
            <p:nvPr/>
          </p:nvCxnSpPr>
          <p:spPr>
            <a:xfrm>
              <a:off x="5800680" y="3772080"/>
              <a:ext cx="36252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8" name=""/>
            <p:cNvSpPr/>
            <p:nvPr/>
          </p:nvSpPr>
          <p:spPr>
            <a:xfrm>
              <a:off x="5029200" y="49528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9" name=""/>
          <p:cNvGrpSpPr/>
          <p:nvPr/>
        </p:nvGrpSpPr>
        <p:grpSpPr>
          <a:xfrm>
            <a:off x="523800" y="114480"/>
            <a:ext cx="7696440" cy="3202560"/>
            <a:chOff x="523800" y="114480"/>
            <a:chExt cx="7696440" cy="3202560"/>
          </a:xfrm>
        </p:grpSpPr>
        <p:sp>
          <p:nvSpPr>
            <p:cNvPr id="3160" name=""/>
            <p:cNvSpPr/>
            <p:nvPr/>
          </p:nvSpPr>
          <p:spPr>
            <a:xfrm>
              <a:off x="676440" y="1562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52380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666800" y="2400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514520" y="232416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590920" y="1828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438280" y="17524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3419640" y="1562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26700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4334040" y="1562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418140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590920" y="9144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438280" y="8380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666800" y="1562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51452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666800" y="647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514520" y="5716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6" name=""/>
            <p:cNvGrpSpPr/>
            <p:nvPr/>
          </p:nvGrpSpPr>
          <p:grpSpPr>
            <a:xfrm>
              <a:off x="5705640" y="1486080"/>
              <a:ext cx="533160" cy="533160"/>
              <a:chOff x="5705640" y="1486080"/>
              <a:chExt cx="533160" cy="533160"/>
            </a:xfrm>
          </p:grpSpPr>
          <p:sp>
            <p:nvSpPr>
              <p:cNvPr id="3177" name=""/>
              <p:cNvSpPr/>
              <p:nvPr/>
            </p:nvSpPr>
            <p:spPr>
              <a:xfrm>
                <a:off x="5857560" y="156204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5705640" y="148608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9" name=""/>
            <p:cNvGrpSpPr/>
            <p:nvPr/>
          </p:nvGrpSpPr>
          <p:grpSpPr>
            <a:xfrm>
              <a:off x="5324400" y="2781360"/>
              <a:ext cx="533520" cy="533520"/>
              <a:chOff x="5324400" y="2781360"/>
              <a:chExt cx="533520" cy="533520"/>
            </a:xfrm>
          </p:grpSpPr>
          <p:sp>
            <p:nvSpPr>
              <p:cNvPr id="3180" name=""/>
              <p:cNvSpPr/>
              <p:nvPr/>
            </p:nvSpPr>
            <p:spPr>
              <a:xfrm>
                <a:off x="5476680" y="28576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5324400" y="278136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2" name=""/>
            <p:cNvSpPr/>
            <p:nvPr/>
          </p:nvSpPr>
          <p:spPr>
            <a:xfrm>
              <a:off x="5248440" y="7239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095800" y="64764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4" name=""/>
            <p:cNvGrpSpPr/>
            <p:nvPr/>
          </p:nvGrpSpPr>
          <p:grpSpPr>
            <a:xfrm>
              <a:off x="6696000" y="2781360"/>
              <a:ext cx="533520" cy="533520"/>
              <a:chOff x="6696000" y="2781360"/>
              <a:chExt cx="533520" cy="533520"/>
            </a:xfrm>
          </p:grpSpPr>
          <p:sp>
            <p:nvSpPr>
              <p:cNvPr id="3185" name=""/>
              <p:cNvSpPr/>
              <p:nvPr/>
            </p:nvSpPr>
            <p:spPr>
              <a:xfrm>
                <a:off x="6848640" y="28576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696000" y="278136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7" name=""/>
            <p:cNvSpPr/>
            <p:nvPr/>
          </p:nvSpPr>
          <p:spPr>
            <a:xfrm>
              <a:off x="6924600" y="1562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677232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839000" y="1562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68672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1" name=""/>
            <p:cNvCxnSpPr>
              <a:stCxn id="3161" idx="6"/>
              <a:endCxn id="3173" idx="2"/>
            </p:cNvCxnSpPr>
            <p:nvPr/>
          </p:nvCxnSpPr>
          <p:spPr>
            <a:xfrm>
              <a:off x="1066320" y="175212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2" name=""/>
            <p:cNvCxnSpPr>
              <a:stCxn id="3161" idx="6"/>
              <a:endCxn id="3175" idx="2"/>
            </p:cNvCxnSpPr>
            <p:nvPr/>
          </p:nvCxnSpPr>
          <p:spPr>
            <a:xfrm flipV="1">
              <a:off x="1066320" y="837720"/>
              <a:ext cx="4388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3" name=""/>
            <p:cNvCxnSpPr>
              <a:stCxn id="3161" idx="6"/>
              <a:endCxn id="3163" idx="2"/>
            </p:cNvCxnSpPr>
            <p:nvPr/>
          </p:nvCxnSpPr>
          <p:spPr>
            <a:xfrm>
              <a:off x="1066320" y="1752120"/>
              <a:ext cx="43884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4" name=""/>
            <p:cNvCxnSpPr>
              <a:stCxn id="3173" idx="4"/>
              <a:endCxn id="3163" idx="0"/>
            </p:cNvCxnSpPr>
            <p:nvPr/>
          </p:nvCxnSpPr>
          <p:spPr>
            <a:xfrm>
              <a:off x="1780920" y="202860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5" name=""/>
            <p:cNvCxnSpPr>
              <a:stCxn id="3175" idx="6"/>
              <a:endCxn id="3171" idx="2"/>
            </p:cNvCxnSpPr>
            <p:nvPr/>
          </p:nvCxnSpPr>
          <p:spPr>
            <a:xfrm>
              <a:off x="2057400" y="83772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6" name=""/>
            <p:cNvCxnSpPr>
              <a:stCxn id="3173" idx="6"/>
              <a:endCxn id="3165" idx="2"/>
            </p:cNvCxnSpPr>
            <p:nvPr/>
          </p:nvCxnSpPr>
          <p:spPr>
            <a:xfrm>
              <a:off x="2057400" y="175212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7" name=""/>
            <p:cNvCxnSpPr>
              <a:stCxn id="3163" idx="6"/>
              <a:endCxn id="3165" idx="2"/>
            </p:cNvCxnSpPr>
            <p:nvPr/>
          </p:nvCxnSpPr>
          <p:spPr>
            <a:xfrm flipV="1">
              <a:off x="2057400" y="2018880"/>
              <a:ext cx="372240" cy="572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8" name=""/>
            <p:cNvCxnSpPr>
              <a:stCxn id="3171" idx="6"/>
              <a:endCxn id="3167" idx="2"/>
            </p:cNvCxnSpPr>
            <p:nvPr/>
          </p:nvCxnSpPr>
          <p:spPr>
            <a:xfrm>
              <a:off x="2981160" y="1104480"/>
              <a:ext cx="277200" cy="648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9" name=""/>
            <p:cNvCxnSpPr>
              <a:stCxn id="3163" idx="6"/>
              <a:endCxn id="3167" idx="4"/>
            </p:cNvCxnSpPr>
            <p:nvPr/>
          </p:nvCxnSpPr>
          <p:spPr>
            <a:xfrm flipV="1">
              <a:off x="2057040" y="2028240"/>
              <a:ext cx="1477080" cy="56268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0" name=""/>
            <p:cNvCxnSpPr>
              <a:stCxn id="3165" idx="6"/>
              <a:endCxn id="3167" idx="2"/>
            </p:cNvCxnSpPr>
            <p:nvPr/>
          </p:nvCxnSpPr>
          <p:spPr>
            <a:xfrm flipV="1">
              <a:off x="2981160" y="1752120"/>
              <a:ext cx="27720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1" name=""/>
            <p:cNvCxnSpPr>
              <a:stCxn id="3167" idx="6"/>
              <a:endCxn id="3169" idx="2"/>
            </p:cNvCxnSpPr>
            <p:nvPr/>
          </p:nvCxnSpPr>
          <p:spPr>
            <a:xfrm>
              <a:off x="3809880" y="175212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2" name=""/>
            <p:cNvCxnSpPr>
              <a:stCxn id="3169" idx="6"/>
              <a:endCxn id="3181" idx="2"/>
            </p:cNvCxnSpPr>
            <p:nvPr/>
          </p:nvCxnSpPr>
          <p:spPr>
            <a:xfrm>
              <a:off x="4723920" y="1752120"/>
              <a:ext cx="591120" cy="129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3" name=""/>
            <p:cNvCxnSpPr>
              <a:stCxn id="3169" idx="6"/>
              <a:endCxn id="3183" idx="2"/>
            </p:cNvCxnSpPr>
            <p:nvPr/>
          </p:nvCxnSpPr>
          <p:spPr>
            <a:xfrm flipV="1">
              <a:off x="4724280" y="914040"/>
              <a:ext cx="36252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4" name=""/>
            <p:cNvCxnSpPr>
              <a:stCxn id="3169" idx="6"/>
              <a:endCxn id="3178" idx="2"/>
            </p:cNvCxnSpPr>
            <p:nvPr/>
          </p:nvCxnSpPr>
          <p:spPr>
            <a:xfrm>
              <a:off x="4723920" y="175212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5" name=""/>
            <p:cNvCxnSpPr>
              <a:stCxn id="3181" idx="0"/>
              <a:endCxn id="3178" idx="2"/>
            </p:cNvCxnSpPr>
            <p:nvPr/>
          </p:nvCxnSpPr>
          <p:spPr>
            <a:xfrm flipV="1">
              <a:off x="5590800" y="1751760"/>
              <a:ext cx="105480" cy="1019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6" name=""/>
            <p:cNvCxnSpPr>
              <a:stCxn id="3183" idx="7"/>
              <a:endCxn id="3183" idx="1"/>
            </p:cNvCxnSpPr>
            <p:nvPr/>
          </p:nvCxnSpPr>
          <p:spPr>
            <a:xfrm rot="5400000">
              <a:off x="5361120" y="527760"/>
              <a:ext cx="2160" cy="378720"/>
            </a:xfrm>
            <a:prstGeom prst="curvedConnector5">
              <a:avLst>
                <a:gd name="adj1" fmla="val -22000000"/>
                <a:gd name="adj2" fmla="val 49952"/>
                <a:gd name="adj3" fmla="val -22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7" name=""/>
            <p:cNvCxnSpPr>
              <a:stCxn id="3183" idx="6"/>
              <a:endCxn id="3188" idx="2"/>
            </p:cNvCxnSpPr>
            <p:nvPr/>
          </p:nvCxnSpPr>
          <p:spPr>
            <a:xfrm>
              <a:off x="5638680" y="914400"/>
              <a:ext cx="112464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8" name=""/>
            <p:cNvCxnSpPr>
              <a:stCxn id="3186" idx="0"/>
              <a:endCxn id="3188" idx="4"/>
            </p:cNvCxnSpPr>
            <p:nvPr/>
          </p:nvCxnSpPr>
          <p:spPr>
            <a:xfrm flipV="1">
              <a:off x="6962760" y="2028240"/>
              <a:ext cx="76680" cy="74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9" name=""/>
            <p:cNvCxnSpPr>
              <a:stCxn id="3181" idx="6"/>
              <a:endCxn id="3186" idx="2"/>
            </p:cNvCxnSpPr>
            <p:nvPr/>
          </p:nvCxnSpPr>
          <p:spPr>
            <a:xfrm>
              <a:off x="5867280" y="3047760"/>
              <a:ext cx="820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0" name=""/>
            <p:cNvCxnSpPr>
              <a:stCxn id="3181" idx="6"/>
              <a:endCxn id="3188" idx="2"/>
            </p:cNvCxnSpPr>
            <p:nvPr/>
          </p:nvCxnSpPr>
          <p:spPr>
            <a:xfrm flipV="1">
              <a:off x="5866920" y="1751760"/>
              <a:ext cx="896040" cy="129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1" name=""/>
            <p:cNvCxnSpPr>
              <a:stCxn id="3186" idx="6"/>
              <a:endCxn id="3190" idx="3"/>
            </p:cNvCxnSpPr>
            <p:nvPr/>
          </p:nvCxnSpPr>
          <p:spPr>
            <a:xfrm flipV="1">
              <a:off x="7238880" y="1950480"/>
              <a:ext cx="526320" cy="109764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2" name=""/>
            <p:cNvCxnSpPr>
              <a:stCxn id="3188" idx="6"/>
              <a:endCxn id="3190" idx="2"/>
            </p:cNvCxnSpPr>
            <p:nvPr/>
          </p:nvCxnSpPr>
          <p:spPr>
            <a:xfrm>
              <a:off x="7314840" y="175212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13" name=""/>
            <p:cNvSpPr/>
            <p:nvPr/>
          </p:nvSpPr>
          <p:spPr>
            <a:xfrm>
              <a:off x="914400" y="1066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990720" y="2209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1066680" y="15238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1981080" y="1600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209680" y="25146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133720" y="2209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400720" y="24004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1676520" y="1981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5400720" y="1144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934240" y="9525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7229520" y="2629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4572000" y="1066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4791240" y="1486080"/>
              <a:ext cx="59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857920" y="300996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6086520" y="24004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4486320" y="20955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620040" y="24004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30" name=""/>
            <p:cNvCxnSpPr>
              <a:stCxn id="3178" idx="6"/>
              <a:endCxn id="3188" idx="2"/>
            </p:cNvCxnSpPr>
            <p:nvPr/>
          </p:nvCxnSpPr>
          <p:spPr>
            <a:xfrm>
              <a:off x="6248520" y="1752120"/>
              <a:ext cx="514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1447920" y="1295280"/>
            <a:ext cx="5181480" cy="2286000"/>
            <a:chOff x="1447920" y="1295280"/>
            <a:chExt cx="5181480" cy="2286000"/>
          </a:xfrm>
        </p:grpSpPr>
        <p:grpSp>
          <p:nvGrpSpPr>
            <p:cNvPr id="473" name=""/>
            <p:cNvGrpSpPr/>
            <p:nvPr/>
          </p:nvGrpSpPr>
          <p:grpSpPr>
            <a:xfrm>
              <a:off x="2743200" y="2209680"/>
              <a:ext cx="761760" cy="533160"/>
              <a:chOff x="2743200" y="2209680"/>
              <a:chExt cx="761760" cy="533160"/>
            </a:xfrm>
          </p:grpSpPr>
          <p:sp>
            <p:nvSpPr>
              <p:cNvPr id="474" name=""/>
              <p:cNvSpPr/>
              <p:nvPr/>
            </p:nvSpPr>
            <p:spPr>
              <a:xfrm>
                <a:off x="2743200" y="220968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971800" y="228564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743200" y="3047760"/>
              <a:ext cx="761760" cy="533520"/>
              <a:chOff x="2743200" y="3047760"/>
              <a:chExt cx="761760" cy="533520"/>
            </a:xfrm>
          </p:grpSpPr>
          <p:sp>
            <p:nvSpPr>
              <p:cNvPr id="477" name=""/>
              <p:cNvSpPr/>
              <p:nvPr/>
            </p:nvSpPr>
            <p:spPr>
              <a:xfrm>
                <a:off x="2743200" y="30477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971800" y="31240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4038840" y="2209680"/>
              <a:ext cx="761760" cy="533160"/>
              <a:chOff x="4038840" y="2209680"/>
              <a:chExt cx="761760" cy="533160"/>
            </a:xfrm>
          </p:grpSpPr>
          <p:sp>
            <p:nvSpPr>
              <p:cNvPr id="480" name=""/>
              <p:cNvSpPr/>
              <p:nvPr/>
            </p:nvSpPr>
            <p:spPr>
              <a:xfrm>
                <a:off x="4038840" y="220968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267440" y="228564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4038840" y="3047760"/>
              <a:ext cx="761760" cy="533520"/>
              <a:chOff x="4038840" y="3047760"/>
              <a:chExt cx="761760" cy="533520"/>
            </a:xfrm>
          </p:grpSpPr>
          <p:sp>
            <p:nvSpPr>
              <p:cNvPr id="483" name=""/>
              <p:cNvSpPr/>
              <p:nvPr/>
            </p:nvSpPr>
            <p:spPr>
              <a:xfrm>
                <a:off x="4038840" y="30477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267440" y="31240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5181840" y="2590560"/>
              <a:ext cx="761760" cy="533520"/>
              <a:chOff x="5181840" y="2590560"/>
              <a:chExt cx="761760" cy="533520"/>
            </a:xfrm>
          </p:grpSpPr>
          <p:sp>
            <p:nvSpPr>
              <p:cNvPr id="486" name=""/>
              <p:cNvSpPr/>
              <p:nvPr/>
            </p:nvSpPr>
            <p:spPr>
              <a:xfrm>
                <a:off x="5181840" y="25905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10440" y="26668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1447920" y="2590560"/>
              <a:ext cx="761760" cy="533520"/>
              <a:chOff x="1447920" y="2590560"/>
              <a:chExt cx="761760" cy="533520"/>
            </a:xfrm>
          </p:grpSpPr>
          <p:sp>
            <p:nvSpPr>
              <p:cNvPr id="489" name=""/>
              <p:cNvSpPr/>
              <p:nvPr/>
            </p:nvSpPr>
            <p:spPr>
              <a:xfrm>
                <a:off x="1447920" y="25905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676520" y="26668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5867640" y="1295280"/>
              <a:ext cx="761760" cy="533160"/>
              <a:chOff x="5867640" y="1295280"/>
              <a:chExt cx="761760" cy="533160"/>
            </a:xfrm>
          </p:grpSpPr>
          <p:sp>
            <p:nvSpPr>
              <p:cNvPr id="492" name=""/>
              <p:cNvSpPr/>
              <p:nvPr/>
            </p:nvSpPr>
            <p:spPr>
              <a:xfrm>
                <a:off x="5867640" y="129528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96240" y="137124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4" name=""/>
            <p:cNvCxnSpPr>
              <a:stCxn id="489" idx="7"/>
              <a:endCxn id="474" idx="2"/>
            </p:cNvCxnSpPr>
            <p:nvPr/>
          </p:nvCxnSpPr>
          <p:spPr>
            <a:xfrm flipV="1">
              <a:off x="2098800" y="2475720"/>
              <a:ext cx="635760" cy="183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"/>
            <p:cNvCxnSpPr>
              <a:stCxn id="489" idx="5"/>
              <a:endCxn id="477" idx="2"/>
            </p:cNvCxnSpPr>
            <p:nvPr/>
          </p:nvCxnSpPr>
          <p:spPr>
            <a:xfrm>
              <a:off x="2098800" y="3055320"/>
              <a:ext cx="635760" cy="259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/>
            <p:nvPr/>
          </p:nvCxnSpPr>
          <p:spPr>
            <a:xfrm>
              <a:off x="3505320" y="2513880"/>
              <a:ext cx="534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77" idx="6"/>
              <a:endCxn id="483" idx="2"/>
            </p:cNvCxnSpPr>
            <p:nvPr/>
          </p:nvCxnSpPr>
          <p:spPr>
            <a:xfrm>
              <a:off x="3514320" y="331416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"/>
            <p:cNvCxnSpPr>
              <a:stCxn id="474" idx="7"/>
              <a:endCxn id="492" idx="2"/>
            </p:cNvCxnSpPr>
            <p:nvPr/>
          </p:nvCxnSpPr>
          <p:spPr>
            <a:xfrm flipV="1">
              <a:off x="3394080" y="1561680"/>
              <a:ext cx="2464560" cy="716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9" name=""/>
            <p:cNvCxnSpPr>
              <a:stCxn id="483" idx="6"/>
              <a:endCxn id="486" idx="3"/>
            </p:cNvCxnSpPr>
            <p:nvPr/>
          </p:nvCxnSpPr>
          <p:spPr>
            <a:xfrm flipV="1">
              <a:off x="4810320" y="3054960"/>
              <a:ext cx="483120" cy="259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0" name=""/>
            <p:cNvCxnSpPr>
              <a:stCxn id="480" idx="6"/>
              <a:endCxn id="492" idx="3"/>
            </p:cNvCxnSpPr>
            <p:nvPr/>
          </p:nvCxnSpPr>
          <p:spPr>
            <a:xfrm flipV="1">
              <a:off x="4809960" y="1759680"/>
              <a:ext cx="1168920" cy="716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1" name=""/>
            <p:cNvCxnSpPr>
              <a:stCxn id="486" idx="7"/>
              <a:endCxn id="492" idx="4"/>
            </p:cNvCxnSpPr>
            <p:nvPr/>
          </p:nvCxnSpPr>
          <p:spPr>
            <a:xfrm flipV="1">
              <a:off x="5832360" y="1837800"/>
              <a:ext cx="416520" cy="821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2" name=""/>
            <p:cNvCxnSpPr>
              <a:stCxn id="480" idx="5"/>
              <a:endCxn id="486" idx="2"/>
            </p:cNvCxnSpPr>
            <p:nvPr/>
          </p:nvCxnSpPr>
          <p:spPr>
            <a:xfrm>
              <a:off x="4689720" y="2674440"/>
              <a:ext cx="483120" cy="183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762120" y="2529720"/>
            <a:ext cx="6933960" cy="3004560"/>
            <a:chOff x="762120" y="2529720"/>
            <a:chExt cx="6933960" cy="3004560"/>
          </a:xfrm>
        </p:grpSpPr>
        <p:grpSp>
          <p:nvGrpSpPr>
            <p:cNvPr id="504" name=""/>
            <p:cNvGrpSpPr/>
            <p:nvPr/>
          </p:nvGrpSpPr>
          <p:grpSpPr>
            <a:xfrm>
              <a:off x="2286000" y="3124080"/>
              <a:ext cx="761760" cy="533520"/>
              <a:chOff x="2286000" y="3124080"/>
              <a:chExt cx="761760" cy="533520"/>
            </a:xfrm>
          </p:grpSpPr>
          <p:sp>
            <p:nvSpPr>
              <p:cNvPr id="505" name=""/>
              <p:cNvSpPr/>
              <p:nvPr/>
            </p:nvSpPr>
            <p:spPr>
              <a:xfrm>
                <a:off x="2286000" y="31240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514600" y="32004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657600" y="3124080"/>
              <a:ext cx="761760" cy="533520"/>
              <a:chOff x="3657600" y="3124080"/>
              <a:chExt cx="761760" cy="533520"/>
            </a:xfrm>
          </p:grpSpPr>
          <p:sp>
            <p:nvSpPr>
              <p:cNvPr id="508" name=""/>
              <p:cNvSpPr/>
              <p:nvPr/>
            </p:nvSpPr>
            <p:spPr>
              <a:xfrm>
                <a:off x="3657600" y="31240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886200" y="32004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105520" y="3124080"/>
              <a:ext cx="761760" cy="533520"/>
              <a:chOff x="5105520" y="3124080"/>
              <a:chExt cx="761760" cy="533520"/>
            </a:xfrm>
          </p:grpSpPr>
          <p:sp>
            <p:nvSpPr>
              <p:cNvPr id="511" name=""/>
              <p:cNvSpPr/>
              <p:nvPr/>
            </p:nvSpPr>
            <p:spPr>
              <a:xfrm>
                <a:off x="5105520" y="31240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34120" y="32004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62120" y="3124080"/>
              <a:ext cx="761760" cy="533520"/>
              <a:chOff x="762120" y="3124080"/>
              <a:chExt cx="761760" cy="533520"/>
            </a:xfrm>
          </p:grpSpPr>
          <p:sp>
            <p:nvSpPr>
              <p:cNvPr id="514" name=""/>
              <p:cNvSpPr/>
              <p:nvPr/>
            </p:nvSpPr>
            <p:spPr>
              <a:xfrm>
                <a:off x="762120" y="31240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990720" y="32004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934320" y="3124080"/>
              <a:ext cx="761760" cy="533520"/>
              <a:chOff x="6934320" y="3124080"/>
              <a:chExt cx="761760" cy="533520"/>
            </a:xfrm>
          </p:grpSpPr>
          <p:sp>
            <p:nvSpPr>
              <p:cNvPr id="517" name=""/>
              <p:cNvSpPr/>
              <p:nvPr/>
            </p:nvSpPr>
            <p:spPr>
              <a:xfrm>
                <a:off x="6934320" y="31240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162920" y="32004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"/>
            <p:cNvCxnSpPr>
              <a:stCxn id="514" idx="6"/>
              <a:endCxn id="505" idx="2"/>
            </p:cNvCxnSpPr>
            <p:nvPr/>
          </p:nvCxnSpPr>
          <p:spPr>
            <a:xfrm>
              <a:off x="1533600" y="3390480"/>
              <a:ext cx="7437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505" idx="6"/>
              <a:endCxn id="508" idx="2"/>
            </p:cNvCxnSpPr>
            <p:nvPr/>
          </p:nvCxnSpPr>
          <p:spPr>
            <a:xfrm>
              <a:off x="3057120" y="339048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1" idx="6"/>
              <a:endCxn id="517" idx="2"/>
            </p:cNvCxnSpPr>
            <p:nvPr/>
          </p:nvCxnSpPr>
          <p:spPr>
            <a:xfrm>
              <a:off x="5877000" y="3390480"/>
              <a:ext cx="1048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508" idx="6"/>
              <a:endCxn id="511" idx="2"/>
            </p:cNvCxnSpPr>
            <p:nvPr/>
          </p:nvCxnSpPr>
          <p:spPr>
            <a:xfrm>
              <a:off x="4429080" y="3390480"/>
              <a:ext cx="667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508" idx="0"/>
              <a:endCxn id="505" idx="0"/>
            </p:cNvCxnSpPr>
            <p:nvPr/>
          </p:nvCxnSpPr>
          <p:spPr>
            <a:xfrm rot="5400000">
              <a:off x="3351240" y="2429640"/>
              <a:ext cx="2160" cy="1372320"/>
            </a:xfrm>
            <a:prstGeom prst="curvedConnector5">
              <a:avLst>
                <a:gd name="adj1" fmla="val -32500000"/>
                <a:gd name="adj2" fmla="val 49986"/>
                <a:gd name="adj3" fmla="val -325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511" idx="4"/>
              <a:endCxn id="505" idx="4"/>
            </p:cNvCxnSpPr>
            <p:nvPr/>
          </p:nvCxnSpPr>
          <p:spPr>
            <a:xfrm rot="5400000">
              <a:off x="4075200" y="2257920"/>
              <a:ext cx="2520" cy="2820240"/>
            </a:xfrm>
            <a:prstGeom prst="curvedConnector5">
              <a:avLst>
                <a:gd name="adj1" fmla="val 33283333"/>
                <a:gd name="adj2" fmla="val 49993"/>
                <a:gd name="adj3" fmla="val 332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5" name=""/>
            <p:cNvSpPr/>
            <p:nvPr/>
          </p:nvSpPr>
          <p:spPr>
            <a:xfrm>
              <a:off x="3048120" y="3352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24080" y="25909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09880" y="3886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95680" y="3124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248520" y="3124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76520" y="3124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14600" y="4952880"/>
              <a:ext cx="3124080" cy="581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èle ayant appris la séquence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1012010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3886200" y="1339560"/>
            <a:ext cx="4952880" cy="2662560"/>
            <a:chOff x="3886200" y="1339560"/>
            <a:chExt cx="4952880" cy="2662560"/>
          </a:xfrm>
        </p:grpSpPr>
        <p:grpSp>
          <p:nvGrpSpPr>
            <p:cNvPr id="533" name=""/>
            <p:cNvGrpSpPr/>
            <p:nvPr/>
          </p:nvGrpSpPr>
          <p:grpSpPr>
            <a:xfrm>
              <a:off x="5181480" y="2514600"/>
              <a:ext cx="761760" cy="533520"/>
              <a:chOff x="5181480" y="2514600"/>
              <a:chExt cx="761760" cy="533520"/>
            </a:xfrm>
          </p:grpSpPr>
          <p:sp>
            <p:nvSpPr>
              <p:cNvPr id="534" name=""/>
              <p:cNvSpPr/>
              <p:nvPr/>
            </p:nvSpPr>
            <p:spPr>
              <a:xfrm>
                <a:off x="5181480" y="25146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10080" y="25909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6553080" y="2514600"/>
              <a:ext cx="761760" cy="533520"/>
              <a:chOff x="6553080" y="2514600"/>
              <a:chExt cx="761760" cy="533520"/>
            </a:xfrm>
          </p:grpSpPr>
          <p:sp>
            <p:nvSpPr>
              <p:cNvPr id="537" name=""/>
              <p:cNvSpPr/>
              <p:nvPr/>
            </p:nvSpPr>
            <p:spPr>
              <a:xfrm>
                <a:off x="6553080" y="25146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81680" y="25909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5791320" y="1676520"/>
              <a:ext cx="761760" cy="533160"/>
              <a:chOff x="5791320" y="1676520"/>
              <a:chExt cx="761760" cy="533160"/>
            </a:xfrm>
          </p:grpSpPr>
          <p:sp>
            <p:nvSpPr>
              <p:cNvPr id="540" name=""/>
              <p:cNvSpPr/>
              <p:nvPr/>
            </p:nvSpPr>
            <p:spPr>
              <a:xfrm>
                <a:off x="5791320" y="167652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019920" y="17524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3886200" y="2514600"/>
              <a:ext cx="761760" cy="533520"/>
              <a:chOff x="3886200" y="2514600"/>
              <a:chExt cx="761760" cy="533520"/>
            </a:xfrm>
          </p:grpSpPr>
          <p:sp>
            <p:nvSpPr>
              <p:cNvPr id="543" name=""/>
              <p:cNvSpPr/>
              <p:nvPr/>
            </p:nvSpPr>
            <p:spPr>
              <a:xfrm>
                <a:off x="3886200" y="25146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114800" y="25909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8077320" y="2514600"/>
              <a:ext cx="761760" cy="533520"/>
              <a:chOff x="8077320" y="2514600"/>
              <a:chExt cx="761760" cy="533520"/>
            </a:xfrm>
          </p:grpSpPr>
          <p:sp>
            <p:nvSpPr>
              <p:cNvPr id="546" name=""/>
              <p:cNvSpPr/>
              <p:nvPr/>
            </p:nvSpPr>
            <p:spPr>
              <a:xfrm>
                <a:off x="8077320" y="25146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305920" y="25909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48" name=""/>
            <p:cNvCxnSpPr>
              <a:stCxn id="543" idx="6"/>
              <a:endCxn id="534" idx="2"/>
            </p:cNvCxnSpPr>
            <p:nvPr/>
          </p:nvCxnSpPr>
          <p:spPr>
            <a:xfrm>
              <a:off x="4657320" y="278100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9" name=""/>
            <p:cNvCxnSpPr>
              <a:stCxn id="534" idx="6"/>
              <a:endCxn id="537" idx="2"/>
            </p:cNvCxnSpPr>
            <p:nvPr/>
          </p:nvCxnSpPr>
          <p:spPr>
            <a:xfrm>
              <a:off x="5952600" y="278100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0" name=""/>
            <p:cNvCxnSpPr>
              <a:stCxn id="540" idx="6"/>
              <a:endCxn id="546" idx="1"/>
            </p:cNvCxnSpPr>
            <p:nvPr/>
          </p:nvCxnSpPr>
          <p:spPr>
            <a:xfrm>
              <a:off x="6562440" y="1942920"/>
              <a:ext cx="1626120" cy="640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1" name=""/>
            <p:cNvCxnSpPr>
              <a:stCxn id="540" idx="3"/>
              <a:endCxn id="534" idx="0"/>
            </p:cNvCxnSpPr>
            <p:nvPr/>
          </p:nvCxnSpPr>
          <p:spPr>
            <a:xfrm flipH="1">
              <a:off x="5562000" y="2141640"/>
              <a:ext cx="340200" cy="364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2" name=""/>
            <p:cNvCxnSpPr>
              <a:stCxn id="540" idx="7"/>
              <a:endCxn id="540" idx="1"/>
            </p:cNvCxnSpPr>
            <p:nvPr/>
          </p:nvCxnSpPr>
          <p:spPr>
            <a:xfrm rot="5400000">
              <a:off x="6170760" y="1474560"/>
              <a:ext cx="2520" cy="540720"/>
            </a:xfrm>
            <a:prstGeom prst="curvedConnector5">
              <a:avLst>
                <a:gd name="adj1" fmla="val -18700000"/>
                <a:gd name="adj2" fmla="val 49966"/>
                <a:gd name="adj3" fmla="val -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3" name=""/>
            <p:cNvCxnSpPr>
              <a:stCxn id="554" idx="5"/>
              <a:endCxn id="554" idx="3"/>
            </p:cNvCxnSpPr>
            <p:nvPr/>
          </p:nvCxnSpPr>
          <p:spPr>
            <a:xfrm rot="5400000">
              <a:off x="7846920" y="3396240"/>
              <a:ext cx="2160" cy="540360"/>
            </a:xfrm>
            <a:prstGeom prst="curvedConnector5">
              <a:avLst>
                <a:gd name="adj1" fmla="val 18700000"/>
                <a:gd name="adj2" fmla="val 50000"/>
                <a:gd name="adj3" fmla="val 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5" name=""/>
            <p:cNvCxnSpPr>
              <a:stCxn id="540" idx="5"/>
              <a:endCxn id="537" idx="1"/>
            </p:cNvCxnSpPr>
            <p:nvPr/>
          </p:nvCxnSpPr>
          <p:spPr>
            <a:xfrm>
              <a:off x="6441840" y="2141640"/>
              <a:ext cx="222840" cy="442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56" name=""/>
            <p:cNvGrpSpPr/>
            <p:nvPr/>
          </p:nvGrpSpPr>
          <p:grpSpPr>
            <a:xfrm>
              <a:off x="7467480" y="3200400"/>
              <a:ext cx="761760" cy="533520"/>
              <a:chOff x="7467480" y="3200400"/>
              <a:chExt cx="761760" cy="533520"/>
            </a:xfrm>
          </p:grpSpPr>
          <p:sp>
            <p:nvSpPr>
              <p:cNvPr id="554" name=""/>
              <p:cNvSpPr/>
              <p:nvPr/>
            </p:nvSpPr>
            <p:spPr>
              <a:xfrm>
                <a:off x="7467480" y="32004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696080" y="32767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58" name=""/>
            <p:cNvCxnSpPr>
              <a:stCxn id="537" idx="6"/>
              <a:endCxn id="546" idx="2"/>
            </p:cNvCxnSpPr>
            <p:nvPr/>
          </p:nvCxnSpPr>
          <p:spPr>
            <a:xfrm>
              <a:off x="7324560" y="2781000"/>
              <a:ext cx="7437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>
              <a:stCxn id="537" idx="5"/>
              <a:endCxn id="554" idx="0"/>
            </p:cNvCxnSpPr>
            <p:nvPr/>
          </p:nvCxnSpPr>
          <p:spPr>
            <a:xfrm>
              <a:off x="7203600" y="2979360"/>
              <a:ext cx="645480" cy="212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0" name=""/>
          <p:cNvGrpSpPr/>
          <p:nvPr/>
        </p:nvGrpSpPr>
        <p:grpSpPr>
          <a:xfrm>
            <a:off x="609480" y="3904560"/>
            <a:ext cx="4952880" cy="1658160"/>
            <a:chOff x="609480" y="3904560"/>
            <a:chExt cx="4952880" cy="1658160"/>
          </a:xfrm>
        </p:grpSpPr>
        <p:grpSp>
          <p:nvGrpSpPr>
            <p:cNvPr id="561" name=""/>
            <p:cNvGrpSpPr/>
            <p:nvPr/>
          </p:nvGrpSpPr>
          <p:grpSpPr>
            <a:xfrm>
              <a:off x="1905120" y="5029200"/>
              <a:ext cx="761760" cy="533520"/>
              <a:chOff x="1905120" y="5029200"/>
              <a:chExt cx="761760" cy="53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1905120" y="50292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133720" y="51055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3276720" y="5029200"/>
              <a:ext cx="761760" cy="533520"/>
              <a:chOff x="3276720" y="5029200"/>
              <a:chExt cx="76176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3276720" y="50292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505320" y="51055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2286000" y="4038480"/>
              <a:ext cx="761760" cy="533520"/>
              <a:chOff x="2286000" y="4038480"/>
              <a:chExt cx="761760" cy="533520"/>
            </a:xfrm>
          </p:grpSpPr>
          <p:sp>
            <p:nvSpPr>
              <p:cNvPr id="568" name=""/>
              <p:cNvSpPr/>
              <p:nvPr/>
            </p:nvSpPr>
            <p:spPr>
              <a:xfrm>
                <a:off x="2286000" y="40384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514600" y="41148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609480" y="5029200"/>
              <a:ext cx="761760" cy="533520"/>
              <a:chOff x="609480" y="5029200"/>
              <a:chExt cx="761760" cy="533520"/>
            </a:xfrm>
          </p:grpSpPr>
          <p:sp>
            <p:nvSpPr>
              <p:cNvPr id="571" name=""/>
              <p:cNvSpPr/>
              <p:nvPr/>
            </p:nvSpPr>
            <p:spPr>
              <a:xfrm>
                <a:off x="609480" y="50292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38080" y="51055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4800600" y="5029200"/>
              <a:ext cx="761760" cy="533520"/>
              <a:chOff x="4800600" y="5029200"/>
              <a:chExt cx="761760" cy="533520"/>
            </a:xfrm>
          </p:grpSpPr>
          <p:sp>
            <p:nvSpPr>
              <p:cNvPr id="574" name=""/>
              <p:cNvSpPr/>
              <p:nvPr/>
            </p:nvSpPr>
            <p:spPr>
              <a:xfrm>
                <a:off x="4800600" y="50292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029200" y="51055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76" name=""/>
            <p:cNvCxnSpPr>
              <a:stCxn id="571" idx="6"/>
              <a:endCxn id="562" idx="2"/>
            </p:cNvCxnSpPr>
            <p:nvPr/>
          </p:nvCxnSpPr>
          <p:spPr>
            <a:xfrm>
              <a:off x="1380600" y="529560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7" name=""/>
            <p:cNvCxnSpPr>
              <a:stCxn id="562" idx="6"/>
              <a:endCxn id="565" idx="2"/>
            </p:cNvCxnSpPr>
            <p:nvPr/>
          </p:nvCxnSpPr>
          <p:spPr>
            <a:xfrm>
              <a:off x="2676600" y="529560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8" name=""/>
            <p:cNvCxnSpPr>
              <a:stCxn id="568" idx="4"/>
              <a:endCxn id="562" idx="0"/>
            </p:cNvCxnSpPr>
            <p:nvPr/>
          </p:nvCxnSpPr>
          <p:spPr>
            <a:xfrm flipH="1">
              <a:off x="2285640" y="4581360"/>
              <a:ext cx="381600" cy="439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579" name=""/>
            <p:cNvCxnSpPr>
              <a:stCxn id="568" idx="7"/>
              <a:endCxn id="580" idx="0"/>
            </p:cNvCxnSpPr>
            <p:nvPr/>
          </p:nvCxnSpPr>
          <p:spPr>
            <a:xfrm flipH="1" flipV="1" rot="5400000">
              <a:off x="3486600" y="3478680"/>
              <a:ext cx="78480" cy="1178640"/>
            </a:xfrm>
            <a:prstGeom prst="curvedConnector5">
              <a:avLst>
                <a:gd name="adj1" fmla="val 258986"/>
                <a:gd name="adj2" fmla="val 49984"/>
                <a:gd name="adj3" fmla="val 258986"/>
              </a:avLst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581" name=""/>
            <p:cNvCxnSpPr>
              <a:stCxn id="568" idx="4"/>
              <a:endCxn id="565" idx="1"/>
            </p:cNvCxnSpPr>
            <p:nvPr/>
          </p:nvCxnSpPr>
          <p:spPr>
            <a:xfrm>
              <a:off x="2666880" y="4581360"/>
              <a:ext cx="721440" cy="516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grpSp>
          <p:nvGrpSpPr>
            <p:cNvPr id="582" name=""/>
            <p:cNvGrpSpPr/>
            <p:nvPr/>
          </p:nvGrpSpPr>
          <p:grpSpPr>
            <a:xfrm>
              <a:off x="3733920" y="4038480"/>
              <a:ext cx="761760" cy="533520"/>
              <a:chOff x="3733920" y="4038480"/>
              <a:chExt cx="761760" cy="533520"/>
            </a:xfrm>
          </p:grpSpPr>
          <p:sp>
            <p:nvSpPr>
              <p:cNvPr id="580" name=""/>
              <p:cNvSpPr/>
              <p:nvPr/>
            </p:nvSpPr>
            <p:spPr>
              <a:xfrm>
                <a:off x="3733920" y="40384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962520" y="41148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84" name=""/>
            <p:cNvCxnSpPr>
              <a:stCxn id="565" idx="6"/>
              <a:endCxn id="574" idx="2"/>
            </p:cNvCxnSpPr>
            <p:nvPr/>
          </p:nvCxnSpPr>
          <p:spPr>
            <a:xfrm>
              <a:off x="4048200" y="5295600"/>
              <a:ext cx="7437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5" name=""/>
            <p:cNvCxnSpPr>
              <a:stCxn id="568" idx="5"/>
              <a:endCxn id="580" idx="4"/>
            </p:cNvCxnSpPr>
            <p:nvPr/>
          </p:nvCxnSpPr>
          <p:spPr>
            <a:xfrm flipH="1" rot="16200000">
              <a:off x="3486960" y="3953160"/>
              <a:ext cx="78480" cy="1178640"/>
            </a:xfrm>
            <a:prstGeom prst="curvedConnector5">
              <a:avLst>
                <a:gd name="adj1" fmla="val 210138"/>
                <a:gd name="adj2" fmla="val 49984"/>
                <a:gd name="adj3" fmla="val 21013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1066680" y="609480"/>
            <a:ext cx="6095520" cy="1523880"/>
            <a:chOff x="1066680" y="609480"/>
            <a:chExt cx="6095520" cy="1523880"/>
          </a:xfrm>
        </p:grpSpPr>
        <p:grpSp>
          <p:nvGrpSpPr>
            <p:cNvPr id="587" name=""/>
            <p:cNvGrpSpPr/>
            <p:nvPr/>
          </p:nvGrpSpPr>
          <p:grpSpPr>
            <a:xfrm>
              <a:off x="2361960" y="1152360"/>
              <a:ext cx="761760" cy="533520"/>
              <a:chOff x="2361960" y="1152360"/>
              <a:chExt cx="761760" cy="533520"/>
            </a:xfrm>
          </p:grpSpPr>
          <p:sp>
            <p:nvSpPr>
              <p:cNvPr id="588" name=""/>
              <p:cNvSpPr/>
              <p:nvPr/>
            </p:nvSpPr>
            <p:spPr>
              <a:xfrm>
                <a:off x="2361960" y="11523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590560" y="12286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3733560" y="609480"/>
              <a:ext cx="761760" cy="533520"/>
              <a:chOff x="3733560" y="609480"/>
              <a:chExt cx="761760" cy="533520"/>
            </a:xfrm>
          </p:grpSpPr>
          <p:sp>
            <p:nvSpPr>
              <p:cNvPr id="591" name=""/>
              <p:cNvSpPr/>
              <p:nvPr/>
            </p:nvSpPr>
            <p:spPr>
              <a:xfrm>
                <a:off x="3733560" y="6094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962160" y="6858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066680" y="1152360"/>
              <a:ext cx="761760" cy="533520"/>
              <a:chOff x="1066680" y="1152360"/>
              <a:chExt cx="761760" cy="533520"/>
            </a:xfrm>
          </p:grpSpPr>
          <p:sp>
            <p:nvSpPr>
              <p:cNvPr id="594" name=""/>
              <p:cNvSpPr/>
              <p:nvPr/>
            </p:nvSpPr>
            <p:spPr>
              <a:xfrm>
                <a:off x="1066680" y="11523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295280" y="12286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6400440" y="1143000"/>
              <a:ext cx="761760" cy="533160"/>
              <a:chOff x="6400440" y="1143000"/>
              <a:chExt cx="761760" cy="533160"/>
            </a:xfrm>
          </p:grpSpPr>
          <p:sp>
            <p:nvSpPr>
              <p:cNvPr id="597" name=""/>
              <p:cNvSpPr/>
              <p:nvPr/>
            </p:nvSpPr>
            <p:spPr>
              <a:xfrm>
                <a:off x="6400440" y="114300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629040" y="121896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99" name=""/>
            <p:cNvCxnSpPr>
              <a:stCxn id="594" idx="6"/>
              <a:endCxn id="588" idx="2"/>
            </p:cNvCxnSpPr>
            <p:nvPr/>
          </p:nvCxnSpPr>
          <p:spPr>
            <a:xfrm>
              <a:off x="1837800" y="141876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0" name=""/>
            <p:cNvCxnSpPr>
              <a:stCxn id="588" idx="6"/>
              <a:endCxn id="591" idx="2"/>
            </p:cNvCxnSpPr>
            <p:nvPr/>
          </p:nvCxnSpPr>
          <p:spPr>
            <a:xfrm flipV="1">
              <a:off x="3133080" y="875880"/>
              <a:ext cx="591120" cy="543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1" name=""/>
            <p:cNvCxnSpPr>
              <a:stCxn id="591" idx="6"/>
              <a:endCxn id="602" idx="2"/>
            </p:cNvCxnSpPr>
            <p:nvPr/>
          </p:nvCxnSpPr>
          <p:spPr>
            <a:xfrm>
              <a:off x="4504680" y="876240"/>
              <a:ext cx="515160" cy="534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03" name=""/>
            <p:cNvGrpSpPr/>
            <p:nvPr/>
          </p:nvGrpSpPr>
          <p:grpSpPr>
            <a:xfrm>
              <a:off x="5028840" y="1143000"/>
              <a:ext cx="761760" cy="533160"/>
              <a:chOff x="5028840" y="1143000"/>
              <a:chExt cx="761760" cy="533160"/>
            </a:xfrm>
          </p:grpSpPr>
          <p:sp>
            <p:nvSpPr>
              <p:cNvPr id="602" name=""/>
              <p:cNvSpPr/>
              <p:nvPr/>
            </p:nvSpPr>
            <p:spPr>
              <a:xfrm>
                <a:off x="5028840" y="114300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257440" y="121896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5" name=""/>
            <p:cNvCxnSpPr>
              <a:stCxn id="602" idx="6"/>
              <a:endCxn id="597" idx="2"/>
            </p:cNvCxnSpPr>
            <p:nvPr/>
          </p:nvCxnSpPr>
          <p:spPr>
            <a:xfrm>
              <a:off x="5799960" y="140940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06" name=""/>
            <p:cNvGrpSpPr/>
            <p:nvPr/>
          </p:nvGrpSpPr>
          <p:grpSpPr>
            <a:xfrm>
              <a:off x="3733560" y="1600200"/>
              <a:ext cx="761760" cy="533160"/>
              <a:chOff x="3733560" y="1600200"/>
              <a:chExt cx="761760" cy="533160"/>
            </a:xfrm>
          </p:grpSpPr>
          <p:sp>
            <p:nvSpPr>
              <p:cNvPr id="607" name=""/>
              <p:cNvSpPr/>
              <p:nvPr/>
            </p:nvSpPr>
            <p:spPr>
              <a:xfrm>
                <a:off x="3733560" y="160020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962160" y="167616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9" name=""/>
            <p:cNvCxnSpPr>
              <a:stCxn id="588" idx="6"/>
              <a:endCxn id="607" idx="2"/>
            </p:cNvCxnSpPr>
            <p:nvPr/>
          </p:nvCxnSpPr>
          <p:spPr>
            <a:xfrm>
              <a:off x="3133080" y="1419120"/>
              <a:ext cx="591120" cy="448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0" name=""/>
            <p:cNvCxnSpPr>
              <a:stCxn id="607" idx="6"/>
              <a:endCxn id="602" idx="2"/>
            </p:cNvCxnSpPr>
            <p:nvPr/>
          </p:nvCxnSpPr>
          <p:spPr>
            <a:xfrm flipV="1">
              <a:off x="4504680" y="1409400"/>
              <a:ext cx="5151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1" name=""/>
            <p:cNvSpPr/>
            <p:nvPr/>
          </p:nvSpPr>
          <p:spPr>
            <a:xfrm>
              <a:off x="3200040" y="16002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71640" y="83808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867280" y="13716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71640" y="167616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04760" y="1143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24080" y="9144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2133720" y="2905200"/>
            <a:ext cx="761760" cy="533160"/>
            <a:chOff x="2133720" y="2905200"/>
            <a:chExt cx="761760" cy="533160"/>
          </a:xfrm>
        </p:grpSpPr>
        <p:sp>
          <p:nvSpPr>
            <p:cNvPr id="618" name=""/>
            <p:cNvSpPr/>
            <p:nvPr/>
          </p:nvSpPr>
          <p:spPr>
            <a:xfrm>
              <a:off x="2133720" y="290520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62320" y="29811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505320" y="2362320"/>
            <a:ext cx="761760" cy="533160"/>
            <a:chOff x="3505320" y="2362320"/>
            <a:chExt cx="761760" cy="533160"/>
          </a:xfrm>
        </p:grpSpPr>
        <p:sp>
          <p:nvSpPr>
            <p:cNvPr id="621" name=""/>
            <p:cNvSpPr/>
            <p:nvPr/>
          </p:nvSpPr>
          <p:spPr>
            <a:xfrm>
              <a:off x="3505320" y="23623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33920" y="24382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838080" y="2905200"/>
            <a:ext cx="761760" cy="533160"/>
            <a:chOff x="838080" y="2905200"/>
            <a:chExt cx="761760" cy="533160"/>
          </a:xfrm>
        </p:grpSpPr>
        <p:sp>
          <p:nvSpPr>
            <p:cNvPr id="624" name=""/>
            <p:cNvSpPr/>
            <p:nvPr/>
          </p:nvSpPr>
          <p:spPr>
            <a:xfrm>
              <a:off x="838080" y="290520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66680" y="29811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620120" y="2895480"/>
            <a:ext cx="761760" cy="533520"/>
            <a:chOff x="7620120" y="2895480"/>
            <a:chExt cx="761760" cy="533520"/>
          </a:xfrm>
        </p:grpSpPr>
        <p:sp>
          <p:nvSpPr>
            <p:cNvPr id="627" name=""/>
            <p:cNvSpPr/>
            <p:nvPr/>
          </p:nvSpPr>
          <p:spPr>
            <a:xfrm>
              <a:off x="7620120" y="28954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848720" y="29718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9" name=""/>
          <p:cNvCxnSpPr>
            <a:stCxn id="624" idx="6"/>
            <a:endCxn id="618" idx="2"/>
          </p:cNvCxnSpPr>
          <p:nvPr/>
        </p:nvCxnSpPr>
        <p:spPr>
          <a:xfrm>
            <a:off x="1609200" y="317160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0" name=""/>
          <p:cNvCxnSpPr>
            <a:stCxn id="618" idx="6"/>
            <a:endCxn id="621" idx="2"/>
          </p:cNvCxnSpPr>
          <p:nvPr/>
        </p:nvCxnSpPr>
        <p:spPr>
          <a:xfrm flipV="1">
            <a:off x="2905200" y="2628720"/>
            <a:ext cx="591120" cy="54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stCxn id="621" idx="6"/>
            <a:endCxn id="632" idx="2"/>
          </p:cNvCxnSpPr>
          <p:nvPr/>
        </p:nvCxnSpPr>
        <p:spPr>
          <a:xfrm>
            <a:off x="4276440" y="26287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33" name=""/>
          <p:cNvGrpSpPr/>
          <p:nvPr/>
        </p:nvGrpSpPr>
        <p:grpSpPr>
          <a:xfrm>
            <a:off x="6324480" y="2895480"/>
            <a:ext cx="761760" cy="533520"/>
            <a:chOff x="6324480" y="2895480"/>
            <a:chExt cx="761760" cy="533520"/>
          </a:xfrm>
        </p:grpSpPr>
        <p:sp>
          <p:nvSpPr>
            <p:cNvPr id="634" name=""/>
            <p:cNvSpPr/>
            <p:nvPr/>
          </p:nvSpPr>
          <p:spPr>
            <a:xfrm>
              <a:off x="6324480" y="28954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553080" y="29718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6" name=""/>
          <p:cNvCxnSpPr>
            <a:stCxn id="634" idx="6"/>
            <a:endCxn id="627" idx="2"/>
          </p:cNvCxnSpPr>
          <p:nvPr/>
        </p:nvCxnSpPr>
        <p:spPr>
          <a:xfrm>
            <a:off x="7095600" y="31618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37" name=""/>
          <p:cNvGrpSpPr/>
          <p:nvPr/>
        </p:nvGrpSpPr>
        <p:grpSpPr>
          <a:xfrm>
            <a:off x="3505320" y="3352680"/>
            <a:ext cx="761760" cy="533520"/>
            <a:chOff x="3505320" y="3352680"/>
            <a:chExt cx="761760" cy="533520"/>
          </a:xfrm>
        </p:grpSpPr>
        <p:sp>
          <p:nvSpPr>
            <p:cNvPr id="638" name=""/>
            <p:cNvSpPr/>
            <p:nvPr/>
          </p:nvSpPr>
          <p:spPr>
            <a:xfrm>
              <a:off x="3505320" y="33526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733920" y="34290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0" name=""/>
          <p:cNvCxnSpPr>
            <a:stCxn id="618" idx="6"/>
            <a:endCxn id="638" idx="2"/>
          </p:cNvCxnSpPr>
          <p:nvPr/>
        </p:nvCxnSpPr>
        <p:spPr>
          <a:xfrm>
            <a:off x="2905200" y="3171600"/>
            <a:ext cx="591120" cy="448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1" name=""/>
          <p:cNvSpPr/>
          <p:nvPr/>
        </p:nvSpPr>
        <p:spPr>
          <a:xfrm>
            <a:off x="2971800" y="3352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895480" y="26668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"/>
          <p:cNvCxnSpPr>
            <a:stCxn id="618" idx="6"/>
            <a:endCxn id="634" idx="2"/>
          </p:cNvCxnSpPr>
          <p:nvPr/>
        </p:nvCxnSpPr>
        <p:spPr>
          <a:xfrm flipV="1">
            <a:off x="2905200" y="3161520"/>
            <a:ext cx="341064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4" name=""/>
          <p:cNvSpPr/>
          <p:nvPr/>
        </p:nvSpPr>
        <p:spPr>
          <a:xfrm>
            <a:off x="3733920" y="2895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(a+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800600" y="2362320"/>
            <a:ext cx="761760" cy="533160"/>
            <a:chOff x="4800600" y="2362320"/>
            <a:chExt cx="761760" cy="533160"/>
          </a:xfrm>
        </p:grpSpPr>
        <p:sp>
          <p:nvSpPr>
            <p:cNvPr id="632" name=""/>
            <p:cNvSpPr/>
            <p:nvPr/>
          </p:nvSpPr>
          <p:spPr>
            <a:xfrm>
              <a:off x="4800600" y="23623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24382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38" idx="6"/>
            <a:endCxn id="648" idx="2"/>
          </p:cNvCxnSpPr>
          <p:nvPr/>
        </p:nvCxnSpPr>
        <p:spPr>
          <a:xfrm>
            <a:off x="4276440" y="36190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32" idx="6"/>
            <a:endCxn id="634" idx="2"/>
          </p:cNvCxnSpPr>
          <p:nvPr/>
        </p:nvCxnSpPr>
        <p:spPr>
          <a:xfrm>
            <a:off x="5572080" y="2628720"/>
            <a:ext cx="74376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0" name=""/>
          <p:cNvGrpSpPr/>
          <p:nvPr/>
        </p:nvGrpSpPr>
        <p:grpSpPr>
          <a:xfrm>
            <a:off x="4800600" y="3352680"/>
            <a:ext cx="761760" cy="533520"/>
            <a:chOff x="4800600" y="3352680"/>
            <a:chExt cx="761760" cy="533520"/>
          </a:xfrm>
        </p:grpSpPr>
        <p:sp>
          <p:nvSpPr>
            <p:cNvPr id="648" name=""/>
            <p:cNvSpPr/>
            <p:nvPr/>
          </p:nvSpPr>
          <p:spPr>
            <a:xfrm>
              <a:off x="4800600" y="33526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29200" y="34290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48" idx="6"/>
            <a:endCxn id="634" idx="2"/>
          </p:cNvCxnSpPr>
          <p:nvPr/>
        </p:nvCxnSpPr>
        <p:spPr>
          <a:xfrm flipV="1">
            <a:off x="5572080" y="3161880"/>
            <a:ext cx="743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3" name=""/>
          <p:cNvGrpSpPr/>
          <p:nvPr/>
        </p:nvGrpSpPr>
        <p:grpSpPr>
          <a:xfrm>
            <a:off x="2276640" y="4772160"/>
            <a:ext cx="761760" cy="533160"/>
            <a:chOff x="2276640" y="4772160"/>
            <a:chExt cx="761760" cy="533160"/>
          </a:xfrm>
        </p:grpSpPr>
        <p:sp>
          <p:nvSpPr>
            <p:cNvPr id="654" name=""/>
            <p:cNvSpPr/>
            <p:nvPr/>
          </p:nvSpPr>
          <p:spPr>
            <a:xfrm>
              <a:off x="2276640" y="477216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05240" y="484812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48240" y="4229280"/>
            <a:ext cx="761760" cy="533160"/>
            <a:chOff x="3648240" y="4229280"/>
            <a:chExt cx="761760" cy="533160"/>
          </a:xfrm>
        </p:grpSpPr>
        <p:sp>
          <p:nvSpPr>
            <p:cNvPr id="657" name=""/>
            <p:cNvSpPr/>
            <p:nvPr/>
          </p:nvSpPr>
          <p:spPr>
            <a:xfrm>
              <a:off x="3648240" y="422928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76840" y="430524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981000" y="4772160"/>
            <a:ext cx="761760" cy="533160"/>
            <a:chOff x="981000" y="4772160"/>
            <a:chExt cx="761760" cy="533160"/>
          </a:xfrm>
        </p:grpSpPr>
        <p:sp>
          <p:nvSpPr>
            <p:cNvPr id="660" name=""/>
            <p:cNvSpPr/>
            <p:nvPr/>
          </p:nvSpPr>
          <p:spPr>
            <a:xfrm>
              <a:off x="981000" y="477216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09600" y="484812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763040" y="4762440"/>
            <a:ext cx="761760" cy="533520"/>
            <a:chOff x="7763040" y="4762440"/>
            <a:chExt cx="761760" cy="533520"/>
          </a:xfrm>
        </p:grpSpPr>
        <p:sp>
          <p:nvSpPr>
            <p:cNvPr id="663" name=""/>
            <p:cNvSpPr/>
            <p:nvPr/>
          </p:nvSpPr>
          <p:spPr>
            <a:xfrm>
              <a:off x="7763040" y="476244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991640" y="48387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"/>
          <p:cNvCxnSpPr>
            <a:stCxn id="660" idx="6"/>
            <a:endCxn id="654" idx="2"/>
          </p:cNvCxnSpPr>
          <p:nvPr/>
        </p:nvCxnSpPr>
        <p:spPr>
          <a:xfrm>
            <a:off x="1752120" y="503820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6" name=""/>
          <p:cNvCxnSpPr>
            <a:stCxn id="654" idx="6"/>
            <a:endCxn id="657" idx="2"/>
          </p:cNvCxnSpPr>
          <p:nvPr/>
        </p:nvCxnSpPr>
        <p:spPr>
          <a:xfrm flipV="1">
            <a:off x="3048120" y="4495320"/>
            <a:ext cx="591120" cy="54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7" name=""/>
          <p:cNvCxnSpPr>
            <a:stCxn id="657" idx="6"/>
            <a:endCxn id="668" idx="2"/>
          </p:cNvCxnSpPr>
          <p:nvPr/>
        </p:nvCxnSpPr>
        <p:spPr>
          <a:xfrm>
            <a:off x="4419720" y="4495320"/>
            <a:ext cx="514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9" name=""/>
          <p:cNvGrpSpPr/>
          <p:nvPr/>
        </p:nvGrpSpPr>
        <p:grpSpPr>
          <a:xfrm>
            <a:off x="6467400" y="4762440"/>
            <a:ext cx="761760" cy="533520"/>
            <a:chOff x="6467400" y="4762440"/>
            <a:chExt cx="761760" cy="533520"/>
          </a:xfrm>
        </p:grpSpPr>
        <p:sp>
          <p:nvSpPr>
            <p:cNvPr id="670" name=""/>
            <p:cNvSpPr/>
            <p:nvPr/>
          </p:nvSpPr>
          <p:spPr>
            <a:xfrm>
              <a:off x="6467400" y="476244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96000" y="48387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70" idx="6"/>
            <a:endCxn id="663" idx="2"/>
          </p:cNvCxnSpPr>
          <p:nvPr/>
        </p:nvCxnSpPr>
        <p:spPr>
          <a:xfrm>
            <a:off x="7238520" y="502884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4419720" y="4191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038400" y="453384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5" name=""/>
          <p:cNvCxnSpPr>
            <a:stCxn id="654" idx="4"/>
            <a:endCxn id="670" idx="4"/>
          </p:cNvCxnSpPr>
          <p:nvPr/>
        </p:nvCxnSpPr>
        <p:spPr>
          <a:xfrm flipH="1" flipV="1" rot="5400000">
            <a:off x="4748040" y="3214080"/>
            <a:ext cx="10440" cy="4191840"/>
          </a:xfrm>
          <a:prstGeom prst="curvedConnector5">
            <a:avLst>
              <a:gd name="adj1" fmla="val -6100000"/>
              <a:gd name="adj2" fmla="val 49995"/>
              <a:gd name="adj3" fmla="val -61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6" name=""/>
          <p:cNvSpPr/>
          <p:nvPr/>
        </p:nvSpPr>
        <p:spPr>
          <a:xfrm>
            <a:off x="4267080" y="594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4943520" y="4229280"/>
            <a:ext cx="761760" cy="533160"/>
            <a:chOff x="4943520" y="4229280"/>
            <a:chExt cx="761760" cy="533160"/>
          </a:xfrm>
        </p:grpSpPr>
        <p:sp>
          <p:nvSpPr>
            <p:cNvPr id="668" name=""/>
            <p:cNvSpPr/>
            <p:nvPr/>
          </p:nvSpPr>
          <p:spPr>
            <a:xfrm>
              <a:off x="4943520" y="422928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2120" y="430524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9" name=""/>
          <p:cNvCxnSpPr>
            <a:stCxn id="668" idx="6"/>
            <a:endCxn id="670" idx="2"/>
          </p:cNvCxnSpPr>
          <p:nvPr/>
        </p:nvCxnSpPr>
        <p:spPr>
          <a:xfrm>
            <a:off x="5715000" y="4495680"/>
            <a:ext cx="74376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80" name=""/>
          <p:cNvGrpSpPr/>
          <p:nvPr/>
        </p:nvGrpSpPr>
        <p:grpSpPr>
          <a:xfrm>
            <a:off x="4943520" y="5219640"/>
            <a:ext cx="761760" cy="533520"/>
            <a:chOff x="4943520" y="5219640"/>
            <a:chExt cx="761760" cy="533520"/>
          </a:xfrm>
        </p:grpSpPr>
        <p:sp>
          <p:nvSpPr>
            <p:cNvPr id="681" name=""/>
            <p:cNvSpPr/>
            <p:nvPr/>
          </p:nvSpPr>
          <p:spPr>
            <a:xfrm>
              <a:off x="4943520" y="521964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172120" y="52959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3" name=""/>
          <p:cNvCxnSpPr>
            <a:stCxn id="681" idx="6"/>
            <a:endCxn id="670" idx="2"/>
          </p:cNvCxnSpPr>
          <p:nvPr/>
        </p:nvCxnSpPr>
        <p:spPr>
          <a:xfrm flipV="1">
            <a:off x="5715000" y="5028840"/>
            <a:ext cx="743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4" name=""/>
          <p:cNvCxnSpPr>
            <a:stCxn id="657" idx="6"/>
            <a:endCxn id="681" idx="2"/>
          </p:cNvCxnSpPr>
          <p:nvPr/>
        </p:nvCxnSpPr>
        <p:spPr>
          <a:xfrm>
            <a:off x="4419720" y="4495680"/>
            <a:ext cx="51444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5" name=""/>
          <p:cNvSpPr/>
          <p:nvPr/>
        </p:nvSpPr>
        <p:spPr>
          <a:xfrm>
            <a:off x="4267080" y="48006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685800" y="1371600"/>
            <a:ext cx="7543800" cy="2973960"/>
            <a:chOff x="685800" y="1371600"/>
            <a:chExt cx="7543800" cy="2973960"/>
          </a:xfrm>
        </p:grpSpPr>
        <p:grpSp>
          <p:nvGrpSpPr>
            <p:cNvPr id="687" name=""/>
            <p:cNvGrpSpPr/>
            <p:nvPr/>
          </p:nvGrpSpPr>
          <p:grpSpPr>
            <a:xfrm>
              <a:off x="838080" y="2057400"/>
              <a:ext cx="7162560" cy="1676160"/>
              <a:chOff x="838080" y="2057400"/>
              <a:chExt cx="7162560" cy="1676160"/>
            </a:xfrm>
          </p:grpSpPr>
          <p:grpSp>
            <p:nvGrpSpPr>
              <p:cNvPr id="688" name=""/>
              <p:cNvGrpSpPr/>
              <p:nvPr/>
            </p:nvGrpSpPr>
            <p:grpSpPr>
              <a:xfrm>
                <a:off x="838080" y="3124080"/>
                <a:ext cx="609480" cy="609480"/>
                <a:chOff x="838080" y="3124080"/>
                <a:chExt cx="609480" cy="60948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3808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91440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91" name=""/>
              <p:cNvCxnSpPr>
                <a:stCxn id="689" idx="6"/>
                <a:endCxn id="692" idx="2"/>
              </p:cNvCxnSpPr>
              <p:nvPr/>
            </p:nvCxnSpPr>
            <p:spPr>
              <a:xfrm>
                <a:off x="1456920" y="3428640"/>
                <a:ext cx="5151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693" name=""/>
              <p:cNvGrpSpPr/>
              <p:nvPr/>
            </p:nvGrpSpPr>
            <p:grpSpPr>
              <a:xfrm>
                <a:off x="1981080" y="3124080"/>
                <a:ext cx="609480" cy="609480"/>
                <a:chOff x="1981080" y="3124080"/>
                <a:chExt cx="609480" cy="6094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198108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05740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2895480" y="3124080"/>
                <a:ext cx="609480" cy="609480"/>
                <a:chOff x="2895480" y="3124080"/>
                <a:chExt cx="609480" cy="6094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89548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97180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3809880" y="3124080"/>
                <a:ext cx="609480" cy="609480"/>
                <a:chOff x="3809880" y="3124080"/>
                <a:chExt cx="609480" cy="60948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380988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88620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4647960" y="3124080"/>
                <a:ext cx="609480" cy="609480"/>
                <a:chOff x="4647960" y="3124080"/>
                <a:chExt cx="609480" cy="60948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464796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72428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5486400" y="3124080"/>
                <a:ext cx="609480" cy="609480"/>
                <a:chOff x="5486400" y="3124080"/>
                <a:chExt cx="609480" cy="60948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548640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56272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6324480" y="3124080"/>
                <a:ext cx="609480" cy="609480"/>
                <a:chOff x="6324480" y="3124080"/>
                <a:chExt cx="609480" cy="60948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632448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40080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7391160" y="3124080"/>
                <a:ext cx="609480" cy="609480"/>
                <a:chOff x="7391160" y="3124080"/>
                <a:chExt cx="609480" cy="60948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739116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746748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713" name=""/>
              <p:cNvCxnSpPr>
                <a:stCxn id="692" idx="6"/>
                <a:endCxn id="696" idx="2"/>
              </p:cNvCxnSpPr>
              <p:nvPr/>
            </p:nvCxnSpPr>
            <p:spPr>
              <a:xfrm>
                <a:off x="2600280" y="3428640"/>
                <a:ext cx="2865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14" name=""/>
              <p:cNvCxnSpPr>
                <a:stCxn id="696" idx="6"/>
                <a:endCxn id="699" idx="2"/>
              </p:cNvCxnSpPr>
              <p:nvPr/>
            </p:nvCxnSpPr>
            <p:spPr>
              <a:xfrm>
                <a:off x="3514680" y="3428640"/>
                <a:ext cx="2865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15" name=""/>
              <p:cNvCxnSpPr>
                <a:stCxn id="699" idx="6"/>
                <a:endCxn id="702" idx="2"/>
              </p:cNvCxnSpPr>
              <p:nvPr/>
            </p:nvCxnSpPr>
            <p:spPr>
              <a:xfrm>
                <a:off x="4429080" y="3428640"/>
                <a:ext cx="2102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16" name=""/>
              <p:cNvCxnSpPr>
                <a:stCxn id="702" idx="6"/>
                <a:endCxn id="705" idx="2"/>
              </p:cNvCxnSpPr>
              <p:nvPr/>
            </p:nvCxnSpPr>
            <p:spPr>
              <a:xfrm>
                <a:off x="5267160" y="3428640"/>
                <a:ext cx="2102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17" name=""/>
              <p:cNvCxnSpPr>
                <a:stCxn id="705" idx="6"/>
                <a:endCxn id="708" idx="2"/>
              </p:cNvCxnSpPr>
              <p:nvPr/>
            </p:nvCxnSpPr>
            <p:spPr>
              <a:xfrm>
                <a:off x="6104880" y="3428640"/>
                <a:ext cx="2106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18" name=""/>
              <p:cNvCxnSpPr>
                <a:stCxn id="708" idx="6"/>
                <a:endCxn id="711" idx="2"/>
              </p:cNvCxnSpPr>
              <p:nvPr/>
            </p:nvCxnSpPr>
            <p:spPr>
              <a:xfrm>
                <a:off x="6943320" y="3428640"/>
                <a:ext cx="4388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719" name=""/>
              <p:cNvGrpSpPr/>
              <p:nvPr/>
            </p:nvGrpSpPr>
            <p:grpSpPr>
              <a:xfrm>
                <a:off x="1981080" y="2057400"/>
                <a:ext cx="609480" cy="609480"/>
                <a:chOff x="1981080" y="2057400"/>
                <a:chExt cx="609480" cy="60948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198108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05740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2895480" y="2057400"/>
                <a:ext cx="609480" cy="609480"/>
                <a:chOff x="2895480" y="2057400"/>
                <a:chExt cx="609480" cy="60948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289548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297180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3809880" y="2057400"/>
                <a:ext cx="609480" cy="609480"/>
                <a:chOff x="3809880" y="2057400"/>
                <a:chExt cx="609480" cy="60948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380988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88620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4647960" y="2057400"/>
                <a:ext cx="609480" cy="609480"/>
                <a:chOff x="4647960" y="2057400"/>
                <a:chExt cx="609480" cy="60948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464796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72428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5486400" y="2057400"/>
                <a:ext cx="609480" cy="609480"/>
                <a:chOff x="5486400" y="2057400"/>
                <a:chExt cx="609480" cy="60948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548640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56272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6324480" y="2057400"/>
                <a:ext cx="609480" cy="609480"/>
                <a:chOff x="6324480" y="2057400"/>
                <a:chExt cx="609480" cy="60948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632448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40080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737" name=""/>
              <p:cNvCxnSpPr>
                <a:stCxn id="692" idx="1"/>
                <a:endCxn id="720" idx="3"/>
              </p:cNvCxnSpPr>
              <p:nvPr/>
            </p:nvCxnSpPr>
            <p:spPr>
              <a:xfrm flipV="1">
                <a:off x="206964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38" name=""/>
              <p:cNvCxnSpPr>
                <a:stCxn id="735" idx="5"/>
                <a:endCxn id="708" idx="7"/>
              </p:cNvCxnSpPr>
              <p:nvPr/>
            </p:nvCxnSpPr>
            <p:spPr>
              <a:xfrm>
                <a:off x="684468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39" name=""/>
              <p:cNvCxnSpPr>
                <a:stCxn id="723" idx="5"/>
                <a:endCxn id="696" idx="7"/>
              </p:cNvCxnSpPr>
              <p:nvPr/>
            </p:nvCxnSpPr>
            <p:spPr>
              <a:xfrm>
                <a:off x="341568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0" name=""/>
              <p:cNvCxnSpPr>
                <a:stCxn id="726" idx="5"/>
                <a:endCxn id="699" idx="7"/>
              </p:cNvCxnSpPr>
              <p:nvPr/>
            </p:nvCxnSpPr>
            <p:spPr>
              <a:xfrm>
                <a:off x="433008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1" name=""/>
              <p:cNvCxnSpPr>
                <a:stCxn id="729" idx="5"/>
                <a:endCxn id="702" idx="7"/>
              </p:cNvCxnSpPr>
              <p:nvPr/>
            </p:nvCxnSpPr>
            <p:spPr>
              <a:xfrm>
                <a:off x="516852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2" name=""/>
              <p:cNvCxnSpPr>
                <a:stCxn id="732" idx="5"/>
                <a:endCxn id="705" idx="7"/>
              </p:cNvCxnSpPr>
              <p:nvPr/>
            </p:nvCxnSpPr>
            <p:spPr>
              <a:xfrm>
                <a:off x="600660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3" name=""/>
              <p:cNvCxnSpPr>
                <a:stCxn id="708" idx="1"/>
                <a:endCxn id="735" idx="3"/>
              </p:cNvCxnSpPr>
              <p:nvPr/>
            </p:nvCxnSpPr>
            <p:spPr>
              <a:xfrm flipV="1">
                <a:off x="641304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4" name=""/>
              <p:cNvCxnSpPr>
                <a:stCxn id="705" idx="1"/>
                <a:endCxn id="732" idx="3"/>
              </p:cNvCxnSpPr>
              <p:nvPr/>
            </p:nvCxnSpPr>
            <p:spPr>
              <a:xfrm flipV="1">
                <a:off x="557496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5" name=""/>
              <p:cNvCxnSpPr>
                <a:stCxn id="702" idx="1"/>
                <a:endCxn id="729" idx="3"/>
              </p:cNvCxnSpPr>
              <p:nvPr/>
            </p:nvCxnSpPr>
            <p:spPr>
              <a:xfrm flipV="1">
                <a:off x="473652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6" name=""/>
              <p:cNvCxnSpPr>
                <a:stCxn id="699" idx="1"/>
                <a:endCxn id="726" idx="3"/>
              </p:cNvCxnSpPr>
              <p:nvPr/>
            </p:nvCxnSpPr>
            <p:spPr>
              <a:xfrm flipV="1">
                <a:off x="389844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7" name=""/>
              <p:cNvCxnSpPr>
                <a:stCxn id="696" idx="1"/>
                <a:endCxn id="723" idx="3"/>
              </p:cNvCxnSpPr>
              <p:nvPr/>
            </p:nvCxnSpPr>
            <p:spPr>
              <a:xfrm flipV="1">
                <a:off x="298404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8" name=""/>
              <p:cNvCxnSpPr>
                <a:stCxn id="720" idx="5"/>
                <a:endCxn id="692" idx="7"/>
              </p:cNvCxnSpPr>
              <p:nvPr/>
            </p:nvCxnSpPr>
            <p:spPr>
              <a:xfrm>
                <a:off x="250128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749" name=""/>
            <p:cNvSpPr/>
            <p:nvPr/>
          </p:nvSpPr>
          <p:spPr>
            <a:xfrm>
              <a:off x="350532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59092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1972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5780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60020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09588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01028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828800" y="1981080"/>
              <a:ext cx="5257800" cy="762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5800" y="2971800"/>
              <a:ext cx="7543800" cy="914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23623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286000" y="15238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62320" y="41911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286000" y="15238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66880" y="4038480"/>
              <a:ext cx="1752840" cy="307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èle de niveau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590920" y="1371600"/>
              <a:ext cx="4495680" cy="307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èles de niveau 2 imbriqués dans le modèle de niveau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0T16:00:01Z</dcterms:created>
  <dc:creator>Xavier Dupré</dc:creator>
  <dc:description/>
  <dc:language>en-US</dc:language>
  <cp:lastModifiedBy>dupre</cp:lastModifiedBy>
  <dcterms:modified xsi:type="dcterms:W3CDTF">2001-11-06T21:31:42Z</dcterms:modified>
  <cp:revision>83</cp:revision>
  <dc:subject/>
  <dc:title>Aucun titre de diapositive</dc:title>
</cp:coreProperties>
</file>